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25D-5C06-45EA-A09B-5819FB17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1E8-7FDA-4E5A-BC9B-60C2DFB5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EB9-9184-4CBE-ACAA-DE7E58AE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85A-5F2F-41F6-8FA9-13649876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FD1-8996-482F-8640-586CEF6D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747D-9C87-4B7B-8BE7-45754D7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CA01-3AB2-4A62-BCF6-592C7BC2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201E-FC9C-489A-9930-EB2648E8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C8E3-8CE2-425D-AB40-53CC84EC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6575-9984-42D3-BED4-1C4809A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056A-7D0E-4372-A2E9-1677DCDC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FA6-0F9B-4270-A72C-D52987BB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D85A-C274-4A79-B97B-F74BEB8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E130-D5AF-4803-BC65-453F80F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6EE8-9594-4F10-B9AC-30BB9BE0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5DA8-82CF-4F22-9E78-893DD74D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9175-3F98-4DEF-9B3B-2A4C7C09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4B4-9F99-4C98-AACE-484DC37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574-C90A-4397-A524-3C1C9C23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5E4-7AD2-4965-B09A-8F08C125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427-9BB4-4B98-9957-C141ACE4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981-17BE-4629-B72D-D23623D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6D6-1408-4EF5-961A-7D6C2819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737-B06A-4424-9031-1B5CE107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DE14-3292-445B-A9A3-12C28CDA82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70C9-0A4C-46D6-A21E-4C8977A927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numéral du rou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éral colle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44532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éterminant numérique du 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i băieţ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au plec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deux garçons sont partis »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e fe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au plec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deux filles sont parties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lor băieţ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garçons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or fe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filles 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lor băieţ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o car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aux deux garçons un livre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ambelor fe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o car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aux deux filles un livre»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I-am văzut pe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mbii băieţ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j’ai vu les deux garçons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văzut p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e f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j’ai vu les deux filles 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000" y="2017440"/>
            <a:ext cx="42116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ubstit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au plec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deux sont partis »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au plec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deux sont parties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l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 tous les deux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 toutes les deux 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o car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à tous les deux un livre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ambelor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o car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j’ai donné à toutes les deux un livre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I-am văzut pe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amb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j’ai vu tous les deux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văzut p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j’ai vu toutes les deux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éral colle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4528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mbii/amb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um 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s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sculin        Fémini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/A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băieţi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e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f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/D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lor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băieţi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f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32000" y="2017800"/>
            <a:ext cx="421164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mbii/amb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s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sculi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émini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/A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i      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/D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lor            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b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716280"/>
            <a:ext cx="41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mîndoi/amîndou</a:t>
            </a:r>
            <a:r>
              <a:rPr b="0" lang="pt-BR" sz="1800" spc="-1" strike="noStrike">
                <a:solidFill>
                  <a:srgbClr val="1c1c1c"/>
                </a:solidFill>
                <a:latin typeface="Tahom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um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s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sculi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Fémi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/A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în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băieţii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îndou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fe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/D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-                      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59280" y="3789360"/>
            <a:ext cx="3924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mîndoi/amîndou</a:t>
            </a:r>
            <a:r>
              <a:rPr b="0" lang="pt-BR" sz="1800" spc="-1" strike="noStrike">
                <a:solidFill>
                  <a:srgbClr val="1c1c1c"/>
                </a:solidFill>
                <a:latin typeface="Tahoma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s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sculi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Fémi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/A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în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mîndou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/D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îndurora       amîndur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950080"/>
            <a:ext cx="57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Rem!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rép </a:t>
            </a:r>
            <a:r>
              <a:rPr b="0" i="1" lang="pt-BR" sz="1800" spc="-1" strike="noStrike">
                <a:solidFill>
                  <a:srgbClr val="ff0000"/>
                </a:solidFill>
                <a:latin typeface="Tahoma"/>
              </a:rPr>
              <a:t>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amîndoi N, Prép </a:t>
            </a:r>
            <a:r>
              <a:rPr b="0" i="1" lang="pt-BR" sz="1800" spc="-1" strike="noStrike">
                <a:solidFill>
                  <a:srgbClr val="ff0000"/>
                </a:solidFill>
                <a:latin typeface="Tahoma"/>
              </a:rPr>
              <a:t>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amîndou</a:t>
            </a:r>
            <a:r>
              <a:rPr b="0" lang="pt-BR" sz="1800" spc="-1" strike="noStrike">
                <a:solidFill>
                  <a:srgbClr val="1c1c1c"/>
                </a:solidFill>
                <a:latin typeface="Tahoma"/>
              </a:rPr>
              <a:t>ă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éral colle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4528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ustrei/tustr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um 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s   Masculi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Fémini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/A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băieţii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tustrele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fet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/D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-            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          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32000" y="2017800"/>
            <a:ext cx="421164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ustrei/tustr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as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sculi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émini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/A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trei      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tustr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/D     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-                        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3573360"/>
            <a:ext cx="57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Rem!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rép </a:t>
            </a:r>
            <a:r>
              <a:rPr b="0" i="1" lang="pt-BR" sz="1800" spc="-1" strike="noStrike">
                <a:solidFill>
                  <a:srgbClr val="ff0000"/>
                </a:solidFill>
                <a:latin typeface="Tahoma"/>
              </a:rPr>
              <a:t>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tustrei N, Prép </a:t>
            </a:r>
            <a:r>
              <a:rPr b="0" i="1" lang="pt-BR" sz="1800" spc="-1" strike="noStrike">
                <a:solidFill>
                  <a:srgbClr val="ff0000"/>
                </a:solidFill>
                <a:latin typeface="Tahoma"/>
              </a:rPr>
              <a:t>la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tustrele 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4869000"/>
            <a:ext cx="8497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lexion en genre et cas, en fonction du numéral cardinal associé et de la valeur morpholog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numéral multiplic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Plusieurs séries de 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. –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formes affixées des cardinaux simples (2-10 + 100, 1000):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doit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treit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zecit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sutit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mi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Mais: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înoptit (8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înnoit (9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înmilionit (1000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. Locutions adverbiales sur la matrice: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de + Num card + ori 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e două ori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de trei ori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de zece ori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de o mie de ori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 de mii de ori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de mii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ş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i sute de ori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ahoma"/>
              </a:rPr>
              <a:t>Rem.!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ri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est le pluriel de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oar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ă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fois » . Pourtant, « fois » =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 dat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ă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 non pas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o oar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dublu, triplu, cvadrup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numéral multiplic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a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1. Adverbi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ihai mun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şt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înmi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Michel travaille mille fois plu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2. Adjectiv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Apl : eforturile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înmiit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/vs/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înmiitel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efortu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les efforts décuplés mille foi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GDpl : eforturilor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înmiit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/vs/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înmiitelor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efortu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des/aux efforts décuplés mille foi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numéral multiplic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vec valeur adjectivale, il s’emploie aussi au singulie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Un efort înmi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« un effort décuplé mille fois 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O triste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ţe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 înzecit</a:t>
            </a:r>
            <a:r>
              <a:rPr b="0" lang="ro-RO" sz="2000" spc="-1" strike="noStrike">
                <a:solidFill>
                  <a:srgbClr val="ff0000"/>
                </a:solidFill>
                <a:latin typeface="Tahoma"/>
              </a:rPr>
              <a:t>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une tristesse dix fois plus grand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éral Ordi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mes composé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atr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: al Num-lea: 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al doilea, al o mie treil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: a Num-a: 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a doua, a o mie tre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rt dé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cas G uniquement avec Art dé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Cartea celui de-al doile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« le livre du deuxième 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e cas G avec prép la ou avec Art dé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Îi scriu (celui de-al doilea + la al doile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« j’écris au dexième 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988920"/>
          <a:ext cx="8820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8920"/>
                    <a:ext cx="8820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95280" y="349200"/>
          <a:ext cx="590544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49200"/>
                    <a:ext cx="590544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755640" y="5013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um11.g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508720" y="3933720"/>
          <a:ext cx="28288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933720"/>
                    <a:ext cx="28288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508720" y="64422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um20.g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724360" y="765000"/>
          <a:ext cx="2514600" cy="19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765000"/>
                    <a:ext cx="25146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940360" y="2924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num3.g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de numérau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uméral card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dinal proprement dit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icat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ctionnai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numéral ordi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299736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unu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1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2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uăzeci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(20), 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uăzeci şi 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23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 sut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100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 mi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10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789360"/>
            <a:ext cx="57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în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i 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patru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…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ţi 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ţi patru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360" y="4149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cîte 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 cîte 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4581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doi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trei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înze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5013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m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reim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păt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3640" y="551664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l doilea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l trei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numéral cardinal pr-d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Formes simples (0-10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 -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un(u)</a:t>
            </a:r>
            <a:r>
              <a:rPr b="0" lang="fr-FR" sz="20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 o/una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4 –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patru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7 –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şapte 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10 –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ze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 -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doi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dou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5 –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inc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8 –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opt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ută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–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trei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              6 –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ş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9 –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ouă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ie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il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Formes aggluti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11-19): matrice: </a:t>
            </a: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Num + spre + zec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unsprezec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doisprezec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m)/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dou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ăspreze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f)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incispreze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es dizaines): matri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m + zec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uăzec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reizec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Formes composé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uăzeci şi unu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/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douăzeci şi una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21)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douăzeci şi doi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/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uăzeci şi două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22)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douăzeci şi trei, o sută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100)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o mie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1000),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un milion 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(1.000.00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numéral cardinal pr-d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Tahoma"/>
              </a:rPr>
              <a:t>Val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1. substitut (« valeur substantivale »)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((Cei + E) doi + (cele + E) dou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ă)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 au plecat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(les) deux sont parti(e)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2. déterminant numérique du nom (« valeur adjectivale ») :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((Cei + E) doi băieţi + (cele + E) dou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ă fete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) au plecat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 ((les) deux garçons +(les) deux filles) sont parti(e)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Re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ésence facultative de l’Art dem 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cei, cele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numéral cardinal pr-d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en genre et cas, en fonction du numéral cardinal, de la valeur morphologique et de la présence de l’Art dé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1. - avec la prép a (cas Génitif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ărţile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 (a doi copii + a o mie unu de copi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les livres de (deux + mille et un) enfant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2. - avec la prép la (cas Dati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Max aduce cadouri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a doi cop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« Max apporte des cadeaux à deux enfants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. – flexion de l’Art dé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ărţile</a:t>
            </a:r>
            <a:r>
              <a:rPr b="0" lang="fr-FR" sz="2000" spc="-1" strike="noStrike">
                <a:solidFill>
                  <a:srgbClr val="ff0000"/>
                </a:solidFill>
                <a:latin typeface="Tahoma"/>
              </a:rPr>
              <a:t> celor doi cop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Numéral cardinal pr-d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2017440"/>
            <a:ext cx="3961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éterminant numérique du 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 doi băieţ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garçons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e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filles 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la doi băieţ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o car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à deux garçons un livre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la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 fe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o car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à deux filles un livre»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8000" y="2017440"/>
            <a:ext cx="435600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ubstit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*Cărţile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 do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*Cărţil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a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dat o carte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 la doi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(*E + dintre ei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un livre à deux (*E + d’entre eux)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 Le-am dat o carte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la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1c1c1c"/>
                </a:solidFill>
                <a:latin typeface="Tahoma"/>
              </a:rPr>
              <a:t>(*E + dintre el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j’ai donné un livre à deux (*E +d’entre elles)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 numéral cardinal pr-d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G et D des numéraux précédés de l’Art dé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01760" y="2492280"/>
            <a:ext cx="65815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e4a8"/>
                </a:solidFill>
                <a:latin typeface="Tahoma"/>
              </a:rPr>
              <a:t>Déterminant numérique du N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(E + *a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c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 băie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garço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(E + *a) celor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e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les livres des deux filles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(c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 băieţ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la cei doi băieţi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o c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à deux garçons un livre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(celor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 fe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la cele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 fete)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o car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j’ai donné à deux filles un livre»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7280" y="5084640"/>
            <a:ext cx="6192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e4a8"/>
                </a:solidFill>
                <a:latin typeface="Tahoma"/>
              </a:rPr>
              <a:t>Substit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(E + *a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c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Cărţile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(E + *a) celor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(celor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+ ?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la cei doi)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o c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. Le-am dat 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(celor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?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la cele dou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ă</a:t>
            </a:r>
            <a:r>
              <a:rPr b="0" lang="pt-BR" sz="1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o cart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numéral colle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Plusieurs séries de 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1. pour le groupe de deux objets : -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îndo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îndou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f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i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ambel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f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usdoi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usdouă (f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t-B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oţi doi (m), </a:t>
            </a:r>
            <a:r>
              <a:rPr b="0" lang="pt-BR" sz="1800" spc="-1" strike="noStrike">
                <a:solidFill>
                  <a:srgbClr val="ff0000"/>
                </a:solidFill>
                <a:latin typeface="Tahoma"/>
              </a:rPr>
              <a:t>*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toate două (f)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2. pour le groupe de plusieurs objets 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(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de 3 à 10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) :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trel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f) – 3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patru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– 4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cinc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– 5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şas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– 6 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şap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– 7 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op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– 8 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nouă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– 9 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uszec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-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- (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de 3 à l’infin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) :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ţi 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ate 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f);  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ţi patru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ate patru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f);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ţi cinc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m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ate cinc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f), etc 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99"/>
                </a:solidFill>
                <a:latin typeface="Tahoma"/>
              </a:rPr>
              <a:t>Rem.!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ţ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c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et non pas : *cei toţi trei),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oat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cele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rei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(et non pas : *cele toate tre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*cei amîndoi, *cele amîndouă, *cei ambii, *cele ambele, *cei tustrei, *cele tustre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 numéral collec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Val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1. substitut (« valeur substantivale »)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(Amîndoi + ambii + tustrei + toţi trei) au pleca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tous les (deux + trois) sont partis 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Tahoma"/>
              </a:rPr>
              <a:t>2. déterminant numérique du nom (« valeur adjectivale ») 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((Amîndoi + tustrei + toţi trei) băieţii + ambii băieţi)) au plecat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« tous les (deux + trois) garçons sont partis »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8:24:44Z</dcterms:created>
  <dc:creator>Dana-Marina</dc:creator>
  <dc:description/>
  <dc:language>en-US</dc:language>
  <cp:lastModifiedBy>Dana Marina Dumitriu</cp:lastModifiedBy>
  <dcterms:modified xsi:type="dcterms:W3CDTF">2009-05-11T08:31:53Z</dcterms:modified>
  <cp:revision>71</cp:revision>
  <dc:subject/>
  <dc:title>Le numéral du roumain</dc:title>
</cp:coreProperties>
</file>