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_rels/notesSlide4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4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1.jpeg" ContentType="image/jpeg"/>
  <Override PartName="/ppt/media/image9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6.png" ContentType="image/png"/>
  <Override PartName="/ppt/media/image13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7.jpeg" ContentType="image/jpeg"/>
  <Override PartName="/ppt/media/image26.jpeg" ContentType="image/jpeg"/>
  <Override PartName="/ppt/media/image19.png" ContentType="image/png"/>
  <Override PartName="/ppt/media/image1.png" ContentType="image/png"/>
  <Override PartName="/ppt/media/image24.jpeg" ContentType="image/jpeg"/>
  <Override PartName="/ppt/media/image23.jpeg" ContentType="image/jpeg"/>
  <Override PartName="/ppt/media/image22.jpeg" ContentType="image/jpeg"/>
  <Override PartName="/ppt/media/image14.png" ContentType="image/pn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2.png" ContentType="image/png"/>
  <Override PartName="/ppt/media/image2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7357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35600" cy="987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1600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00000" y="739440"/>
            <a:ext cx="4935600" cy="3701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8200" y="4687920"/>
            <a:ext cx="4938840" cy="44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37548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16000" y="937548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AC5F0-08CD-4F2B-9FD6-95652A0D343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90000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898200" y="4687920"/>
            <a:ext cx="4938840" cy="44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90000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898200" y="4687920"/>
            <a:ext cx="4938840" cy="44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90000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898200" y="4687920"/>
            <a:ext cx="4938840" cy="44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90000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898200" y="4687920"/>
            <a:ext cx="4938840" cy="44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3816000" y="937548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B9EAD-EB3F-4F99-9318-D542236FAF0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-360" y="937548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-3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381600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90000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72840" y="468792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 txBox="1"/>
          <p:nvPr/>
        </p:nvSpPr>
        <p:spPr>
          <a:xfrm>
            <a:off x="3816000" y="937548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78ECD-BAE3-4CAD-AFCC-2A621EE8CFA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-360" y="937548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-3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381600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90000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72840" y="468792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90000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898200" y="4687920"/>
            <a:ext cx="4938840" cy="44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90000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898200" y="4687920"/>
            <a:ext cx="4938840" cy="44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90000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898200" y="4687920"/>
            <a:ext cx="4938840" cy="44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 txBox="1"/>
          <p:nvPr/>
        </p:nvSpPr>
        <p:spPr>
          <a:xfrm>
            <a:off x="3816000" y="937548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59B23-CE9A-484D-817C-A89A989A118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-360" y="937548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-3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381600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90000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72840" y="468792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90000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898200" y="4687920"/>
            <a:ext cx="4938840" cy="44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90000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898200" y="4687920"/>
            <a:ext cx="4938840" cy="44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90000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898200" y="4687920"/>
            <a:ext cx="4938840" cy="44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8F1E3-CE94-4076-860A-6FF7BE656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C7C25-D859-489D-81D4-1A6276DCD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DDC2E-019E-4335-83C7-8F6C8C587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C5730-D740-4D53-99DE-DAAA7C4EE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9C45A-1BD5-470B-94EC-DA1D36E34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D57CB-B3B0-4732-9B34-F84FFF125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C2177-AC01-4A7E-B61E-5F3551716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461EB-01C8-4A22-BB5E-BB3810F48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9419F-D1F2-4344-80B8-9492AEEF7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B43DD-148C-4011-BCF0-7D7A4E4C4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15DC1-E932-4FC0-ABCE-51111694A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44AE2-E338-4C06-B333-170210676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D429C-6B32-43AB-923C-42E74C27E0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46.xml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45.xml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slide43.xml"/><Relationship Id="rId2" Type="http://schemas.openxmlformats.org/officeDocument/2006/relationships/slide" Target="slide44.xml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" Target="slide40.xml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slide" Target="slide40.xml"/><Relationship Id="rId5" Type="http://schemas.openxmlformats.org/officeDocument/2006/relationships/slideLayout" Target="../slideLayouts/slideLayout8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image" Target="../media/image26.jpeg"/><Relationship Id="rId7" Type="http://schemas.openxmlformats.org/officeDocument/2006/relationships/slide" Target="slide26.xml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" Target="slide21.xml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2209680"/>
            <a:ext cx="8588160" cy="186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ort des techniques linguistiques pour la conception de cartes sur mes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50560" y="5300280"/>
            <a:ext cx="8713800" cy="129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atherine Dominguès – Institut géographique national/COG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Séminaire de l'IG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4 mai 20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247680" y="173160"/>
          <a:ext cx="1271520" cy="128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680" y="173160"/>
                    <a:ext cx="1271520" cy="12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7696080" y="228600"/>
            <a:ext cx="1185840" cy="1417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32B4A-F995-4E1C-ADCE-6AFBAC51BA3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3668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/ Constitution du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4000" y="1413000"/>
            <a:ext cx="84596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Corpus textuel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39480"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Références en cartographie : manuels, livres de cartograph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39480"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ours de cartographie : cours de l'ENSG, cours de Paris1, cours de SciencesP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39480"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ours sur la couleur : perception ; propriétés physiques, symboliques, artistiq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39480"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ictionnaires sur les coule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39480"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Articles de journaux : Le Monde diplomati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39480"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Articles de colloques, congrè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Corpus iconographique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39480"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extraits de cartes réel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39480"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échantillons construits ad ho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85800" y="1143000"/>
            <a:ext cx="8458200" cy="15228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6491160"/>
            <a:ext cx="929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ontexte – 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Travaux/Constitution du corpus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- Conclu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65246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A0941-D05A-45BD-A97F-1F081D098CB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3668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/ Terminologie de la cartograph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4360" y="1844640"/>
            <a:ext cx="82087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Objectifs visés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onstruction de dictionnaires spécialis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mise à jour du glossaire du Comité Français de Cartograph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Méthode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utilisation de patrons morpho-syntaxiques (sur un corpus lemmatisé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85800" y="1143000"/>
            <a:ext cx="8458200" cy="15228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6491160"/>
            <a:ext cx="929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ontexte – 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Travaux/Terminologie de la cartographi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- Conclu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65246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01F0B-E094-4F32-B7AC-1B844A8568B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3668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ionnaires spécialis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914400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mots simples et mots compos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noms simples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mots nouveaux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cernure, chiffraison, géoréférencement, géodésie, hypercarte, rasteris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géoréférencer, rasteri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géodésien, cézanien, vasaréli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quelques noms propres avec formation d'adjectif correspondant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Elisée Reclus → reclusi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Paul Vidal de La Blache → vidali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acception spécialisée d'un terme du vocabulaire courant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gisement, grain, poncif, teinte, thème, vale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des acronymes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Institut Géographique National, Association Cartographique internationale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Comité Français de cartographie, Commission Royale de Toponymi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85800" y="1143000"/>
            <a:ext cx="8458200" cy="15228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6491160"/>
            <a:ext cx="929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ontexte – 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Travaux/Terminologie de la cartographi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- Conclu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65246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56475-DBA9-473A-964D-5EFCBA877C0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3668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Utilisation de patrons morpho-syntaxiq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4000" y="1412640"/>
            <a:ext cx="882000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Patrons non spécifiques au domaine et réutilisables (Unite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finesse du rendu graphique selon la distance de le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point de raccord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modification pathologique de la vision des coule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prises de vue aérien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exemples de polices de caractères 1:10 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problèmes de contrastes color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Prise en compte de la coordination des noms têtes et/ou des modifie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étude des signes et de leur sign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figuré par points unitaires géoréférencés et agglomér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1143000"/>
            <a:ext cx="8458200" cy="15228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6491160"/>
            <a:ext cx="929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ontexte – 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Travaux/Terminologie de la cartographi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- Conclu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65246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D6CF1-0E63-49C6-A272-AF58AB6B76E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3668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ionnaires spécialisés – recherche des 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914400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regroupement des GN selon les domaines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3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expressions généralis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prise de vue aérien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caractéristique géométrique+graphi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forme creuse+évidée+modelée+originale+plate+plate unie+signifié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3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expressions concernant le domaine cartographie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point unitaire géoréférenc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objet linéaire+ponctuel+z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3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expressions concernant le domaine typographie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gamage des écritures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graphie des topony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3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expressions concernant le domaine pliage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format de pli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accordéon à plis dégressi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85800" y="1143000"/>
            <a:ext cx="8458200" cy="15228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6491160"/>
            <a:ext cx="929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ontexte – 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Travaux/Terminologie de la cartographi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- Conclu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65246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5D293-2857-4419-9636-E38A814EE97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33668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ionnaires spécialisés – recherche des 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9144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002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xpressions concernant le domaine couleur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(altération + modification) pathologique de la vision (colorée + des couleur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oordonnée trichromati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ontraste (chaud/froid+chaud/chaud+coloré+quantitatif+simultané+successi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ontraste de (clarté+  couleurs+ la couleur en soi+  luminosité+ teint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ontraste des (complémentaires + valeur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ontraste entre (les objets et le fond + symboles "positif" et "négatif"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ouleur antagonis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85800" y="1143000"/>
            <a:ext cx="8458200" cy="15228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6491160"/>
            <a:ext cx="929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ontexte – 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Travaux/Terminologie de la cartographi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- Conclu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65246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7DE10-62AD-4B14-A0AC-1C92896B289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3668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ionnaires spécialisés – recherche des 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-36360" y="1270080"/>
            <a:ext cx="932472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nom tête </a:t>
            </a:r>
            <a:r>
              <a:rPr b="1" i="1" lang="fr-FR" sz="1800" spc="-1" strike="noStrike">
                <a:solidFill>
                  <a:srgbClr val="000000"/>
                </a:solidFill>
                <a:latin typeface="Arial"/>
              </a:rPr>
              <a:t>carte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modifieurs indiquant la nature ou la fonction de la carte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thématique +topographi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administrative+agricole+de géomarketing+de montagne+de risque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de risques naturels+de végétation+forestière+géologique+judiciaire+militaire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médicale+routière+rurale+touristique+urba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pour (mentir + rêver + voyag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modifieurs rendant compte des couleurs de la carte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de couleur (dominante+E) &lt;couleu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de couleurs (dominantes + E) (&lt;couleur&gt; (et + ou) &lt;couleur&gt;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de couleurs (dominantes + E) (assorties+choisies+classiques+contrastées+coordonnées+de base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douces+flashy+futuristes+harmonieuses+incompatibles+flash+fluo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fluorescentes+pétantes+primaires+proches+psychédéliques+pures+riches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saturées+verdoyantes+sombres+subtiles+sympas+ternes+tranchées+unies+viv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1143000"/>
            <a:ext cx="8458200" cy="15228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6491160"/>
            <a:ext cx="929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ontexte – 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Travaux/Terminologie de la cartographi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- Conclu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65977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1594D-D4AA-44EB-A5FD-269D9DBC43C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3668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ionnaires spécialisés – recherche des 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0" y="1125360"/>
            <a:ext cx="9144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002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modifieurs indiquant les caractéristiques techniques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arte en (cercles proportionnels+courbes de niveaux+demi-cercles affrontés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niveaux de gris+oursins+plages colorées+plages de niveaux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emis de points+semis de points colorés+surfaces coloré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modifieurs indiquant la densité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arte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érée+chargée+dense+détaillée+foisonnante+lisible+petite+saturée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vide+étouffa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modifieurs liées à des règles de sémiologie graphique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carte </a:t>
            </a: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confuse+correcte+hiérarchisée+illisible+incorrecte+lisible+orientée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réaliste+structuré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000000"/>
                </a:solidFill>
                <a:latin typeface="Arial"/>
              </a:rPr>
              <a:t>carte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échange peu avec </a:t>
            </a:r>
            <a:r>
              <a:rPr b="1" i="1" lang="fr-FR" sz="1800" spc="-1" strike="noStrike">
                <a:solidFill>
                  <a:srgbClr val="000000"/>
                </a:solidFill>
                <a:latin typeface="Arial"/>
              </a:rPr>
              <a:t>atlas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ou </a:t>
            </a:r>
            <a:r>
              <a:rPr b="1" i="1" lang="fr-FR" sz="1800" spc="-1" strike="noStrike">
                <a:solidFill>
                  <a:srgbClr val="000000"/>
                </a:solidFill>
                <a:latin typeface="Arial"/>
              </a:rPr>
              <a:t>plan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atlas national+topographique+de la population françai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plan inférieur+perceptif+significatif+supérieur+moyen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+</a:t>
            </a: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de vi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85800" y="1143000"/>
            <a:ext cx="8458200" cy="15228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6491160"/>
            <a:ext cx="929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ontexte – 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Travaux/Terminologie de la cartographi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- Conclu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65246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51DA2-710E-444E-9BB5-FA59D83476A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3668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lossair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 Comité Français de Cartograph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91440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Aft>
                <a:spcPts val="1500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lossaire existant sous forme papi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essibilité souhaitée : sous forme de base de données et sur le we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se à jour nécessaire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mogénéisation du niveau de précision dans les différents doma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ression de termes non pertinents 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0"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avier alphanumérique, sour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ervation de termes historiques mais correspondant à des objets ou des notions qui ne sont plus utiles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0"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lavis, liste des écritures, model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jout de nouveaux termes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0"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arte de prospectiv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contrast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défo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données vectorielle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polichinel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85800" y="1143000"/>
            <a:ext cx="8458200" cy="15228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6491160"/>
            <a:ext cx="929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ontexte – 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Travaux/Terminologie de la cartographi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- Conclu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65246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E9D0A-5598-4C47-8B54-BE1316187FD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320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/ Description du ressenti des lecteu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-360" y="1413000"/>
            <a:ext cx="889308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ifs visés 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lier les descripteurs utilisés à des concepts de cartographie ou de sémiologie graphiqu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censer les descripteurs pertinents pour décrire 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'impression générale produite par la car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s caractéristiques de la car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lier les descripteurs utilisés aux compétences des lecteu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éthode 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ise en place d'expérimentations auprès de différents types d'utilisateu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stitution de corpus de commentai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rmalisation et exploitation de ces corpu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1143000"/>
            <a:ext cx="8458200" cy="15228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6491160"/>
            <a:ext cx="929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ontexte – 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Travaux/Description du ressenti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- Conclu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65246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479FB-5791-428B-B6DC-CC56894ABC7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3668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itut géographique nat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29800" y="1484280"/>
            <a:ext cx="8278920" cy="26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laboratoires 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 LAREG (géodésie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 LOEMI (matériel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 MATIS (traitement d’image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 COGIT (gestion et exploitation de données vecteu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cc"/>
                </a:solidFill>
                <a:uFillTx/>
                <a:latin typeface="Arial"/>
              </a:rPr>
              <a:t>http://recherche.ign.fr/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85800" y="1143000"/>
            <a:ext cx="8458200" cy="15228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4449600"/>
            <a:ext cx="2357280" cy="17082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917960" y="4437000"/>
            <a:ext cx="2319480" cy="1736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2352600" y="4448160"/>
          <a:ext cx="2568600" cy="1722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52600" y="4448160"/>
                    <a:ext cx="2568600" cy="172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0" name="" descr=""/>
          <p:cNvPicPr/>
          <p:nvPr/>
        </p:nvPicPr>
        <p:blipFill>
          <a:blip r:embed="rId5"/>
          <a:stretch/>
        </p:blipFill>
        <p:spPr>
          <a:xfrm>
            <a:off x="6969240" y="4437000"/>
            <a:ext cx="2174760" cy="17366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0" y="6491160"/>
            <a:ext cx="929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ontext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- Travaux - Conclu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65246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C6AC2-4E33-449E-9BBE-53614D622AF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3320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se en place d'expérimen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-360" y="1699920"/>
            <a:ext cx="889308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uprès d'experts 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scription de cartes réussies ou particulièrement raté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censement  (manuel) des caractéristiques énoncées 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9"/>
              </a:spcBef>
              <a:spcAft>
                <a:spcPts val="8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e couleurs chaude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lumineus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original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pastel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réalist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rich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sob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9"/>
              </a:spcBef>
              <a:spcAft>
                <a:spcPts val="8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uprès de non-experts 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40 cartes réelles et d'échantillons à commen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21 lecteurs de compétences varié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85800" y="1143000"/>
            <a:ext cx="8458200" cy="15228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6491160"/>
            <a:ext cx="929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ontexte – 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Travaux/Description du ressenti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- Conclu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65246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E63BC-AFD9-437A-BAF8-3BA276E1CD6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33668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érimentation auprès de non-expe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914400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pas de séparateur :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2000" spc="-1" strike="noStrike">
                <a:solidFill>
                  <a:srgbClr val="000000"/>
                </a:solidFill>
                <a:latin typeface="Arial"/>
              </a:rPr>
              <a:t>peu lisible trop claire vert pâle moc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GN :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2000" spc="-1" strike="noStrike">
                <a:solidFill>
                  <a:srgbClr val="000000"/>
                </a:solidFill>
                <a:latin typeface="Arial"/>
              </a:rPr>
              <a:t>tache blanche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2000" spc="-1" strike="noStrike">
                <a:solidFill>
                  <a:srgbClr val="000000"/>
                </a:solidFill>
                <a:latin typeface="Arial"/>
              </a:rPr>
              <a:t>bâti mal identifiable (bleu et rose ?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interjection :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2000" spc="-1" strike="noStrike">
                <a:solidFill>
                  <a:srgbClr val="000000"/>
                </a:solidFill>
                <a:latin typeface="Arial"/>
              </a:rPr>
              <a:t>argh 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modifieur :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2000" spc="-1" strike="noStrike">
                <a:solidFill>
                  <a:srgbClr val="000000"/>
                </a:solidFill>
                <a:latin typeface="Arial"/>
              </a:rPr>
              <a:t>trop ble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2000" spc="-1" strike="noStrike">
                <a:solidFill>
                  <a:srgbClr val="000000"/>
                </a:solidFill>
                <a:latin typeface="Arial"/>
              </a:rPr>
              <a:t>un peu trop dense mais correc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phrase "complète" :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2000" spc="-1" strike="noStrike">
                <a:solidFill>
                  <a:srgbClr val="000000"/>
                </a:solidFill>
                <a:latin typeface="Arial"/>
              </a:rPr>
              <a:t>fait mal aux yeu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2000" spc="-1" strike="noStrike">
                <a:solidFill>
                  <a:srgbClr val="000000"/>
                </a:solidFill>
                <a:latin typeface="Arial"/>
              </a:rPr>
              <a:t>le mauvais goût a des limi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nom propre :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2000" spc="-1" strike="noStrike">
                <a:solidFill>
                  <a:srgbClr val="000000"/>
                </a:solidFill>
                <a:latin typeface="Arial"/>
              </a:rPr>
              <a:t>Las Vegas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fr-FR" sz="2000" spc="-1" strike="noStrike">
                <a:solidFill>
                  <a:srgbClr val="000000"/>
                </a:solidFill>
                <a:latin typeface="Arial"/>
              </a:rPr>
              <a:t>Tib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85800" y="1143000"/>
            <a:ext cx="8458200" cy="15228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6491160"/>
            <a:ext cx="929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ontexte – 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Travaux/Description du ressenti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- Conclu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65246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rcRect l="1358" t="22005" r="12768" b="56352"/>
          <a:stretch/>
        </p:blipFill>
        <p:spPr>
          <a:xfrm>
            <a:off x="34920" y="1413000"/>
            <a:ext cx="9145440" cy="216036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7667640" y="3284640"/>
            <a:ext cx="122544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D3155-75C1-4A93-914B-0A63670AB92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4724280" y="1243080"/>
            <a:ext cx="3592800" cy="57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arte brilla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arte chau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arte épicé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beau contras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ontraste f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rop de contras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arte trop détaillé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arte mo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arte lumineu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arte ri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arte viva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ouleurs mauvai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fe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aghre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ole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vacan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que sont les choses jaunes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986280" y="2786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earthy1" descr=""/>
          <p:cNvPicPr/>
          <p:nvPr/>
        </p:nvPicPr>
        <p:blipFill>
          <a:blip r:embed="rId1"/>
          <a:stretch/>
        </p:blipFill>
        <p:spPr>
          <a:xfrm>
            <a:off x="1539720" y="2286000"/>
            <a:ext cx="2498760" cy="274320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320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érimentation auprès de non-expe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143000"/>
            <a:ext cx="8458200" cy="15228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6491160"/>
            <a:ext cx="929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ontexte – 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Travaux/Description du ressenti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- Conclu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65246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22000-A467-4EBF-ACF5-573CAAB7078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2971800" y="1139760"/>
            <a:ext cx="3657600" cy="59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arte brilla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arte chau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arte épicé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beau contras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ontraste f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rop de contras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arte trop détaillé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arte mo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arte lumineu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arte ri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arte viva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ouleurs mauvai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que sont les choses jaunes ? fe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aghre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ole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vacan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467160" y="1143000"/>
            <a:ext cx="2514600" cy="3657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191120" y="5181480"/>
            <a:ext cx="1218960" cy="12193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971800" y="4800600"/>
            <a:ext cx="3505320" cy="3808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237348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66"/>
                </a:solidFill>
                <a:latin typeface="Arial"/>
              </a:rPr>
              <a:t>explici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H="1" flipV="1" rot="16200000">
            <a:off x="1757160" y="2203920"/>
            <a:ext cx="468360" cy="782640"/>
          </a:xfrm>
          <a:prstGeom prst="upArrow">
            <a:avLst>
              <a:gd name="adj1" fmla="val 50000"/>
              <a:gd name="adj2" fmla="val 41776"/>
            </a:avLst>
          </a:prstGeom>
          <a:solidFill>
            <a:srgbClr val="ffcc66"/>
          </a:solidFill>
          <a:ln w="381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828800" y="76320"/>
            <a:ext cx="7315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érimentation auprès de non-expe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0" y="5626800"/>
            <a:ext cx="3373560" cy="468360"/>
            <a:chOff x="0" y="5626800"/>
            <a:chExt cx="3373560" cy="468360"/>
          </a:xfrm>
        </p:grpSpPr>
        <p:sp>
          <p:nvSpPr>
            <p:cNvPr id="177" name=""/>
            <p:cNvSpPr/>
            <p:nvPr/>
          </p:nvSpPr>
          <p:spPr>
            <a:xfrm>
              <a:off x="0" y="5635800"/>
              <a:ext cx="2590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associations d'idé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flipH="1" flipV="1" rot="16200000">
              <a:off x="2747880" y="5469120"/>
              <a:ext cx="468360" cy="782640"/>
            </a:xfrm>
            <a:prstGeom prst="upArrow">
              <a:avLst>
                <a:gd name="adj1" fmla="val 50000"/>
                <a:gd name="adj2" fmla="val 41776"/>
              </a:avLst>
            </a:prstGeom>
            <a:solidFill>
              <a:srgbClr val="ff5050"/>
            </a:solidFill>
            <a:ln w="3816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6665760" y="2133720"/>
            <a:ext cx="2478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apparence générale de la car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553080" y="3429000"/>
            <a:ext cx="2819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application des</a:t>
            </a:r>
            <a:br>
              <a:rPr sz="2000"/>
            </a:b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règles de 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0" y="4724280"/>
            <a:ext cx="2687760" cy="483480"/>
            <a:chOff x="0" y="4724280"/>
            <a:chExt cx="2687760" cy="483480"/>
          </a:xfrm>
        </p:grpSpPr>
        <p:sp>
          <p:nvSpPr>
            <p:cNvPr id="182" name=""/>
            <p:cNvSpPr/>
            <p:nvPr/>
          </p:nvSpPr>
          <p:spPr>
            <a:xfrm>
              <a:off x="0" y="472428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9966"/>
                  </a:solidFill>
                  <a:latin typeface="Arial"/>
                </a:rPr>
                <a:t>à interpré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 flipV="1" rot="16200000">
              <a:off x="2062080" y="4581720"/>
              <a:ext cx="468360" cy="782640"/>
            </a:xfrm>
            <a:prstGeom prst="upArrow">
              <a:avLst>
                <a:gd name="adj1" fmla="val 50000"/>
                <a:gd name="adj2" fmla="val 41776"/>
              </a:avLst>
            </a:prstGeom>
            <a:solidFill>
              <a:srgbClr val="ff9966"/>
            </a:solidFill>
            <a:ln w="3816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4" name=""/>
          <p:cNvGrpSpPr/>
          <p:nvPr/>
        </p:nvGrpSpPr>
        <p:grpSpPr>
          <a:xfrm>
            <a:off x="5414400" y="3213720"/>
            <a:ext cx="1286280" cy="897480"/>
            <a:chOff x="5414400" y="3213720"/>
            <a:chExt cx="1286280" cy="897480"/>
          </a:xfrm>
        </p:grpSpPr>
        <p:sp>
          <p:nvSpPr>
            <p:cNvPr id="185" name=""/>
            <p:cNvSpPr/>
            <p:nvPr/>
          </p:nvSpPr>
          <p:spPr>
            <a:xfrm flipH="1">
              <a:off x="5414400" y="3213720"/>
              <a:ext cx="1286280" cy="881280"/>
            </a:xfrm>
            <a:prstGeom prst="line">
              <a:avLst/>
            </a:prstGeom>
            <a:ln w="2844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H="1">
              <a:off x="5425200" y="3966120"/>
              <a:ext cx="1099800" cy="14508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7" name=""/>
          <p:cNvGrpSpPr/>
          <p:nvPr/>
        </p:nvGrpSpPr>
        <p:grpSpPr>
          <a:xfrm>
            <a:off x="5562360" y="1327680"/>
            <a:ext cx="1122120" cy="3043800"/>
            <a:chOff x="5562360" y="1327680"/>
            <a:chExt cx="1122120" cy="3043800"/>
          </a:xfrm>
        </p:grpSpPr>
        <p:sp>
          <p:nvSpPr>
            <p:cNvPr id="188" name=""/>
            <p:cNvSpPr/>
            <p:nvPr/>
          </p:nvSpPr>
          <p:spPr>
            <a:xfrm flipH="1" flipV="1">
              <a:off x="5641560" y="1327680"/>
              <a:ext cx="937440" cy="648000"/>
            </a:xfrm>
            <a:prstGeom prst="line">
              <a:avLst/>
            </a:prstGeom>
            <a:ln w="2844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H="1" flipV="1">
              <a:off x="5638680" y="1676160"/>
              <a:ext cx="990720" cy="533160"/>
            </a:xfrm>
            <a:prstGeom prst="line">
              <a:avLst/>
            </a:prstGeom>
            <a:ln w="2844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flipH="1" flipV="1">
              <a:off x="5562360" y="1980720"/>
              <a:ext cx="1066680" cy="381240"/>
            </a:xfrm>
            <a:prstGeom prst="line">
              <a:avLst/>
            </a:prstGeom>
            <a:ln w="2844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H="1">
              <a:off x="5615640" y="2543040"/>
              <a:ext cx="1020960" cy="927360"/>
            </a:xfrm>
            <a:prstGeom prst="line">
              <a:avLst/>
            </a:prstGeom>
            <a:ln w="2844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>
              <a:off x="5718960" y="2734920"/>
              <a:ext cx="931320" cy="1017000"/>
            </a:xfrm>
            <a:prstGeom prst="line">
              <a:avLst/>
            </a:prstGeom>
            <a:ln w="2844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>
              <a:off x="5639040" y="2877120"/>
              <a:ext cx="1045440" cy="1494360"/>
            </a:xfrm>
            <a:prstGeom prst="line">
              <a:avLst/>
            </a:prstGeom>
            <a:ln w="2844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4" name=""/>
          <p:cNvGrpSpPr/>
          <p:nvPr/>
        </p:nvGrpSpPr>
        <p:grpSpPr>
          <a:xfrm>
            <a:off x="5652360" y="2276640"/>
            <a:ext cx="943560" cy="2333880"/>
            <a:chOff x="5652360" y="2276640"/>
            <a:chExt cx="943560" cy="2333880"/>
          </a:xfrm>
        </p:grpSpPr>
        <p:sp>
          <p:nvSpPr>
            <p:cNvPr id="195" name=""/>
            <p:cNvSpPr/>
            <p:nvPr/>
          </p:nvSpPr>
          <p:spPr>
            <a:xfrm flipH="1" flipV="1">
              <a:off x="5676120" y="2276640"/>
              <a:ext cx="898920" cy="121140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>
              <a:off x="6060960" y="4004640"/>
              <a:ext cx="534960" cy="60588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flipH="1" flipV="1">
              <a:off x="5652360" y="2582280"/>
              <a:ext cx="921240" cy="106128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H="1" flipV="1">
              <a:off x="5862240" y="2920680"/>
              <a:ext cx="631800" cy="78228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 flipV="1">
              <a:off x="5922720" y="3235320"/>
              <a:ext cx="595440" cy="62604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0" name=""/>
          <p:cNvSpPr/>
          <p:nvPr/>
        </p:nvSpPr>
        <p:spPr>
          <a:xfrm>
            <a:off x="685800" y="907920"/>
            <a:ext cx="8458200" cy="15264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0" y="6491160"/>
            <a:ext cx="929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ontexte – 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Travaux/Description du ressenti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- Conclu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0" y="65246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409D8-A030-45D3-8E11-F33044E9A9B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3320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érimentation auprès de non-expe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78920" y="1628280"/>
            <a:ext cx="871380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uprès de non-experts 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entaires libres de car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139"/>
              </a:spcBef>
              <a:spcAft>
                <a:spcPts val="8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80 descripteurs :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cadémique, agréable … vulgaire, zen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139"/>
              </a:spcBef>
              <a:spcAft>
                <a:spcPts val="8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qui ont été traduits par rapport à 9 descripteurs 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139"/>
              </a:spcBef>
              <a:spcAft>
                <a:spcPts val="8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ntrastée, de couleurs chaudes, équilibrée, lumineuse, originale, pastel, précise, réaliste, sob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139"/>
              </a:spcBef>
              <a:spcAft>
                <a:spcPts val="8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arte agressiv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devient : 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arte contrastée trop 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équilibrée pas 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sobre pas 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85800" y="1143000"/>
            <a:ext cx="8458200" cy="15228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>
            <a:hlinkClick r:id="rId1" action="ppaction://hlinksldjump"/>
          </p:cNvPr>
          <p:cNvSpPr/>
          <p:nvPr/>
        </p:nvSpPr>
        <p:spPr>
          <a:xfrm>
            <a:off x="8604360" y="1989000"/>
            <a:ext cx="288720" cy="216000"/>
          </a:xfrm>
          <a:custGeom>
            <a:avLst/>
            <a:gdLst>
              <a:gd name="textAreaLeft" fmla="*/ 13680 w 288720"/>
              <a:gd name="textAreaRight" fmla="*/ 275040 w 28872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8860" h="21600">
                <a:moveTo>
                  <a:pt x="0" y="0"/>
                </a:moveTo>
                <a:lnTo>
                  <a:pt x="28860" y="0"/>
                </a:lnTo>
                <a:lnTo>
                  <a:pt x="28860" y="21600"/>
                </a:lnTo>
                <a:lnTo>
                  <a:pt x="0" y="21600"/>
                </a:lnTo>
                <a:close/>
              </a:path>
              <a:path fill="lightenLess" w="28860" h="21600">
                <a:moveTo>
                  <a:pt x="0" y="0"/>
                </a:moveTo>
                <a:lnTo>
                  <a:pt x="28860" y="0"/>
                </a:lnTo>
                <a:lnTo>
                  <a:pt x="27460" y="1400"/>
                </a:lnTo>
                <a:lnTo>
                  <a:pt x="1400" y="1400"/>
                </a:lnTo>
                <a:close/>
              </a:path>
              <a:path fill="darken" w="28860" h="21600">
                <a:moveTo>
                  <a:pt x="28860" y="0"/>
                </a:moveTo>
                <a:lnTo>
                  <a:pt x="28860" y="21600"/>
                </a:lnTo>
                <a:lnTo>
                  <a:pt x="27460" y="20200"/>
                </a:lnTo>
                <a:lnTo>
                  <a:pt x="27460" y="1400"/>
                </a:lnTo>
                <a:close/>
              </a:path>
              <a:path fill="darkenLess" w="28860" h="21600">
                <a:moveTo>
                  <a:pt x="288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60" y="20200"/>
                </a:lnTo>
                <a:close/>
              </a:path>
              <a:path fill="lighten" w="288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60" h="21600">
                <a:moveTo>
                  <a:pt x="7423" y="3794"/>
                </a:moveTo>
                <a:lnTo>
                  <a:pt x="21436" y="10800"/>
                </a:lnTo>
                <a:lnTo>
                  <a:pt x="7423" y="17806"/>
                </a:lnTo>
                <a:close/>
              </a:path>
            </a:pathLst>
          </a:cu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6491160"/>
            <a:ext cx="929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ontexte – 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Travaux/Description du ressenti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- Conclu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65246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0B04F-DD75-4BE0-87F3-795BB5ED184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0" y="649116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Description du ressenti des lecteurs des cartes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rcRect l="9963" t="12354" r="40018" b="40398"/>
          <a:stretch/>
        </p:blipFill>
        <p:spPr>
          <a:xfrm>
            <a:off x="0" y="219240"/>
            <a:ext cx="8785080" cy="663876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1042920" y="189000"/>
            <a:ext cx="2881440" cy="337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mentaire initi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003640" y="189000"/>
            <a:ext cx="1368720" cy="337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éécri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091280" y="189000"/>
            <a:ext cx="1657440" cy="337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cept sém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5AC3A-9393-479B-AC51-E6DA65C8598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33668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/ Description et comparaison de cart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440" y="1411200"/>
            <a:ext cx="827892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titution d'un corpus de cartes réelles et d'échantillons construits ad ho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échantillon = un "bon exemple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ctifs visés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éfinir des critères sur lesquels fonder la comparaison entre car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éthodes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actérisation d'une carte à l'aide des descripteurs issus de l'expérimentation auprès d'expe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truction d'un modèle de description formalisée d'une carte sur lequel définir une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85800" y="1143000"/>
            <a:ext cx="8458200" cy="15228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6491160"/>
            <a:ext cx="929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ontexte – 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Travaux/Description des cartes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- Conclu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0" y="65246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>
            <a:hlinkClick r:id="rId1" action="ppaction://hlinksldjump"/>
          </p:cNvPr>
          <p:cNvSpPr/>
          <p:nvPr/>
        </p:nvSpPr>
        <p:spPr>
          <a:xfrm>
            <a:off x="8747280" y="4797360"/>
            <a:ext cx="288720" cy="216000"/>
          </a:xfrm>
          <a:custGeom>
            <a:avLst/>
            <a:gdLst>
              <a:gd name="textAreaLeft" fmla="*/ 13680 w 288720"/>
              <a:gd name="textAreaRight" fmla="*/ 275040 w 28872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8860" h="21600">
                <a:moveTo>
                  <a:pt x="0" y="0"/>
                </a:moveTo>
                <a:lnTo>
                  <a:pt x="28860" y="0"/>
                </a:lnTo>
                <a:lnTo>
                  <a:pt x="28860" y="21600"/>
                </a:lnTo>
                <a:lnTo>
                  <a:pt x="0" y="21600"/>
                </a:lnTo>
                <a:close/>
              </a:path>
              <a:path fill="lightenLess" w="28860" h="21600">
                <a:moveTo>
                  <a:pt x="0" y="0"/>
                </a:moveTo>
                <a:lnTo>
                  <a:pt x="28860" y="0"/>
                </a:lnTo>
                <a:lnTo>
                  <a:pt x="27460" y="1400"/>
                </a:lnTo>
                <a:lnTo>
                  <a:pt x="1400" y="1400"/>
                </a:lnTo>
                <a:close/>
              </a:path>
              <a:path fill="darken" w="28860" h="21600">
                <a:moveTo>
                  <a:pt x="28860" y="0"/>
                </a:moveTo>
                <a:lnTo>
                  <a:pt x="28860" y="21600"/>
                </a:lnTo>
                <a:lnTo>
                  <a:pt x="27460" y="20200"/>
                </a:lnTo>
                <a:lnTo>
                  <a:pt x="27460" y="1400"/>
                </a:lnTo>
                <a:close/>
              </a:path>
              <a:path fill="darkenLess" w="28860" h="21600">
                <a:moveTo>
                  <a:pt x="288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60" y="20200"/>
                </a:lnTo>
                <a:close/>
              </a:path>
              <a:path fill="lighten" w="288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60" h="21600">
                <a:moveTo>
                  <a:pt x="7423" y="3794"/>
                </a:moveTo>
                <a:lnTo>
                  <a:pt x="21436" y="10800"/>
                </a:lnTo>
                <a:lnTo>
                  <a:pt x="7423" y="17806"/>
                </a:lnTo>
                <a:close/>
              </a:path>
            </a:pathLst>
          </a:cu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D2959-C0B8-4D3C-84CD-8272AA3C1B77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33668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ption et comparaison de car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85800" y="1143000"/>
            <a:ext cx="8458200" cy="15228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rcRect l="6289" t="14845" r="42918" b="27849"/>
          <a:stretch/>
        </p:blipFill>
        <p:spPr>
          <a:xfrm>
            <a:off x="0" y="0"/>
            <a:ext cx="7272360" cy="6564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6950160" y="2060640"/>
            <a:ext cx="2193840" cy="237816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0" y="6491160"/>
            <a:ext cx="929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ontexte – 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Travaux/Description des cartes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- Conclu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0" y="65246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6D40A-C6FD-43D0-8F99-CC0715A3BDAA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044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/ Description du besoin : exemple de la carte de randonn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0" y="1341000"/>
            <a:ext cx="91440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ectifs visés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ractériser la carte de randonnée idé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éfinir des profils d'utilisateurs et leurs attentes selon la pratique de randonné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truire des outils réutilis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éthode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tilisation d'un corpus d'entretiens sur le thème de la carte de randonnée idé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rmalisation et mise en forme du corpus (transcription écrite d'entretiens en group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itements statistiques  : spécificités lexicales, associations lexic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trons : repérage des contextes d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art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tinérair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ali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85800" y="1143000"/>
            <a:ext cx="8458200" cy="15228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0" y="6491160"/>
            <a:ext cx="929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ontexte – 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Travaux/Description du besoin de cart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- Conclu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0" y="65246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07416-04F0-4682-841B-1CC373F9DE4F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42920" y="457200"/>
            <a:ext cx="8066160" cy="66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/ Cartographie topographique et cartographie thémat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0728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ctifs visés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rer les principes de réalisation d'une carte thématique et d'une carte topograph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éthode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rer les corpus d'enseignement de la cartographie thématique et de la cartographie topograph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85800" y="1143000"/>
            <a:ext cx="8458200" cy="15228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6491160"/>
            <a:ext cx="929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ontexte – 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Travaux/Cartographie topographique et cartographie thématiqu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- Conclu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0" y="65246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367B3-B005-425F-B7E6-FA780FB030FE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3668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itut géographique national – le COG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0160" y="1484280"/>
            <a:ext cx="831384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Plusieurs axes de recherche :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ntégration de donné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ervices et interfaces de consultation des données et des trait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pplications concernant la gestion du ris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généralisation automati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émiologie graphique, en particulier utilisation de la couleur dans la ca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Participation à des projets en cour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rra Numerica (Cap Digital), Terra Magna (Cap Digital et pôle de compétitivité "Ville et Mobilité Durable")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GeOpenSim (analyse de l'évolution du tissu urbain), GeOnto (ontologie des objets géographiqu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Thème de recherche transversal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struction de cartes "sur mesure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85800" y="1143000"/>
            <a:ext cx="8458200" cy="15228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6491160"/>
            <a:ext cx="929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ontext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- Travaux - Conclu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0" y="65246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B1F51-843E-4836-914F-7D5AE6A54CA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042920" y="457200"/>
            <a:ext cx="8066160" cy="66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/ Cartographie topographique et cartographie thémat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0" y="1483920"/>
            <a:ext cx="89647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émarche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embler des corpus représentatifs : cours de l'université (thématique) et de l'ENSG (topographiqu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éfinition d'un corpus de référence (littérair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itements statistiques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rmes et notions correspondantes les plus employés par corp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trons et concordances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herche des définitions dans chaque corpus spécialis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ions clés pour chaque type de car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mp sémantique de ces no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émarche constructive pour chaque type de car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araison des approch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85800" y="1143000"/>
            <a:ext cx="8458200" cy="15228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0" y="6491160"/>
            <a:ext cx="929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ontexte – 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Travaux/Cartographie topographique et cartographie thématiqu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- Conclu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0" y="65246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207C5-4DEF-42FE-93EC-C7CF5A911EA3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042920" y="457200"/>
            <a:ext cx="8066160" cy="66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/ Cartographie topographique et cartographie thémat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-360" y="1628640"/>
            <a:ext cx="889308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ésultats attendus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éer des dictionnaires (entrée+définition) spécialisés comparatif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imenter la base de connaissance (concepts+règl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établir une comparaison des enseignements fondée sur les dictionnaires et la base de connaissan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85800" y="1143000"/>
            <a:ext cx="8458200" cy="15228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0" y="6491160"/>
            <a:ext cx="929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ontexte – 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Travaux/Cartographie topographique et cartographie thématiqu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- Conclu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0" y="65246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20430-76B9-4C10-87A5-C460648785C0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3320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/ Construction d'une ontolog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874872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partir des dictionnaires = réservoir de concepts (termes vs concep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ectifs de l'ontologie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ganiser les concepts opérationnels pour la conception de carte sur mesure (cartographie+ressenti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maine restreint à l'utilisation de la coule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e de connaissance consensuelle et augmen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e de connaissance = support pour la construction d'applications d'aide à la conception de légen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85800" y="1143000"/>
            <a:ext cx="8458200" cy="15228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0" y="6491160"/>
            <a:ext cx="929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ontexte – 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Travaux/Ontologie de la cartographie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- Conclu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0" y="65246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42EF6-A413-4750-A678-76B7F80CAD6F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3320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blèmes à résoud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0" y="1484280"/>
            <a:ext cx="91440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ticuler différents points de v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traduire" les outils graphiques existants, par exemple le cercle chromati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établir les liens entre concept et termes liés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 sémantiques usuelles (synonymie, métonymie, 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 sémantiques non identifiées entre concepts : "a à  voir avec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établir les liens avec d'autres objets de la base de connaissances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ègles manipulant ce conce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rtes illustrant ce conce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85800" y="1143000"/>
            <a:ext cx="8458200" cy="15228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0" y="6491160"/>
            <a:ext cx="929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ontexte – 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Travaux/Ontologie de la cartographie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- Conclu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0" y="65246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DBD1D-1E2D-4D12-97D3-D55371305D64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3320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érents points de vue sur la couleu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0" y="1483920"/>
            <a:ext cx="91440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1143000"/>
            <a:ext cx="8458200" cy="15228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4920" y="1341360"/>
            <a:ext cx="910908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terme polysémique et impréc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"champ chromatique"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2000" spc="-1" strike="noStrike">
                <a:solidFill>
                  <a:srgbClr val="000000"/>
                </a:solidFill>
                <a:latin typeface="Arial"/>
              </a:rPr>
              <a:t>bleu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fr-FR" sz="2000" spc="-1" strike="noStrike">
                <a:solidFill>
                  <a:srgbClr val="000000"/>
                </a:solidFill>
                <a:latin typeface="Arial"/>
              </a:rPr>
              <a:t> blanc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fr-FR" sz="2000" spc="-1" strike="noStrike">
                <a:solidFill>
                  <a:srgbClr val="000000"/>
                </a:solidFill>
                <a:latin typeface="Arial"/>
              </a:rPr>
              <a:t> brun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[syn.</a:t>
            </a:r>
            <a:r>
              <a:rPr b="0" i="1" lang="fr-FR" sz="2000" spc="-1" strike="noStrike">
                <a:solidFill>
                  <a:srgbClr val="000000"/>
                </a:solidFill>
                <a:latin typeface="Arial"/>
              </a:rPr>
              <a:t> : marron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],</a:t>
            </a:r>
            <a:r>
              <a:rPr b="0" i="1" lang="fr-FR" sz="2000" spc="-1" strike="noStrike">
                <a:solidFill>
                  <a:srgbClr val="000000"/>
                </a:solidFill>
                <a:latin typeface="Arial"/>
              </a:rPr>
              <a:t> gris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fr-FR" sz="2000" spc="-1" strike="noStrike">
                <a:solidFill>
                  <a:srgbClr val="000000"/>
                </a:solidFill>
                <a:latin typeface="Arial"/>
              </a:rPr>
              <a:t> jaune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fr-FR" sz="2000" spc="-1" strike="noStrike">
                <a:solidFill>
                  <a:srgbClr val="000000"/>
                </a:solidFill>
                <a:latin typeface="Arial"/>
              </a:rPr>
              <a:t> noir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fr-FR" sz="2000" spc="-1" strike="noStrike">
                <a:solidFill>
                  <a:srgbClr val="000000"/>
                </a:solidFill>
                <a:latin typeface="Arial"/>
              </a:rPr>
              <a:t> orange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fr-FR" sz="2000" spc="-1" strike="noStrike">
                <a:solidFill>
                  <a:srgbClr val="000000"/>
                </a:solidFill>
                <a:latin typeface="Arial"/>
              </a:rPr>
              <a:t> rose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fr-FR" sz="2000" spc="-1" strike="noStrike">
                <a:solidFill>
                  <a:srgbClr val="000000"/>
                </a:solidFill>
                <a:latin typeface="Arial"/>
              </a:rPr>
              <a:t> rouge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fr-FR" sz="2000" spc="-1" strike="noStrike">
                <a:solidFill>
                  <a:srgbClr val="000000"/>
                </a:solidFill>
                <a:latin typeface="Arial"/>
              </a:rPr>
              <a:t> vert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fr-FR" sz="2000" spc="-1" strike="noStrike">
                <a:solidFill>
                  <a:srgbClr val="000000"/>
                </a:solidFill>
                <a:latin typeface="Arial"/>
              </a:rPr>
              <a:t> violet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point de vue symbolique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Arial"/>
              </a:rPr>
              <a:t>la couleur jaune est associée au menson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point de vue de la sémiologie graphique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Arial"/>
              </a:rPr>
              <a:t>variables visuelles : teinte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et</a:t>
            </a:r>
            <a:r>
              <a:rPr b="0" i="1" lang="fr-FR" sz="2000" spc="-1" strike="noStrike">
                <a:solidFill>
                  <a:srgbClr val="000000"/>
                </a:solidFill>
                <a:latin typeface="Arial"/>
              </a:rPr>
              <a:t> valeu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odage de la couleur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Arial"/>
              </a:rPr>
              <a:t>RGB, HSL, CieLab,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algorithmes de passage d'un codage à l'aut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point de vue de la physique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2000" spc="-1" strike="noStrike">
                <a:solidFill>
                  <a:srgbClr val="000000"/>
                </a:solidFill>
                <a:latin typeface="Arial"/>
              </a:rPr>
              <a:t>longueur d'onde, intervalle de longueurs d'ondes, union d'intervalles de longueurs d'on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0" y="6491160"/>
            <a:ext cx="929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ontexte – 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Travaux/Ontologie de la cartographie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- Conclu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0" y="65246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6B44A-BEAD-4DB4-9062-2B1F8A3A26B9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" descr=""/>
          <p:cNvPicPr/>
          <p:nvPr/>
        </p:nvPicPr>
        <p:blipFill>
          <a:blip r:embed="rId1"/>
          <a:srcRect l="12988" t="31113" r="12205" b="11160"/>
          <a:stretch/>
        </p:blipFill>
        <p:spPr>
          <a:xfrm>
            <a:off x="34920" y="2421000"/>
            <a:ext cx="6840720" cy="3959280"/>
          </a:xfrm>
          <a:prstGeom prst="rect">
            <a:avLst/>
          </a:prstGeom>
          <a:ln w="0">
            <a:noFill/>
          </a:ln>
        </p:spPr>
      </p:pic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3320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duction du cercle chromatiqu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0" y="1483920"/>
            <a:ext cx="91440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85800" y="1143000"/>
            <a:ext cx="8458200" cy="15228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4920" y="1413000"/>
            <a:ext cx="914400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2" marL="1143000" indent="-2286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0" y="1486080"/>
            <a:ext cx="914400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ions de :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ontrast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amilles de couleur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ouleur complémentair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ègles de contras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ègles d'harmon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0" y="6491160"/>
            <a:ext cx="929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ontexte – 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Travaux/Ontologie de la cartographie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- Conclu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0" y="65246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9BA40-9171-4DBA-8D52-86F1ACAE09E7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3320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'expression de la couleu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0" y="1483920"/>
            <a:ext cx="91440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85800" y="1143000"/>
            <a:ext cx="8458200" cy="15228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4920" y="1413000"/>
            <a:ext cx="914400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2" marL="1143000" indent="-2286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0" y="1844640"/>
            <a:ext cx="9144000" cy="402120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0" y="6491160"/>
            <a:ext cx="929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ontexte – 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Travaux/Ontologie de la cartographie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- Conclu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0" y="65246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6C262-3BDC-469D-969D-B4E742D67961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320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s relations dans la légend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-324000" y="1484280"/>
            <a:ext cx="94680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85800" y="1143000"/>
            <a:ext cx="8458200" cy="15228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4920" y="1413000"/>
            <a:ext cx="914400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2" marL="1143000" indent="-2286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rcRect l="26476" t="15365" r="11874" b="37391"/>
          <a:stretch/>
        </p:blipFill>
        <p:spPr>
          <a:xfrm>
            <a:off x="1332000" y="1773360"/>
            <a:ext cx="6551640" cy="376560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/>
          <p:nvPr/>
        </p:nvSpPr>
        <p:spPr>
          <a:xfrm>
            <a:off x="0" y="6491160"/>
            <a:ext cx="929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ontexte – 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Travaux/Ontologie de la cartographie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- Conclu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0" y="65246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CE0BC-9349-44B7-B67A-80A7F5A76892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3320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s et relations dans la légend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0" y="1483920"/>
            <a:ext cx="91440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85800" y="1143000"/>
            <a:ext cx="8458200" cy="15228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4920" y="1413000"/>
            <a:ext cx="914400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2" marL="1143000" indent="-2286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>
            <a:off x="395280" y="1700280"/>
            <a:ext cx="8424720" cy="435276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/>
          <p:nvPr/>
        </p:nvSpPr>
        <p:spPr>
          <a:xfrm>
            <a:off x="0" y="6491160"/>
            <a:ext cx="929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ontexte – 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Travaux/Ontologie de la cartographie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- Conclu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0" y="65246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E51BC-5D9B-4B01-B62E-5E4211D89924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3320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emples de contraint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0" y="1483920"/>
            <a:ext cx="91440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85800" y="1143000"/>
            <a:ext cx="8458200" cy="15228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4920" y="1413000"/>
            <a:ext cx="914400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Catégories de contraintes traitées 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1650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utilisation conventionnelle des couleurs 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2000" spc="-1" strike="noStrike">
                <a:solidFill>
                  <a:srgbClr val="000000"/>
                </a:solidFill>
                <a:latin typeface="Arial"/>
              </a:rPr>
              <a:t>Les objets géographiques appartenant au thème hydrographie sont cartographiés avec un bleu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1650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relations entre thèmes à l'aide des teintes 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2000" spc="-1" strike="noStrike">
                <a:solidFill>
                  <a:srgbClr val="000000"/>
                </a:solidFill>
                <a:latin typeface="Arial"/>
              </a:rPr>
              <a:t>Les objets du même thème sont cartographiés avec des couleurs de même teinte ou formant un ContrasteDeTeinte faib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2000" spc="-1" strike="noStrike">
                <a:solidFill>
                  <a:srgbClr val="000000"/>
                </a:solidFill>
                <a:latin typeface="Arial"/>
              </a:rPr>
              <a:t>Les objets appartenant à des thèmes différents sont cartographiés avec des couleurs formant un ContrasteDeTeinte fort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1650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contraintes exploitant les contrastes de valeurs 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Le fond cartographique doit contraster avec les objets superposé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La couleur du fond doit être de faible valeu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0" y="6491160"/>
            <a:ext cx="929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ontexte – 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Travaux/Ontologie de la cartographie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- Conclu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0" y="65246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A691A-048C-4FAA-B608-D1B794B4F9AC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3668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 carte sur mesure sur inter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1143000"/>
            <a:ext cx="8458200" cy="15228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0160" y="1484280"/>
            <a:ext cx="831384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soins 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rtes adaptées voire personnalisé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erposition d'un ou plusieurs thèmes sur des données topographiques ("fond de carte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yens 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ils cartographiques disponibles sur int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G lib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tat : mauvaise qualité des cart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blèmes de lisibilit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hétique pauv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ssage mal compr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0" y="6491160"/>
            <a:ext cx="929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ontext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- Travaux - Conclu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0" y="65246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68AA7-6794-4E1F-91ED-76166058B11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3320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0" y="1483920"/>
            <a:ext cx="91440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685800" y="1143000"/>
            <a:ext cx="8458200" cy="15228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4920" y="1413000"/>
            <a:ext cx="9109080" cy="43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soin identifié : aide à la conception de cartes sur mesu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struction des corpus textuels et iconographiques correspondant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ploitation de ces corpus à l'aide d'outils linguistiques et informatiques 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naissances didactiqu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ssenti des lecteurs de cart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rmalisation : ontologie + contraint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pplications déjà réalisées  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éer des légendes de carte adaptées au contexte de l'utilisateur, conformes aux règles de cartographi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poser des cartes créatives par leurs propriétés visuel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0" y="6491160"/>
            <a:ext cx="929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ontexte – Travaux - 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onclusions et perspectiv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0" y="65246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>
            <a:hlinkClick r:id="rId1" action="ppaction://hlinksldjump"/>
          </p:cNvPr>
          <p:cNvSpPr/>
          <p:nvPr/>
        </p:nvSpPr>
        <p:spPr>
          <a:xfrm>
            <a:off x="8747280" y="4941720"/>
            <a:ext cx="288720" cy="216000"/>
          </a:xfrm>
          <a:custGeom>
            <a:avLst/>
            <a:gdLst>
              <a:gd name="textAreaLeft" fmla="*/ 13680 w 288720"/>
              <a:gd name="textAreaRight" fmla="*/ 275040 w 28872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8860" h="21600">
                <a:moveTo>
                  <a:pt x="0" y="0"/>
                </a:moveTo>
                <a:lnTo>
                  <a:pt x="28860" y="0"/>
                </a:lnTo>
                <a:lnTo>
                  <a:pt x="28860" y="21600"/>
                </a:lnTo>
                <a:lnTo>
                  <a:pt x="0" y="21600"/>
                </a:lnTo>
                <a:close/>
              </a:path>
              <a:path fill="lightenLess" w="28860" h="21600">
                <a:moveTo>
                  <a:pt x="0" y="0"/>
                </a:moveTo>
                <a:lnTo>
                  <a:pt x="28860" y="0"/>
                </a:lnTo>
                <a:lnTo>
                  <a:pt x="27460" y="1400"/>
                </a:lnTo>
                <a:lnTo>
                  <a:pt x="1400" y="1400"/>
                </a:lnTo>
                <a:close/>
              </a:path>
              <a:path fill="darken" w="28860" h="21600">
                <a:moveTo>
                  <a:pt x="28860" y="0"/>
                </a:moveTo>
                <a:lnTo>
                  <a:pt x="28860" y="21600"/>
                </a:lnTo>
                <a:lnTo>
                  <a:pt x="27460" y="20200"/>
                </a:lnTo>
                <a:lnTo>
                  <a:pt x="27460" y="1400"/>
                </a:lnTo>
                <a:close/>
              </a:path>
              <a:path fill="darkenLess" w="28860" h="21600">
                <a:moveTo>
                  <a:pt x="288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60" y="20200"/>
                </a:lnTo>
                <a:close/>
              </a:path>
              <a:path fill="lighten" w="288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60" h="21600">
                <a:moveTo>
                  <a:pt x="7423" y="3794"/>
                </a:moveTo>
                <a:lnTo>
                  <a:pt x="21436" y="10800"/>
                </a:lnTo>
                <a:lnTo>
                  <a:pt x="7423" y="17806"/>
                </a:lnTo>
                <a:close/>
              </a:path>
            </a:pathLst>
          </a:cu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>
            <a:hlinkClick r:id="rId2" action="ppaction://hlinksldjump"/>
          </p:cNvPr>
          <p:cNvSpPr/>
          <p:nvPr/>
        </p:nvSpPr>
        <p:spPr>
          <a:xfrm>
            <a:off x="8747280" y="5589720"/>
            <a:ext cx="288720" cy="215640"/>
          </a:xfrm>
          <a:custGeom>
            <a:avLst/>
            <a:gdLst>
              <a:gd name="textAreaLeft" fmla="*/ 13680 w 288720"/>
              <a:gd name="textAreaRight" fmla="*/ 275040 w 28872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28908" h="21600">
                <a:moveTo>
                  <a:pt x="0" y="0"/>
                </a:moveTo>
                <a:lnTo>
                  <a:pt x="28908" y="0"/>
                </a:lnTo>
                <a:lnTo>
                  <a:pt x="28908" y="21600"/>
                </a:lnTo>
                <a:lnTo>
                  <a:pt x="0" y="21600"/>
                </a:lnTo>
                <a:close/>
              </a:path>
              <a:path fill="lightenLess" w="28908" h="21600">
                <a:moveTo>
                  <a:pt x="0" y="0"/>
                </a:moveTo>
                <a:lnTo>
                  <a:pt x="28908" y="0"/>
                </a:lnTo>
                <a:lnTo>
                  <a:pt x="27508" y="1400"/>
                </a:lnTo>
                <a:lnTo>
                  <a:pt x="1400" y="1400"/>
                </a:lnTo>
                <a:close/>
              </a:path>
              <a:path fill="darken" w="28908" h="21600">
                <a:moveTo>
                  <a:pt x="28908" y="0"/>
                </a:moveTo>
                <a:lnTo>
                  <a:pt x="28908" y="21600"/>
                </a:lnTo>
                <a:lnTo>
                  <a:pt x="27508" y="20200"/>
                </a:lnTo>
                <a:lnTo>
                  <a:pt x="27508" y="1400"/>
                </a:lnTo>
                <a:close/>
              </a:path>
              <a:path fill="darkenLess" w="28908" h="21600">
                <a:moveTo>
                  <a:pt x="289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508" y="20200"/>
                </a:lnTo>
                <a:close/>
              </a:path>
              <a:path fill="lighten" w="289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908" h="21600">
                <a:moveTo>
                  <a:pt x="7448" y="3794"/>
                </a:moveTo>
                <a:lnTo>
                  <a:pt x="21460" y="10800"/>
                </a:lnTo>
                <a:lnTo>
                  <a:pt x="7448" y="17806"/>
                </a:lnTo>
                <a:close/>
              </a:path>
            </a:pathLst>
          </a:cu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61860-E791-4F97-8656-713311FF948F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3320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spectiv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0" y="1483920"/>
            <a:ext cx="91440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85800" y="1143000"/>
            <a:ext cx="8458200" cy="15228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4920" y="1413000"/>
            <a:ext cx="914400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augmenter l'ensemble des contraintes pour mieux prendre compte des règles de cartographi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augmenter l'ontologie : d'autres aspects de la construction de cartes sur mesu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exploiter le corpus de cartes (ressenti et adaptation fine) : "traduction" des connaissances iconographiqu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faire le lien avec GeOnto, l'ontologie des objets géographiqu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0" y="6491160"/>
            <a:ext cx="929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ontexte – Travaux - 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onclusions et perspectiv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0" y="65246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D2FF2-F906-4084-A35A-D950C2896296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5B048-D36B-47FC-BB27-95447D5543D5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685800" y="1143000"/>
            <a:ext cx="8458200" cy="15228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title"/>
          </p:nvPr>
        </p:nvSpPr>
        <p:spPr>
          <a:xfrm>
            <a:off x="13320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ositions "automatiques" de légen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684360" y="333360"/>
            <a:ext cx="8712000" cy="108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6" name="" descr=""/>
          <p:cNvPicPr/>
          <p:nvPr/>
        </p:nvPicPr>
        <p:blipFill>
          <a:blip r:embed="rId1"/>
          <a:srcRect l="0" t="9249" r="0" b="23969"/>
          <a:stretch/>
        </p:blipFill>
        <p:spPr>
          <a:xfrm>
            <a:off x="216000" y="115920"/>
            <a:ext cx="8964360" cy="6723000"/>
          </a:xfrm>
          <a:prstGeom prst="rect">
            <a:avLst/>
          </a:prstGeom>
          <a:ln w="0">
            <a:noFill/>
          </a:ln>
        </p:spPr>
      </p:pic>
      <p:sp>
        <p:nvSpPr>
          <p:cNvPr id="317" name="">
            <a:hlinkClick r:id="rId2" action="ppaction://hlinksldjump"/>
          </p:cNvPr>
          <p:cNvSpPr/>
          <p:nvPr/>
        </p:nvSpPr>
        <p:spPr>
          <a:xfrm>
            <a:off x="179280" y="115920"/>
            <a:ext cx="289080" cy="216000"/>
          </a:xfrm>
          <a:custGeom>
            <a:avLst/>
            <a:gdLst>
              <a:gd name="textAreaLeft" fmla="*/ 13680 w 289080"/>
              <a:gd name="textAreaRight" fmla="*/ 275400 w 2890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8896" h="21600">
                <a:moveTo>
                  <a:pt x="0" y="0"/>
                </a:moveTo>
                <a:lnTo>
                  <a:pt x="28896" y="0"/>
                </a:lnTo>
                <a:lnTo>
                  <a:pt x="28896" y="21600"/>
                </a:lnTo>
                <a:lnTo>
                  <a:pt x="0" y="21600"/>
                </a:lnTo>
                <a:close/>
              </a:path>
              <a:path fill="lightenLess" w="28896" h="21600">
                <a:moveTo>
                  <a:pt x="0" y="0"/>
                </a:moveTo>
                <a:lnTo>
                  <a:pt x="28896" y="0"/>
                </a:lnTo>
                <a:lnTo>
                  <a:pt x="27496" y="1400"/>
                </a:lnTo>
                <a:lnTo>
                  <a:pt x="1400" y="1400"/>
                </a:lnTo>
                <a:close/>
              </a:path>
              <a:path fill="darken" w="28896" h="21600">
                <a:moveTo>
                  <a:pt x="28896" y="0"/>
                </a:moveTo>
                <a:lnTo>
                  <a:pt x="28896" y="21600"/>
                </a:lnTo>
                <a:lnTo>
                  <a:pt x="27496" y="20200"/>
                </a:lnTo>
                <a:lnTo>
                  <a:pt x="27496" y="1400"/>
                </a:lnTo>
                <a:close/>
              </a:path>
              <a:path fill="darkenLess" w="28896" h="21600">
                <a:moveTo>
                  <a:pt x="288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96" y="20200"/>
                </a:lnTo>
                <a:close/>
              </a:path>
              <a:path fill="lighten" w="288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96" h="21600">
                <a:moveTo>
                  <a:pt x="7441" y="3794"/>
                </a:moveTo>
                <a:lnTo>
                  <a:pt x="21454" y="10800"/>
                </a:lnTo>
                <a:lnTo>
                  <a:pt x="7441" y="17806"/>
                </a:lnTo>
                <a:close/>
              </a:path>
            </a:pathLst>
          </a:cu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C509D-64A3-479F-8A39-3049E79FB904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2124000" y="692280"/>
            <a:ext cx="7272360" cy="93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title"/>
          </p:nvPr>
        </p:nvSpPr>
        <p:spPr>
          <a:xfrm>
            <a:off x="13320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égendes à partir de palettes de peintr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685800" y="1143000"/>
            <a:ext cx="8458200" cy="15228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124000" y="549360"/>
            <a:ext cx="7020000" cy="115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32000" y="67320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égendes à partir de palettes de peintr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901800" y="1359000"/>
            <a:ext cx="8458200" cy="15228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900000" y="-27000"/>
            <a:ext cx="8244000" cy="5977080"/>
            <a:chOff x="900000" y="-27000"/>
            <a:chExt cx="8244000" cy="5977080"/>
          </a:xfrm>
        </p:grpSpPr>
        <p:pic>
          <p:nvPicPr>
            <p:cNvPr id="326" name="" descr=""/>
            <p:cNvPicPr/>
            <p:nvPr/>
          </p:nvPicPr>
          <p:blipFill>
            <a:blip r:embed="rId1"/>
            <a:stretch/>
          </p:blipFill>
          <p:spPr>
            <a:xfrm>
              <a:off x="934920" y="0"/>
              <a:ext cx="8209080" cy="589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7" name=""/>
            <p:cNvSpPr/>
            <p:nvPr/>
          </p:nvSpPr>
          <p:spPr>
            <a:xfrm>
              <a:off x="900000" y="-27000"/>
              <a:ext cx="2087640" cy="597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8" name=""/>
          <p:cNvGrpSpPr/>
          <p:nvPr/>
        </p:nvGrpSpPr>
        <p:grpSpPr>
          <a:xfrm>
            <a:off x="900000" y="1700280"/>
            <a:ext cx="8243640" cy="5157720"/>
            <a:chOff x="900000" y="1700280"/>
            <a:chExt cx="8243640" cy="5157720"/>
          </a:xfrm>
        </p:grpSpPr>
        <p:pic>
          <p:nvPicPr>
            <p:cNvPr id="329" name="" descr=""/>
            <p:cNvPicPr/>
            <p:nvPr/>
          </p:nvPicPr>
          <p:blipFill>
            <a:blip r:embed="rId2"/>
            <a:stretch/>
          </p:blipFill>
          <p:spPr>
            <a:xfrm>
              <a:off x="971640" y="1843920"/>
              <a:ext cx="8172000" cy="496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0" name=""/>
            <p:cNvSpPr/>
            <p:nvPr/>
          </p:nvSpPr>
          <p:spPr>
            <a:xfrm>
              <a:off x="900000" y="1700280"/>
              <a:ext cx="2105640" cy="5157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31" name="" descr=""/>
          <p:cNvPicPr/>
          <p:nvPr/>
        </p:nvPicPr>
        <p:blipFill>
          <a:blip r:embed="rId3"/>
          <a:srcRect l="0" t="0" r="52646" b="0"/>
          <a:stretch/>
        </p:blipFill>
        <p:spPr>
          <a:xfrm>
            <a:off x="22320" y="-27000"/>
            <a:ext cx="2317680" cy="3753000"/>
          </a:xfrm>
          <a:prstGeom prst="rect">
            <a:avLst/>
          </a:prstGeom>
          <a:ln w="0">
            <a:noFill/>
          </a:ln>
        </p:spPr>
      </p:pic>
      <p:sp>
        <p:nvSpPr>
          <p:cNvPr id="332" name="">
            <a:hlinkClick r:id="rId4" action="ppaction://hlinksldjump"/>
          </p:cNvPr>
          <p:cNvSpPr/>
          <p:nvPr/>
        </p:nvSpPr>
        <p:spPr>
          <a:xfrm>
            <a:off x="179280" y="6381720"/>
            <a:ext cx="289080" cy="216000"/>
          </a:xfrm>
          <a:custGeom>
            <a:avLst/>
            <a:gdLst>
              <a:gd name="textAreaLeft" fmla="*/ 13680 w 289080"/>
              <a:gd name="textAreaRight" fmla="*/ 275400 w 2890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8896" h="21600">
                <a:moveTo>
                  <a:pt x="0" y="0"/>
                </a:moveTo>
                <a:lnTo>
                  <a:pt x="28896" y="0"/>
                </a:lnTo>
                <a:lnTo>
                  <a:pt x="28896" y="21600"/>
                </a:lnTo>
                <a:lnTo>
                  <a:pt x="0" y="21600"/>
                </a:lnTo>
                <a:close/>
              </a:path>
              <a:path fill="lightenLess" w="28896" h="21600">
                <a:moveTo>
                  <a:pt x="0" y="0"/>
                </a:moveTo>
                <a:lnTo>
                  <a:pt x="28896" y="0"/>
                </a:lnTo>
                <a:lnTo>
                  <a:pt x="27496" y="1400"/>
                </a:lnTo>
                <a:lnTo>
                  <a:pt x="1400" y="1400"/>
                </a:lnTo>
                <a:close/>
              </a:path>
              <a:path fill="darken" w="28896" h="21600">
                <a:moveTo>
                  <a:pt x="28896" y="0"/>
                </a:moveTo>
                <a:lnTo>
                  <a:pt x="28896" y="21600"/>
                </a:lnTo>
                <a:lnTo>
                  <a:pt x="27496" y="20200"/>
                </a:lnTo>
                <a:lnTo>
                  <a:pt x="27496" y="1400"/>
                </a:lnTo>
                <a:close/>
              </a:path>
              <a:path fill="darkenLess" w="28896" h="21600">
                <a:moveTo>
                  <a:pt x="288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96" y="20200"/>
                </a:lnTo>
                <a:close/>
              </a:path>
              <a:path fill="lighten" w="288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96" h="21600">
                <a:moveTo>
                  <a:pt x="7441" y="3794"/>
                </a:moveTo>
                <a:lnTo>
                  <a:pt x="21454" y="10800"/>
                </a:lnTo>
                <a:lnTo>
                  <a:pt x="7441" y="17806"/>
                </a:lnTo>
                <a:close/>
              </a:path>
            </a:pathLst>
          </a:cu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A742A-114F-41E1-8AE1-D91214744948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/>
          <p:nvPr/>
        </p:nvSpPr>
        <p:spPr>
          <a:xfrm>
            <a:off x="8077320" y="5715000"/>
            <a:ext cx="91440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 rot="5400000">
            <a:off x="4762080" y="-2552760"/>
            <a:ext cx="1219320" cy="754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0" y="0"/>
            <a:ext cx="1676520" cy="541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1365120" y="152280"/>
            <a:ext cx="1982880" cy="1982880"/>
          </a:xfrm>
          <a:prstGeom prst="rect">
            <a:avLst/>
          </a:prstGeom>
          <a:ln w="0">
            <a:noFill/>
          </a:ln>
        </p:spPr>
      </p:pic>
      <p:pic>
        <p:nvPicPr>
          <p:cNvPr id="337" name="" descr=""/>
          <p:cNvPicPr/>
          <p:nvPr/>
        </p:nvPicPr>
        <p:blipFill>
          <a:blip r:embed="rId2"/>
          <a:stretch/>
        </p:blipFill>
        <p:spPr>
          <a:xfrm>
            <a:off x="1363680" y="2408400"/>
            <a:ext cx="2006640" cy="200628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3"/>
          <a:stretch/>
        </p:blipFill>
        <p:spPr>
          <a:xfrm>
            <a:off x="5240160" y="154080"/>
            <a:ext cx="1959120" cy="1958760"/>
          </a:xfrm>
          <a:prstGeom prst="rect">
            <a:avLst/>
          </a:prstGeom>
          <a:ln w="0">
            <a:noFill/>
          </a:ln>
        </p:spPr>
      </p:pic>
      <p:pic>
        <p:nvPicPr>
          <p:cNvPr id="339" name="" descr=""/>
          <p:cNvPicPr/>
          <p:nvPr/>
        </p:nvPicPr>
        <p:blipFill>
          <a:blip r:embed="rId4"/>
          <a:stretch/>
        </p:blipFill>
        <p:spPr>
          <a:xfrm>
            <a:off x="5243400" y="2379600"/>
            <a:ext cx="2008440" cy="2008080"/>
          </a:xfrm>
          <a:prstGeom prst="rect">
            <a:avLst/>
          </a:prstGeom>
          <a:ln w="0">
            <a:noFill/>
          </a:ln>
        </p:spPr>
      </p:pic>
      <p:pic>
        <p:nvPicPr>
          <p:cNvPr id="340" name="" descr=""/>
          <p:cNvPicPr/>
          <p:nvPr/>
        </p:nvPicPr>
        <p:blipFill>
          <a:blip r:embed="rId5"/>
          <a:stretch/>
        </p:blipFill>
        <p:spPr>
          <a:xfrm>
            <a:off x="1359000" y="4656240"/>
            <a:ext cx="2062080" cy="2062080"/>
          </a:xfrm>
          <a:prstGeom prst="rect">
            <a:avLst/>
          </a:prstGeom>
          <a:ln w="0">
            <a:noFill/>
          </a:ln>
        </p:spPr>
      </p:pic>
      <p:pic>
        <p:nvPicPr>
          <p:cNvPr id="341" name="" descr=""/>
          <p:cNvPicPr/>
          <p:nvPr/>
        </p:nvPicPr>
        <p:blipFill>
          <a:blip r:embed="rId6"/>
          <a:stretch/>
        </p:blipFill>
        <p:spPr>
          <a:xfrm>
            <a:off x="5237280" y="4614840"/>
            <a:ext cx="2047680" cy="2048040"/>
          </a:xfrm>
          <a:prstGeom prst="rect">
            <a:avLst/>
          </a:prstGeom>
          <a:ln w="0">
            <a:noFill/>
          </a:ln>
        </p:spPr>
      </p:pic>
      <p:sp>
        <p:nvSpPr>
          <p:cNvPr id="342" name=""/>
          <p:cNvSpPr/>
          <p:nvPr/>
        </p:nvSpPr>
        <p:spPr>
          <a:xfrm>
            <a:off x="3271680" y="87480"/>
            <a:ext cx="18208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ud : 2,9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stel : 1,4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umineux :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bre : 2,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che : 3,3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iginale : 2,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éaliste : 3.8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274920" y="2357280"/>
            <a:ext cx="18558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ud : 2,7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stel : 3,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umineux : 3,4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bre : 2,5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che : 3,3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iginale : 2,7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éaliste : 3.6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324240" y="4640400"/>
            <a:ext cx="1935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ud : 2,6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stel : 2,5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umineux : 2,7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bre : 2,5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che : 2,0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iginale : 3,7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éaliste : 2,7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7107120" y="85680"/>
            <a:ext cx="19353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ud :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stel : 3,0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umineux : 3,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bre : 1,9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che : 2,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iginale : 4,6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éaliste : 1,0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7169040" y="2309760"/>
            <a:ext cx="19353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ud : 2,5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stel : 3,8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umineux : 3,8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bre : 2,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che :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iginale : 3,9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éaliste : 1,8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7209000" y="4551480"/>
            <a:ext cx="1935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ud : 2,6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stel : 2,6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umineux : 2,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bre : 3,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che : 1,9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iginale : 3,9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éaliste : 1,7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8" name=""/>
          <p:cNvGrpSpPr/>
          <p:nvPr/>
        </p:nvGrpSpPr>
        <p:grpSpPr>
          <a:xfrm>
            <a:off x="5113440" y="1433520"/>
            <a:ext cx="2547720" cy="1163520"/>
            <a:chOff x="5113440" y="1433520"/>
            <a:chExt cx="2547720" cy="1163520"/>
          </a:xfrm>
        </p:grpSpPr>
        <p:sp>
          <p:nvSpPr>
            <p:cNvPr id="349" name=""/>
            <p:cNvSpPr/>
            <p:nvPr/>
          </p:nvSpPr>
          <p:spPr>
            <a:xfrm>
              <a:off x="6116760" y="1433520"/>
              <a:ext cx="468360" cy="782640"/>
            </a:xfrm>
            <a:prstGeom prst="upArrow">
              <a:avLst>
                <a:gd name="adj1" fmla="val 50000"/>
                <a:gd name="adj2" fmla="val 41776"/>
              </a:avLst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5113440" y="1771560"/>
              <a:ext cx="2547720" cy="8254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a moins réaliste (parmi ces 6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1" name=""/>
          <p:cNvGrpSpPr/>
          <p:nvPr/>
        </p:nvGrpSpPr>
        <p:grpSpPr>
          <a:xfrm>
            <a:off x="1432080" y="1655640"/>
            <a:ext cx="2301840" cy="1148040"/>
            <a:chOff x="1432080" y="1655640"/>
            <a:chExt cx="2301840" cy="1148040"/>
          </a:xfrm>
        </p:grpSpPr>
        <p:sp>
          <p:nvSpPr>
            <p:cNvPr id="352" name=""/>
            <p:cNvSpPr/>
            <p:nvPr/>
          </p:nvSpPr>
          <p:spPr>
            <a:xfrm>
              <a:off x="2320920" y="1655640"/>
              <a:ext cx="469800" cy="782640"/>
            </a:xfrm>
            <a:prstGeom prst="upArrow">
              <a:avLst>
                <a:gd name="adj1" fmla="val 50000"/>
                <a:gd name="adj2" fmla="val 41648"/>
              </a:avLst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432080" y="1978200"/>
              <a:ext cx="2301840" cy="8254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a plus réaliste (parmi ces 6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4" name=""/>
          <p:cNvGrpSpPr/>
          <p:nvPr/>
        </p:nvGrpSpPr>
        <p:grpSpPr>
          <a:xfrm>
            <a:off x="6172200" y="3586320"/>
            <a:ext cx="2971800" cy="909000"/>
            <a:chOff x="6172200" y="3586320"/>
            <a:chExt cx="2971800" cy="909000"/>
          </a:xfrm>
        </p:grpSpPr>
        <p:sp>
          <p:nvSpPr>
            <p:cNvPr id="355" name=""/>
            <p:cNvSpPr/>
            <p:nvPr/>
          </p:nvSpPr>
          <p:spPr>
            <a:xfrm rot="16200000">
              <a:off x="6481800" y="3739680"/>
              <a:ext cx="446040" cy="1065240"/>
            </a:xfrm>
            <a:prstGeom prst="upArrow">
              <a:avLst>
                <a:gd name="adj1" fmla="val 50000"/>
                <a:gd name="adj2" fmla="val 59705"/>
              </a:avLst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505560" y="3586320"/>
              <a:ext cx="2638440" cy="8254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a plus lumineuse (parmi ces 6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7" name=""/>
          <p:cNvGrpSpPr/>
          <p:nvPr/>
        </p:nvGrpSpPr>
        <p:grpSpPr>
          <a:xfrm>
            <a:off x="2554200" y="4132440"/>
            <a:ext cx="3316320" cy="1412280"/>
            <a:chOff x="2554200" y="4132440"/>
            <a:chExt cx="3316320" cy="1412280"/>
          </a:xfrm>
        </p:grpSpPr>
        <p:sp>
          <p:nvSpPr>
            <p:cNvPr id="358" name=""/>
            <p:cNvSpPr/>
            <p:nvPr/>
          </p:nvSpPr>
          <p:spPr>
            <a:xfrm rot="8305800">
              <a:off x="5065560" y="4553640"/>
              <a:ext cx="573120" cy="916200"/>
            </a:xfrm>
            <a:prstGeom prst="upArrow">
              <a:avLst>
                <a:gd name="adj1" fmla="val 50000"/>
                <a:gd name="adj2" fmla="val 39965"/>
              </a:avLst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554200" y="4132440"/>
              <a:ext cx="3111480" cy="8254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a moins lumineuse (parmi ces 6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0" name="">
            <a:hlinkClick r:id="rId7" action="ppaction://hlinksldjump"/>
          </p:cNvPr>
          <p:cNvSpPr/>
          <p:nvPr/>
        </p:nvSpPr>
        <p:spPr>
          <a:xfrm>
            <a:off x="8747280" y="6453360"/>
            <a:ext cx="288720" cy="215640"/>
          </a:xfrm>
          <a:custGeom>
            <a:avLst/>
            <a:gdLst>
              <a:gd name="textAreaLeft" fmla="*/ 13680 w 288720"/>
              <a:gd name="textAreaRight" fmla="*/ 275040 w 28872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28908" h="21600">
                <a:moveTo>
                  <a:pt x="0" y="0"/>
                </a:moveTo>
                <a:lnTo>
                  <a:pt x="28908" y="0"/>
                </a:lnTo>
                <a:lnTo>
                  <a:pt x="28908" y="21600"/>
                </a:lnTo>
                <a:lnTo>
                  <a:pt x="0" y="21600"/>
                </a:lnTo>
                <a:close/>
              </a:path>
              <a:path fill="lightenLess" w="28908" h="21600">
                <a:moveTo>
                  <a:pt x="0" y="0"/>
                </a:moveTo>
                <a:lnTo>
                  <a:pt x="28908" y="0"/>
                </a:lnTo>
                <a:lnTo>
                  <a:pt x="27508" y="1400"/>
                </a:lnTo>
                <a:lnTo>
                  <a:pt x="1400" y="1400"/>
                </a:lnTo>
                <a:close/>
              </a:path>
              <a:path fill="darken" w="28908" h="21600">
                <a:moveTo>
                  <a:pt x="28908" y="0"/>
                </a:moveTo>
                <a:lnTo>
                  <a:pt x="28908" y="21600"/>
                </a:lnTo>
                <a:lnTo>
                  <a:pt x="27508" y="20200"/>
                </a:lnTo>
                <a:lnTo>
                  <a:pt x="27508" y="1400"/>
                </a:lnTo>
                <a:close/>
              </a:path>
              <a:path fill="darkenLess" w="28908" h="21600">
                <a:moveTo>
                  <a:pt x="289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508" y="20200"/>
                </a:lnTo>
                <a:close/>
              </a:path>
              <a:path fill="lighten" w="289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908" h="21600">
                <a:moveTo>
                  <a:pt x="7448" y="3794"/>
                </a:moveTo>
                <a:lnTo>
                  <a:pt x="21460" y="10800"/>
                </a:lnTo>
                <a:lnTo>
                  <a:pt x="7448" y="17806"/>
                </a:lnTo>
                <a:close/>
              </a:path>
            </a:pathLst>
          </a:cu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D4DEF-504F-4C2D-BFEF-F408209FB233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" descr=""/>
          <p:cNvPicPr/>
          <p:nvPr/>
        </p:nvPicPr>
        <p:blipFill>
          <a:blip r:embed="rId1"/>
          <a:srcRect l="9564" t="7209" r="3999" b="21352"/>
          <a:stretch/>
        </p:blipFill>
        <p:spPr>
          <a:xfrm>
            <a:off x="1657440" y="0"/>
            <a:ext cx="5867280" cy="6858000"/>
          </a:xfrm>
          <a:prstGeom prst="rect">
            <a:avLst/>
          </a:prstGeom>
          <a:ln w="0">
            <a:noFill/>
          </a:ln>
        </p:spPr>
      </p:pic>
      <p:sp>
        <p:nvSpPr>
          <p:cNvPr id="362" name="">
            <a:hlinkClick r:id="rId2" action="ppaction://hlinksldjump"/>
          </p:cNvPr>
          <p:cNvSpPr/>
          <p:nvPr/>
        </p:nvSpPr>
        <p:spPr>
          <a:xfrm>
            <a:off x="8748720" y="115920"/>
            <a:ext cx="289080" cy="216000"/>
          </a:xfrm>
          <a:custGeom>
            <a:avLst/>
            <a:gdLst>
              <a:gd name="textAreaLeft" fmla="*/ 13680 w 289080"/>
              <a:gd name="textAreaRight" fmla="*/ 275400 w 2890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8896" h="21600">
                <a:moveTo>
                  <a:pt x="0" y="0"/>
                </a:moveTo>
                <a:lnTo>
                  <a:pt x="28896" y="0"/>
                </a:lnTo>
                <a:lnTo>
                  <a:pt x="28896" y="21600"/>
                </a:lnTo>
                <a:lnTo>
                  <a:pt x="0" y="21600"/>
                </a:lnTo>
                <a:close/>
              </a:path>
              <a:path fill="lightenLess" w="28896" h="21600">
                <a:moveTo>
                  <a:pt x="0" y="0"/>
                </a:moveTo>
                <a:lnTo>
                  <a:pt x="28896" y="0"/>
                </a:lnTo>
                <a:lnTo>
                  <a:pt x="27496" y="1400"/>
                </a:lnTo>
                <a:lnTo>
                  <a:pt x="1400" y="1400"/>
                </a:lnTo>
                <a:close/>
              </a:path>
              <a:path fill="darken" w="28896" h="21600">
                <a:moveTo>
                  <a:pt x="28896" y="0"/>
                </a:moveTo>
                <a:lnTo>
                  <a:pt x="28896" y="21600"/>
                </a:lnTo>
                <a:lnTo>
                  <a:pt x="27496" y="20200"/>
                </a:lnTo>
                <a:lnTo>
                  <a:pt x="27496" y="1400"/>
                </a:lnTo>
                <a:close/>
              </a:path>
              <a:path fill="darkenLess" w="28896" h="21600">
                <a:moveTo>
                  <a:pt x="288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96" y="20200"/>
                </a:lnTo>
                <a:close/>
              </a:path>
              <a:path fill="lighten" w="288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96" h="21600">
                <a:moveTo>
                  <a:pt x="7441" y="3794"/>
                </a:moveTo>
                <a:lnTo>
                  <a:pt x="21454" y="10800"/>
                </a:lnTo>
                <a:lnTo>
                  <a:pt x="7441" y="17806"/>
                </a:lnTo>
                <a:close/>
              </a:path>
            </a:pathLst>
          </a:cu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DCD53-CD28-4194-9CC0-1100FC19E688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3668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 carte sur mesure au COG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85800" y="1143000"/>
            <a:ext cx="8458200" cy="15228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0" y="314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187280" y="1484280"/>
            <a:ext cx="6829560" cy="51228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0" y="6491160"/>
            <a:ext cx="929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ontext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- Travaux - Conclu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0" y="65977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97303-5D65-4FD4-8602-43161108C02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33668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 carte sur mesure au COG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13600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truction de cartes "sur mesure" par un système automatique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égration des règles de cartograph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aptation au contexte de l'utilisate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se en compte de ses goû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se en compte des propriétés symboliques et esthétiques des coule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ur des utilisateurs novices ou exper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ints-clés de l'automatisation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maliser les règles de construction d'une car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éfinir le contexte de l'utilisate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naître et interpréter les goûts des utilisate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85800" y="1143000"/>
            <a:ext cx="8458200" cy="15228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314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0" y="6491160"/>
            <a:ext cx="929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ontext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- Travaux - Conclu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65246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3A675-E416-4340-BFF7-21B3006EB52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33668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érents travaux pour la carte sur mes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885672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/ Constitution du corp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/ Terminologie de la cartograph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/ Description du ressenti des lecteurs des cart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/ Description de cartes : modèle de description formalisée d'une car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/ Description du besoin des utilisateurs : la carte de randonnée idé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/ Cartographie topographique et cartographie thémati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/ Construction d'une ontologie de la cartograph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85800" y="1143000"/>
            <a:ext cx="8458200" cy="15228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0" y="6491160"/>
            <a:ext cx="929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ontexte - 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Travaux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- Conclu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65246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77869-5BA0-454B-87AB-7D143A2D0EE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3668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jectifs de la pré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79280" y="1484280"/>
            <a:ext cx="878544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ésenter les travaux menés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ire un bilan criti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s comparer à des travaux exis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éfinir des travaux complémentaires nécessai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égrer les ressources construites à des ressources existantes et partagé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ur les rendre disponi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ur les compléter et les amélior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85800" y="1143000"/>
            <a:ext cx="8458200" cy="15228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6491160"/>
            <a:ext cx="929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ontexte - 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Travaux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- Conclu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5246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DB05B-8775-4757-8691-62A86DBC45F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3668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/ Constitution du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4360" y="1844640"/>
            <a:ext cx="82087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ctifs visés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ssembler un corpus textuel et un corpus iconographique qui rendent compte des règles de construction d'une carte et du ressenti des lecte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poser d'un corpus numérique exploitable avec des outils informat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 électronique ou papier (scan+OC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85800" y="1143000"/>
            <a:ext cx="8458200" cy="15228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6491160"/>
            <a:ext cx="929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ontexte - 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Travaux : Constitution du corpus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- Conclu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65246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2E093-3400-46F6-BCC7-30580A212D8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2T15:17:11Z</dcterms:created>
  <dc:creator>domingues</dc:creator>
  <dc:description/>
  <dc:language>en-US</dc:language>
  <cp:lastModifiedBy>CDomingues</cp:lastModifiedBy>
  <dcterms:modified xsi:type="dcterms:W3CDTF">2009-05-04T12:59:58Z</dcterms:modified>
  <cp:revision>181</cp:revision>
  <dc:subject/>
  <dc:title>Cartes à la carte</dc:title>
</cp:coreProperties>
</file>