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978A-A50E-4BE0-96FD-BE22738C8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Méthodes d’analyse quantitativ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 que l’on veut obten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alyse contrastive =&gt; corpus de référence : corpus entier / corpus de travail : sous-corp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sé pour erreurs syntaxiques (cord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sation : exp. reg + notion de grammaire locale pour normaliser la dénomination des ca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GRAMME EN VB .NET (Commun Runtime Language) pour annotation  lignes en g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des locuteurs pour regrouper tous les propos d’un même locu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ersion lemmatisée du corpus pour l’analyse lexicométrique (lexico3 / hyper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aitement lexicométrique = traitement statistique sur le lex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ociations lexicales = segments répétés / mot fréquemment associés (hyper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ème : mots hors contexte. Il est nécessaire d’observer l’orientation axiologique du contex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emple qui suit : filtre pour quantifier occ. critiques des randonneurs, exprimant leur be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e droit trouvé dans concordances de &lt;manquer&gt;, notamment dans la question « qu’est ce qu’il manque dans la carte 1 :50000 actuelle ?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nc on s’adapte au niveau de langage des locuteurs et aux contenu des ré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rer résu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rer résu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èmes trouvés en partant des résul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ortements sociaux : thème mineur repris par le grou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’où l’idée d’exploiter cette enquête pour alimenter la description que font les utilisateurs de la ca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eux réaliser le guide d’entretien (ajout d’un glossaire pour l’animateur/transcript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t 441 ko en format b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 tirer partie de la mise en page word : lignes gras =animateur, autres=locu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t :Comment situer cette enquête par rapport aux enquêtes marketing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r : pourquoi avoir choisi méthode 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F1A-D2E5-4D2A-8EBF-9A35484F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6B6-D7C0-4B0B-874B-22B89B36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F33-AF6E-45DA-A368-BA03AEBA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D9A-6D0A-4F9A-91E0-1D807B0A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047A-6C7C-4ED6-A6BD-6E6B2A47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ABEF-9FDC-495C-B251-A04DA603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CF21-8139-4B68-8740-80B2B019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837C-DBDB-4D29-A235-BD27684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574B-30BE-479B-8B4E-94864056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F391-A40E-418B-A2D7-86E4578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CF4A-7A57-489B-B799-8DDA662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FEB-C7A8-4D3C-B2DD-166EFA01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4315-76FB-493C-977D-26D41BE6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2782-DD5C-4B01-ABB5-B74D0EE1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A8F9-4CE8-4662-9471-8AA82EC2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AD43-F4A0-4C30-B45A-C1AC4B7C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50CB-A5D1-42E5-8C77-D72F1470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67E-0B20-4170-9827-1F5DEFBD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F36-0610-44B9-9954-3DFDFAB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3D1-90C2-4EA6-B110-CD881692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E1F-56C1-4F97-8F2A-F94C6AC6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4E6-6CD4-4B01-9C69-A11DD156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B09-92FA-41D5-8403-50E36CD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E80-094C-48F3-8EA7-314295C1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A205-0475-44DA-B921-3F181652B6D8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D8F2-DF00-4640-94DA-4F7A73AEEC55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537372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0066"/>
                </a:solidFill>
                <a:latin typeface="Arial"/>
              </a:rPr>
              <a:t>Stage du 5 mai au 24 octo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0066"/>
                </a:solidFill>
                <a:latin typeface="Arial"/>
              </a:rPr>
              <a:t>Priscille BALDIT – M2 Traductique et Gestion de l’Information – INA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2637000"/>
          <a:ext cx="7417080" cy="216036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21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Exploitation d’un corpus d’interview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pour définir les attentes des randonne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par rapport à la carte de randonnée idé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1917720" cy="1193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1085760" cy="129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EBD-7879-480F-A8EB-ACDAF9A997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éthodes et outils  (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métrie : traitement statistique portant sur le vocabulaire d’un corpus de tex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érêts de la lexicométr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analyse non fondée sur des a p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er une masse textuelle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té d’étudier le vocabulaire employé par les randon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e en place de la méth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du texte en « parties » par l’insertion d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oupe de randonneur : vélo / vtt / fréquents / occasionne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cuteu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estion posé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alisation d’analyses contrastives avec le logiciel Lexico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Méthodes et outil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Traitements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5E7-1149-4906-84DB-304815997E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éthodes et outils (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d'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érage de séquences textuelles pour définir les profils des randonneurs et décri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eur pratique de la randonné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eurs besoins par rapport à la légende de la ca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leurs attentes par rapport à la carte de randonnée idé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 du vocabulaire employé en fonction du type de randonneur interrogé (spécificités lexicales, associations lexic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on de marqueurs linguistiques pour repére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es relatifs à la construction de la carte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égende, rou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queurs modaux =&gt; opinion des locuteurs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e préfèrer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ectifs descripteurs de la carte =&gt; perception qu’ont les randonneurs de la carte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ouillon, clair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Méthodes et outil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Traitements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D9E-36C9-4653-9952-7E62138E33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îne de trait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0716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traite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Trait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3286080"/>
            <a:ext cx="3600720" cy="86364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toyage du corp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 fautes d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sation de la grap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4365720"/>
            <a:ext cx="3600720" cy="7189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ion structurel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/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5302080"/>
            <a:ext cx="3600720" cy="6480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mat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4148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5280" y="206388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rire profils de randonne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06064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er le traitement statistique sur les occurrences des m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3284640"/>
            <a:ext cx="2087640" cy="72216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écificités lex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3284640"/>
            <a:ext cx="2374920" cy="7189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 lex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5084640"/>
            <a:ext cx="4464000" cy="4320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 de marqueurs linguis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414972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148360" y="40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812000" y="40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365720"/>
            <a:ext cx="4464000" cy="5047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des termes en contex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551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732640"/>
            <a:ext cx="4464000" cy="5047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 contras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642-2757-47EA-AB2D-BD300BDEA9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étraitement du corpu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9280" y="2055960"/>
          <a:ext cx="8713800" cy="43988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440424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Série 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les coordonnées lombaires ne sont pas uti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’est plutôt intéressant pour mo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l y a des graduations, des repères, ça pourrait me serv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oi ça m’intéresse de savoir où je me sit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’est trop petit, la superficie couverte est trop peti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ouvre 20kms sur 30k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ça devrait être le dou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a va à 5 et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is c’est peut être pas ces 20 ou 30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érerais que la ville d’Orthez soit plus centrée, parce que là elle est dans le coin et que si on a envie d’aller par là, on se retrouve avec une autre rou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De toutes façons, il y a un découpage au niveau natioanl, donc on ne peu pas déplac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elle me fait mal aux yeux la 50000. Il y a trop d’information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2514600"/>
                          <a:tab algn="l" pos="3692520"/>
                          <a:tab algn="l" pos="5538960"/>
                          <a:tab algn="l" pos="7385040"/>
                          <a:tab algn="l" pos="923148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ère la 25</a:t>
                      </a:r>
                      <a:r>
                        <a:rPr b="0" lang="fr-FR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ses chem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0" y="155592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e d’ori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EE2-B6E9-482E-A03F-6A6C88009D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étraitement du corpu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8000" y="2055960"/>
          <a:ext cx="8712000" cy="4641840"/>
        </p:xfrm>
        <a:graphic>
          <a:graphicData uri="http://schemas.openxmlformats.org/drawingml/2006/table">
            <a:tbl>
              <a:tblPr/>
              <a:tblGrid>
                <a:gridCol w="8712000"/>
              </a:tblGrid>
              <a:tr h="46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Série 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les coordonnées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lombaires} Lambert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 sont pas uti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’est plutôt intéressant pour mo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l y a des graduations, des repères, ça pourrait me serv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oi ça m’intéresse de savoir où je me sit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’est trop petit, la superficie couverte est trop peti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ouvre 20kms sur 30k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ça devrait être le dou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a va à 5 et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is c’est peut être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pas ces} pas assez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 ou 30 k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érerais que la ville d’Orthez soit plus centrée, parce que là elle est dans le coin et que si on a envie d’aller par là, on se retrouve avec une autre rou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De toutes façons, il y a un découpage au niveau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natioanl} national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onc on ne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peu} peut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s déplac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elle me fait mal aux yeux la 50000. Il y a trop d’information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ère la 25</a:t>
                      </a:r>
                      <a:r>
                        <a:rPr b="0" lang="fr-FR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ses chem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0" y="155592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toyage du corpus :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76720" y="3789000"/>
            <a:ext cx="647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2058840"/>
            <a:ext cx="3419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1008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410082"/>
                </a:solidFill>
                <a:latin typeface="Arial"/>
              </a:rPr>
              <a:t>Recherche de patrons du type : [N tête appartenant à la cartographie] + [AD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1008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410082"/>
                </a:solidFill>
                <a:latin typeface="Arial"/>
              </a:rPr>
              <a:t>Mot inconnu du dictionnaire (Unit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1008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410082"/>
                </a:solidFill>
                <a:latin typeface="Arial"/>
              </a:rPr>
              <a:t>Erreurs syntaxiques (Cord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516720" y="4581360"/>
            <a:ext cx="1511280" cy="100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26370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496-8436-4566-8EFF-459B5D4E75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étraitement du corpu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08000" y="2055960"/>
          <a:ext cx="8712000" cy="4641840"/>
        </p:xfrm>
        <a:graphic>
          <a:graphicData uri="http://schemas.openxmlformats.org/drawingml/2006/table">
            <a:tbl>
              <a:tblPr/>
              <a:tblGrid>
                <a:gridCol w="8712000"/>
              </a:tblGrid>
              <a:tr h="46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Série 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les coordonnées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lombaires} Lambert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 sont pas uti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’est plutôt intéressant pour mo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l y a des graduations, des repères, ça pourrait me serv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oi ça m’intéresse de savoir où je me sit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’est trop petit, la superficie couverte est trop peti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ouvre 20kms sur </a:t>
                      </a:r>
                      <a:r>
                        <a:rPr b="1" lang="fr-FR" sz="1600" spc="-1" strike="noStrike">
                          <a:solidFill>
                            <a:srgbClr val="04fc51"/>
                          </a:solidFill>
                          <a:latin typeface="Arial"/>
                        </a:rPr>
                        <a:t>{30kms}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4fc51"/>
                          </a:solidFill>
                          <a:latin typeface="Arial"/>
                        </a:rPr>
                        <a:t>30 km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ça devrait être le dou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a va à 5 et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is c’est peut être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pas ces} pas assez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 ou </a:t>
                      </a:r>
                      <a:r>
                        <a:rPr b="1" lang="fr-FR" sz="1600" spc="-1" strike="noStrike">
                          <a:solidFill>
                            <a:srgbClr val="04fc51"/>
                          </a:solidFill>
                          <a:latin typeface="Arial"/>
                        </a:rPr>
                        <a:t>30 km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érerais que la ville d’Orthez soit plus centrée, parce que là elle est dans le coin et que si on a envie d’aller par là, on se retrouve avec une autre rou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De toutes façons, il y a un découpage au niveau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natioanl} national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onc on ne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peu} peut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s déplac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elle me fait mal aux yeux la </a:t>
                      </a:r>
                      <a:r>
                        <a:rPr b="1" lang="fr-FR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50000[carte50000]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Il y a trop d’information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ère la </a:t>
                      </a:r>
                      <a:r>
                        <a:rPr b="1" lang="fr-FR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25[carte25] 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ses chem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0" y="155592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toyage du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0640" y="1484280"/>
            <a:ext cx="7353360" cy="457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51D-6877-4198-929D-D0C3BAC428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étraitement du corpus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79280" y="1989000"/>
          <a:ext cx="8712360" cy="4641840"/>
        </p:xfrm>
        <a:graphic>
          <a:graphicData uri="http://schemas.openxmlformats.org/drawingml/2006/table">
            <a:tbl>
              <a:tblPr/>
              <a:tblGrid>
                <a:gridCol w="8712360"/>
              </a:tblGrid>
              <a:tr h="46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question=5A&gt;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Série 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les coordonnées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lombaires} Lambert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 sont pas util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’est plutôt intéressant pour moi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l y a des graduations, des repères, ça pourrait me servi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oi ça m’intéresse de savoir où je me situ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’est trop petit, la superficie couverte est trop petit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question=5A_r1&gt;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 couvre 20 km sur </a:t>
                      </a:r>
                      <a:r>
                        <a:rPr b="1" lang="fr-FR" sz="1600" spc="-1" strike="noStrike">
                          <a:solidFill>
                            <a:srgbClr val="04fc51"/>
                          </a:solidFill>
                          <a:latin typeface="Arial"/>
                        </a:rPr>
                        <a:t>{30kms}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4fc51"/>
                          </a:solidFill>
                          <a:latin typeface="Arial"/>
                        </a:rPr>
                        <a:t>30 km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ça devrait être le doubl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_groupement_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a va à 5 et 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is c’est peut être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pas ces} pas assez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 ou </a:t>
                      </a:r>
                      <a:r>
                        <a:rPr b="1" lang="fr-FR" sz="1600" spc="-1" strike="noStrike">
                          <a:solidFill>
                            <a:srgbClr val="04fc51"/>
                          </a:solidFill>
                          <a:latin typeface="Arial"/>
                        </a:rPr>
                        <a:t>30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érerais que la ville d’Orthez soit plus centrée, parce que là elle est dans le coin et que si on a envie d’aller par là, on se retrouve avec une autre rout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De toutes façons, il y a un découpage au niveau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natioanl} national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onc on ne peut pas déplac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elle me fait mal aux yeux la 50000. Il y a trop d’information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ère la 25 pour ses chem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713040" y="1368360"/>
            <a:ext cx="5467320" cy="5516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77E-0853-47C3-A5A3-DBC70FC21D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étraitement du corpus (5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02280" indent="-3024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1989000"/>
          <a:ext cx="8712360" cy="4641840"/>
        </p:xfrm>
        <a:graphic>
          <a:graphicData uri="http://schemas.openxmlformats.org/drawingml/2006/table">
            <a:tbl>
              <a:tblPr/>
              <a:tblGrid>
                <a:gridCol w="8712360"/>
              </a:tblGrid>
              <a:tr h="46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question=5A&gt;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Série 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8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les coordonnées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lombaires} Lambert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 sont pas util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10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 C’est plutôt intéressant pour moi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1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 Il y a des graduations, des repères, ça pourrait me servi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10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 Moi ça m’intéresse de savoir où je me situ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2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c’est trop petit, la superficie couverte est trop petit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question=5A_r1&gt;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 couvre 20 km sur </a:t>
                      </a:r>
                      <a:r>
                        <a:rPr b="1" lang="fr-FR" sz="1600" spc="-1" strike="noStrike">
                          <a:solidFill>
                            <a:srgbClr val="04fc51"/>
                          </a:solidFill>
                          <a:latin typeface="Arial"/>
                        </a:rPr>
                        <a:t>{30kms}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4fc51"/>
                          </a:solidFill>
                          <a:latin typeface="Arial"/>
                        </a:rPr>
                        <a:t>30 km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2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ça devrait être le doubl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_groupement_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a va à 5 et 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5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 mais c’est peut être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pas ces} pas assez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 ou </a:t>
                      </a:r>
                      <a:r>
                        <a:rPr b="1" lang="fr-FR" sz="1600" spc="-1" strike="noStrike">
                          <a:solidFill>
                            <a:srgbClr val="04fc51"/>
                          </a:solidFill>
                          <a:latin typeface="Arial"/>
                        </a:rPr>
                        <a:t>30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1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 Je préférerais que la ville d’Orthez soit plus centrée, parce que là elle est dans le coin et que si on a envie d’aller par là, on se retrouve avec une autre rout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7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7 De toutes façons, il y a un découpage au niveau </a:t>
                      </a:r>
                      <a:r>
                        <a:rPr b="1" lang="fr-FR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{natioanl} national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onc on ne peut pas déplac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6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 elle me fait mal aux yeux la 50000. Il y a trop d’information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&lt;locuteur=loc1&gt;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 je préfère la 25 pour ses chem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684600" y="1339920"/>
            <a:ext cx="5495760" cy="55450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D66-E880-4005-885C-A41D59A539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étraitement du corpus (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mat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005440" y="2492280"/>
          <a:ext cx="3743280" cy="381024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38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iel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DIAL Analyseur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ag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ion automatique des erreurs syntaxiq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x des lemmes souvent cor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quetage d’un ensemble de fich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ques sur le tex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971640" y="2492280"/>
          <a:ext cx="3744720" cy="37609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37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iel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Tag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ag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tion « ignorer balises xml 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corpus nécessite normalisation au niveau de la ponctuation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 j’ai »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’est pas recon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ix des lemmes souvent erron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ts [faire:V] marquants[marquant:ADJ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8AA-5A21-46DE-B3C1-6DF8953EBA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îne de traitement (rappel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0716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traite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Trait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9280" y="3286080"/>
            <a:ext cx="3600720" cy="86364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toyage du corp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 fautes d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sation de la grap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4365720"/>
            <a:ext cx="3600720" cy="7189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ion structurel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/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5302080"/>
            <a:ext cx="3600720" cy="6480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mat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92360" y="4148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3284640"/>
            <a:ext cx="2087640" cy="72216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écificités lex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16720" y="3284640"/>
            <a:ext cx="2374920" cy="7189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 lex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5084640"/>
            <a:ext cx="4464000" cy="4320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 de marqueurs linguis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75280" y="2063880"/>
            <a:ext cx="4968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rire profils de randonne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leur pratique de rando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leurs beso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leurs at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7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206064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er le traitement statistique sur les occurrences des m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48360" y="414972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48360" y="40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12000" y="40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84720" y="4365720"/>
            <a:ext cx="4464000" cy="5047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des termes en contex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5732640"/>
            <a:ext cx="4464000" cy="5047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 contras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72360" y="551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D0D-214A-4506-B507-045F12D5B7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136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Plan</a:t>
            </a:r>
            <a:br>
              <a:rPr sz="3900"/>
            </a:br>
            <a:r>
              <a:rPr b="1" lang="fr-FR" sz="2400" spc="-1" strike="noStrike">
                <a:solidFill>
                  <a:srgbClr val="330066"/>
                </a:solidFill>
                <a:latin typeface="Arial"/>
              </a:rPr>
              <a:t>   </a:t>
            </a:r>
            <a:br>
              <a:rPr sz="2400"/>
            </a:br>
            <a:r>
              <a:rPr b="1" lang="fr-FR" sz="2400" spc="-1" strike="noStrike">
                <a:solidFill>
                  <a:srgbClr val="330066"/>
                </a:solidFill>
                <a:latin typeface="Arial"/>
              </a:rPr>
              <a:t>I - Contexte et objectifs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330066"/>
                </a:solidFill>
                <a:latin typeface="Arial"/>
              </a:rPr>
              <a:t>II - Présentation du corpus, des méthodes et outils de traitement du corpus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330066"/>
                </a:solidFill>
                <a:latin typeface="Arial"/>
              </a:rPr>
              <a:t>III - Chaîne de traitement proposée</a:t>
            </a:r>
            <a:br>
              <a:rPr sz="2400"/>
            </a:br>
            <a:r>
              <a:rPr b="1" lang="fr-FR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Prétraitement </a:t>
            </a:r>
            <a:br>
              <a:rPr sz="2000"/>
            </a:b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330066"/>
                </a:solidFill>
                <a:latin typeface="Arial"/>
              </a:rPr>
              <a:t>Traitements lexicométriques et extraction d'information </a:t>
            </a:r>
            <a:br>
              <a:rPr sz="2000"/>
            </a:br>
            <a:br>
              <a:rPr sz="2000"/>
            </a:br>
            <a:r>
              <a:rPr b="1" lang="fr-FR" sz="2400" spc="-1" strike="noStrike">
                <a:solidFill>
                  <a:srgbClr val="330066"/>
                </a:solidFill>
                <a:latin typeface="Arial"/>
              </a:rPr>
              <a:t>IV - Synthèse des résultats et interprétation 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330066"/>
                </a:solidFill>
                <a:latin typeface="Arial"/>
              </a:rPr>
              <a:t>V - Conclusion et perspectives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330066"/>
                </a:solidFill>
                <a:latin typeface="Arial"/>
              </a:rPr>
              <a:t>VI - Questions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2D9-4827-48CB-A13F-6CC1E714D6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372360" y="4292640"/>
            <a:ext cx="13683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013360"/>
            <a:ext cx="18000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93880" y="6238800"/>
            <a:ext cx="10810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21160" y="3646440"/>
            <a:ext cx="10810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67320" y="5662440"/>
            <a:ext cx="1079640" cy="28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65880" y="5013360"/>
            <a:ext cx="93672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2240" y="6310440"/>
            <a:ext cx="71928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93880" y="4941720"/>
            <a:ext cx="1368360" cy="28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67320" y="4654440"/>
            <a:ext cx="129564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93880" y="3286080"/>
            <a:ext cx="12970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93880" y="4005360"/>
            <a:ext cx="71928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67320" y="3357720"/>
            <a:ext cx="129564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21160" y="2998800"/>
            <a:ext cx="9367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93880" y="5013360"/>
            <a:ext cx="1152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93880" y="5302080"/>
            <a:ext cx="936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93880" y="4294080"/>
            <a:ext cx="936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93880" y="3646440"/>
            <a:ext cx="718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75438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1. Décrire l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 pratique de randonné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484280"/>
            <a:ext cx="88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22160" indent="-1774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bservation d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écificités lexicales posi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mes graphiques les plus fréquentes dans une partie par rapport à l’ensemble du corpu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822240" y="2565360"/>
          <a:ext cx="7134120" cy="4065480"/>
        </p:xfrm>
        <a:graphic>
          <a:graphicData uri="http://schemas.openxmlformats.org/drawingml/2006/table">
            <a:tbl>
              <a:tblPr/>
              <a:tblGrid>
                <a:gridCol w="1830240"/>
                <a:gridCol w="1755720"/>
                <a:gridCol w="1903680"/>
                <a:gridCol w="16444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a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qu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ê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vr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è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l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-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be de niv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ég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iné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il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qu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s de rep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u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bu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é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ét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niv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d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C17-B82A-4403-99D2-D7902FFFC8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172360" y="2421000"/>
            <a:ext cx="792360" cy="287280"/>
          </a:xfrm>
          <a:prstGeom prst="rect">
            <a:avLst/>
          </a:prstGeom>
          <a:solidFill>
            <a:srgbClr val="669999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67640" y="2133720"/>
            <a:ext cx="792000" cy="287280"/>
          </a:xfrm>
          <a:prstGeom prst="rect">
            <a:avLst/>
          </a:prstGeom>
          <a:solidFill>
            <a:srgbClr val="cccc00"/>
          </a:soli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36000" y="1846440"/>
            <a:ext cx="792000" cy="287280"/>
          </a:xfrm>
          <a:prstGeom prst="rect">
            <a:avLst/>
          </a:prstGeom>
          <a:solidFill>
            <a:srgbClr val="330066"/>
          </a:solidFill>
          <a:ln w="3816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1. Décrire l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 pratique de randonné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48428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71400" indent="-1648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sultats et interprét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1680" indent="-27288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rastructures différentes en fonction du type de randonné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1680" indent="-27288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soins différents en termes d’objets de la légende et de lisibili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11680" indent="-27288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Échelle de carte différente selon le besoin et la pratique de randonné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71640" y="2924280"/>
          <a:ext cx="7134120" cy="3701880"/>
        </p:xfrm>
        <a:graphic>
          <a:graphicData uri="http://schemas.openxmlformats.org/drawingml/2006/table">
            <a:tbl>
              <a:tblPr/>
              <a:tblGrid>
                <a:gridCol w="1830240"/>
                <a:gridCol w="1755720"/>
                <a:gridCol w="1903680"/>
                <a:gridCol w="164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a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qu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ro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irc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chevron</a:t>
                      </a:r>
                      <a:r>
                        <a:rPr b="0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reli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p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carte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ê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è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R</a:t>
                      </a:r>
                      <a:r>
                        <a:rPr b="1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he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courbe</a:t>
                      </a:r>
                      <a:r>
                        <a:rPr b="0" i="1" lang="fr-FR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 </a:t>
                      </a:r>
                      <a:r>
                        <a:rPr b="1" i="1" lang="fr-FR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de</a:t>
                      </a:r>
                      <a:r>
                        <a:rPr b="0" i="1" lang="fr-FR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 </a:t>
                      </a:r>
                      <a:r>
                        <a:rPr b="1" i="1" lang="fr-FR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niv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carte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-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gé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balad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tiné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points de repè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ég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bu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il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qu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d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en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he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kilomét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cccc00"/>
                          </a:solidFill>
                          <a:latin typeface="Arial"/>
                        </a:rPr>
                        <a:t>déniv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carte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é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ét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04D-0967-48B8-B3CC-5FFFB9EAF0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2. Les besoin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des randonneurs</a:t>
            </a: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7777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par rapport au contenu de la légende de la c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éthode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ion de marqueurs mod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84360" y="2060640"/>
          <a:ext cx="5039640" cy="4797000"/>
        </p:xfrm>
        <a:graphic>
          <a:graphicData uri="http://schemas.openxmlformats.org/drawingml/2006/table">
            <a:tbl>
              <a:tblPr/>
              <a:tblGrid>
                <a:gridCol w="2366640"/>
                <a:gridCol w="2673000"/>
              </a:tblGrid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queur modal indiquant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mple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e opin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&lt;penser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j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trouv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pour m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e préfé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&lt;préférer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&lt;avantag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souha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j’aimerais bien 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si … ce serait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e crit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&lt;être&gt; &lt;trop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pas asse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il n’y a p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évaluation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on le degré d’appréciation) 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ion moyenn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 satisfais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&lt;aimer&gt; &lt;bien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c’est 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j’aime 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c’est pas mal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 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il n’y a 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(il) man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- j’aime 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1682640" y="5340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0360" y="2421000"/>
            <a:ext cx="295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du contexte gauche et droit en concor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res pour repérer les occurrences du patron : &lt;marqueur modal&gt; + &lt;objet de la légen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C19-508E-4D2A-BB86-B8B50C21BE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2. Les besoin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des randonneurs</a:t>
            </a: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82640" y="5340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388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par rapport au contenu de la légende de la c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18252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e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 d’expressions indiquant la cri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110160" y="2133720"/>
            <a:ext cx="8980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phe Unitex pour extraire le patron morphosyntaxiqu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&lt;manque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+ [aspect manquant]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7861320" cy="42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111-3F86-4B16-BAA3-2F13F1D7FB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2. Les besoin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des randonneurs</a:t>
            </a: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82640" y="5340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388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par rapport au contenu de la légende de la c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1825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e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 d’expressions indiquant la crit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-110880" y="2133720"/>
            <a:ext cx="92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phe Unitex pour extraire le patron morphosyntaxiqu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&lt;n’y a pas …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+ [aspect manquant]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11756" t="19508" r="11246" b="23425"/>
          <a:stretch/>
        </p:blipFill>
        <p:spPr>
          <a:xfrm>
            <a:off x="539640" y="2492280"/>
            <a:ext cx="7920000" cy="436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AF5-C3F1-45E2-AE47-B0DA094D49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83960"/>
            <a:ext cx="7543800" cy="10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</a:t>
            </a:r>
            <a:br>
              <a:rPr sz="36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2. Les besoins des randonneu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84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que présentant le nombre d’occurrences relatives de chaque aspect manquant répertorié en fonction du type de randonneu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9253440" cy="3549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1125360"/>
            <a:ext cx="7705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65040" indent="76320"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par rapport au contenu de la légende de la c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76320">
              <a:spcBef>
                <a:spcPts val="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76320">
              <a:spcBef>
                <a:spcPts val="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7632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sultats et interprét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794-B864-43B5-B6A7-63674DC711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-27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</a:t>
            </a:r>
            <a:br>
              <a:rPr sz="36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3. Les attentes des randonneu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125360"/>
            <a:ext cx="7705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65040" indent="76320"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par rapport à la carte de randonnée idé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76320">
              <a:spcBef>
                <a:spcPts val="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76320">
              <a:spcBef>
                <a:spcPts val="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7632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éthode : observation des adjectifs descripteurs de la car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63752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Adjectifs en gras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: liste d’adjectifs utilisés par des experts [Dominguès] [Renar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2311560"/>
          <a:ext cx="5194440" cy="4070160"/>
        </p:xfrm>
        <a:graphic>
          <a:graphicData uri="http://schemas.openxmlformats.org/drawingml/2006/table">
            <a:tbl>
              <a:tblPr/>
              <a:tblGrid>
                <a:gridCol w="1843200"/>
                <a:gridCol w="1592280"/>
                <a:gridCol w="175896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ée pas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cision et quantité d’inform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cise charg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é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taillé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ég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, lisi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é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i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d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uill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il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qu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5796000" y="2276640"/>
            <a:ext cx="31687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lvl="1" marL="546840" indent="-274680">
              <a:spcBef>
                <a:spcPts val="400"/>
              </a:spcBef>
              <a:buClr>
                <a:srgbClr val="669999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ère différente de décrire la carte entre experts et non 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840" indent="-274680">
              <a:spcBef>
                <a:spcPts val="400"/>
              </a:spcBef>
              <a:buClr>
                <a:srgbClr val="669999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840" indent="-274680">
              <a:spcBef>
                <a:spcPts val="400"/>
              </a:spcBef>
              <a:buClr>
                <a:srgbClr val="669999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otation différente en fonction du context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03640" y="2852640"/>
            <a:ext cx="280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084720" y="3936960"/>
          <a:ext cx="2880000" cy="1982880"/>
        </p:xfrm>
        <a:graphic>
          <a:graphicData uri="http://schemas.openxmlformats.org/drawingml/2006/table">
            <a:tbl>
              <a:tblPr/>
              <a:tblGrid>
                <a:gridCol w="1511640"/>
                <a:gridCol w="1368360"/>
              </a:tblGrid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asion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tis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 ce n’est pas attractif, c’est tro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e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 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question sur la carte 1 : 50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 des couleurs assez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e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 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question sur les ingrédients de la carte optim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91B-A70A-46DC-BE47-D9005414FD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-27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</a:t>
            </a:r>
            <a:br>
              <a:rPr sz="36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3. Les attentes des randonneu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125360"/>
            <a:ext cx="7705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65040" indent="76320">
              <a:spcBef>
                <a:spcPts val="4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par rapport à la carte de randonnée idé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76320">
              <a:spcBef>
                <a:spcPts val="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76320">
              <a:spcBef>
                <a:spcPts val="99"/>
              </a:spcBef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7632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éthode : observation des associations lexic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3280" y="651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Traitement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2206800"/>
            <a:ext cx="430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l =&gt; pas attra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p de vert =&gt; fouil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e 1 : 50000 =&gt; trop gris / v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eurs vives =&gt; plus l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ever =&gt; quadr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 les courbes de niveau =&gt; aé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vrons =&gt; difficul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gende =&gt; simple / intu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p d’information =&gt; pas claire, fouil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ée =&gt; ill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éger =&gt; lég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30920" y="1916280"/>
            <a:ext cx="331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410082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10082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10082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cou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99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99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99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505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repérage sur la carte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99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99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99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99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99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quantité d’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99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654-7AB0-4845-B2D3-6C8C8104B7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543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Synthèse : profils de randonneur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27716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s de randonneu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7172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tique de la randonné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7172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oins et attentes par rapport à la légen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185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10082"/>
                </a:solidFill>
                <a:latin typeface="Arial"/>
              </a:rPr>
              <a:t>coul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185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repérage sur la carte</a:t>
            </a:r>
            <a:r>
              <a:rPr b="1" lang="en-US" sz="1600" spc="-1" strike="noStrike">
                <a:solidFill>
                  <a:srgbClr val="66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185760"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99"/>
                </a:solidFill>
                <a:latin typeface="Arial"/>
              </a:rPr>
              <a:t>quantité d’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627280" y="1268280"/>
          <a:ext cx="6516720" cy="1787760"/>
        </p:xfrm>
        <a:graphic>
          <a:graphicData uri="http://schemas.openxmlformats.org/drawingml/2006/table">
            <a:tbl>
              <a:tblPr/>
              <a:tblGrid>
                <a:gridCol w="1224000"/>
                <a:gridCol w="1297080"/>
                <a:gridCol w="1224000"/>
                <a:gridCol w="1411200"/>
                <a:gridCol w="1360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de r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ers, G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chelle de carte utilis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50 (rep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27280" y="3068640"/>
          <a:ext cx="6516720" cy="3600360"/>
        </p:xfrm>
        <a:graphic>
          <a:graphicData uri="http://schemas.openxmlformats.org/drawingml/2006/table">
            <a:tbl>
              <a:tblPr/>
              <a:tblGrid>
                <a:gridCol w="1252440"/>
                <a:gridCol w="1268640"/>
                <a:gridCol w="1265040"/>
                <a:gridCol w="1355760"/>
                <a:gridCol w="1374840"/>
              </a:tblGrid>
              <a:tr h="17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qu’ils aimeraient en mo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-coordonnées Lamb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-autoroutes moins mises en évid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- coord. Lamb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- quadrill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- quadrill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- ne pas mettre routes en 1</a:t>
                      </a:r>
                      <a:r>
                        <a:rPr b="0" i="1" lang="en-US" sz="1600" spc="-1" strike="noStrike" baseline="30000">
                          <a:solidFill>
                            <a:srgbClr val="669999"/>
                          </a:solidFill>
                          <a:latin typeface="Arial"/>
                        </a:rPr>
                        <a:t>er</a:t>
                      </a:r>
                      <a:r>
                        <a:rPr b="0" i="1" lang="en-US" sz="1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 dans légen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- quadrill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- légende peu l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qu’il aimeraient en 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contraste</a:t>
                      </a:r>
                      <a:r>
                        <a:rPr b="0" i="1" lang="en-US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- chev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- état des vo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- infos tourist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- couleurs v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- courbes de niveau plus lisi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- infos tourist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- couleurs vives et contrasté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- infos tourist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669999"/>
                          </a:solidFill>
                          <a:latin typeface="Arial"/>
                        </a:rPr>
                        <a:t>- indications prat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- couleurs v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- courbes de nive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– Traitements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128-8DDE-40B8-B4A6-613DC3F97F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s randonneurs souhaitent nouvelle édition carte 1 : 50000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s relatives à la randonnée, au tour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égende plus simple (moins d’informations) pour les occasionn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égende plus précise (information mieux ciblée) pour les cycl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eurs plus vives et contras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uhaits assez contradictoires entre les différentes catégories de randonneurs, voire au sein d’un groupe de randonneu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ites de ces méthodes, qui dépendent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la précision de la 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la précision de l’expression des locu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la représentativité des locu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a priori du guide d'entret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comportements soci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– Traitements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684-6727-477F-9AF7-D6909C222D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47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arketing IGN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quête réalisée auprès de randonneurs sur l'utilisation de la carte pour la randonnée, en particulier sur la carte 1 :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 à terme : nouvelle édition de la série orange (1 : 50000),  cartes thématiqu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ire COG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 SISSI (Servir de l’Information Spatiale Sur Interne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es sur mes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constitution de bases de connaissance permettant d’exploiter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l’utilisateur fait de son besoin, pour l’aider à concevoir une carte adapt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ation à l’utilisat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aide à l’extraction de données, aide à la construction de légende, aide à la description de traitements géographiq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3280" y="6516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exte – 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rpus – Méthodes et outils – Traitements – Synthè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E9C-BB41-4E3B-8A91-09E9DD609C35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paraison avec les résultats de l’analyse qualitativ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– Traitements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2205000"/>
          <a:ext cx="8640720" cy="3686040"/>
        </p:xfrm>
        <a:graphic>
          <a:graphicData uri="http://schemas.openxmlformats.org/drawingml/2006/table">
            <a:tbl>
              <a:tblPr/>
              <a:tblGrid>
                <a:gridCol w="1513080"/>
                <a:gridCol w="3446280"/>
                <a:gridCol w="368136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 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 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lta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s forme de verbatim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ponses présentées selon l’ordre chronologique des ques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hé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ém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ent sur les a priori du guide d’entret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tion de ressources linguistiques à partir des propos des personnes interrog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30066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-exploitables pour l’étude d’un autre thè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1F2-39E4-410A-8D0E-C75646BC21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Perspective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r l’étude de ce corpus d’interview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r quelles sont les attentes de utilisateurs par rapport à d'autres aspects de la carte (support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ter les reprises anaphoriques : remplacer les occurrences de « idem » par le syntagme qu’il rem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er les résultats obtenus lors de l’extraction d’information automatique (bruit et silence) en utilisant des méthodes d’analyse diffé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utiliser la méthodolog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er une enquête simi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r un forum de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eux réaliser le guide d’entret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– Corpus – Méthodes et outils – Traitements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57B-8394-46FD-A91A-B10AA6433B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Questions ?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C64-8760-44B7-9F84-6946246706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mple de carte 1 : 500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69720" y="1349280"/>
            <a:ext cx="7947360" cy="53928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348000" y="1341360"/>
            <a:ext cx="5473800" cy="448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7BF-2AB7-49B3-BEA3-F5AB614A5A7F}" type="slidenum">
              <a:t>33</a:t>
            </a:fld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artant du texte des interview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dentifier le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teu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leur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tivité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et leur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ttent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ar rapport à la carte de randonnée idéa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raire et organiser les descripteurs de cartes afin d’améliorer le modèle de description ex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Établir des méthodes (outils linguistiques et statistiques) réutilisables sur un autre corp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3280" y="6516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exte – 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rpus – Méthodes et outils – Traitements – Synthè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085-9952-4F88-A486-EBBA70AB60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 corp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447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ésultats de l’enquête commandée par le service marketing IGN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nscription du déroulement d’interviews collectées au cours de quatre réun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animateur pose des questions ouvertes en suivant un guide d’entretien réalisé en collaboration avec l’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égories de randonneurs interrogés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nneurs fréqu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nneurs occasionn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olume du corpus : 150 pages (854 Ko format Wor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88000" y="4076640"/>
            <a:ext cx="88596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35640" y="4005360"/>
            <a:ext cx="914400" cy="1428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211640" y="4149720"/>
            <a:ext cx="1114560" cy="142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Corpu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Méthodes et outils – Traitements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46B-88D5-4813-B2AC-136BCBC8BF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de d’entretien de l’enquê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ématiques devant être abordées par l’animateur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Présentation de chaque randonne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L’offre de supports de randonné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Le « cahier des charges » de la carte de randonnée selon la c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. Les représentations et usages des 3 échelles : 25 000, 50 000, 100 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. Les attentes spontanées relatives à la carte au 1 : 50 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. Test de 3 maquet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. Les souhaits de mise en oeuvre de l’off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596360" y="1989000"/>
            <a:ext cx="885600" cy="1428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12000" y="5229360"/>
            <a:ext cx="914400" cy="1428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093080" y="5157720"/>
            <a:ext cx="1114200" cy="1428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Corpu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Méthodes et outils – Traitements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F43-E991-4436-B0A2-1D75A8011F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mple de carte 1 : 500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69720" y="1349280"/>
            <a:ext cx="7947360" cy="5392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348000" y="1341360"/>
            <a:ext cx="5473800" cy="448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500-218A-4859-9CC4-7F519BE36C7B}" type="slidenum">
              <a:t>7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26080"/>
            <a:ext cx="289080" cy="1655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4fc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4076640"/>
            <a:ext cx="216000" cy="28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4fc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2349360"/>
            <a:ext cx="360360" cy="144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4fc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4365720"/>
            <a:ext cx="259236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3789360"/>
            <a:ext cx="2952720" cy="28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2060640"/>
            <a:ext cx="2592360" cy="28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rait du corpu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9280" y="1989000"/>
          <a:ext cx="8712360" cy="4464000"/>
        </p:xfrm>
        <a:graphic>
          <a:graphicData uri="http://schemas.openxmlformats.org/drawingml/2006/table">
            <a:tbl>
              <a:tblPr/>
              <a:tblGrid>
                <a:gridCol w="8712360"/>
              </a:tblGrid>
              <a:tr h="46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tation Série 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les coordonnées lombaires ne sont pas uti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’est plutôt intéressant pour mo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Il y a des graduations, des repères, ça pourrait me serv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oi ça m’intéresse de savoir où je me sit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c’est trop petit, la superficie couverte est trop peti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ouvre 20kms sur 30k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ça devrait être le dou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a va à 5 et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is c’est peut être pas ces 20 ou 30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érerais que la ville d’Orthez soit plus centrée, parce que là elle est dans le coin et qu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on a envie d’aller par là, on se retrouve avec une autre rou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De toutes façons, il y a un découpage au niveau natioanl, donc on ne peu pas déplac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elle me fait mal aux yeux la 50000. Il y a trop d’information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e préfère la 25</a:t>
                      </a:r>
                      <a:r>
                        <a:rPr b="0" lang="fr-FR" sz="1600" spc="-1" strike="noStrike">
                          <a:solidFill>
                            <a:srgbClr val="410082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ses chem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Corpu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Méthodes et outils – Traitements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DA1-EA53-4CB7-95CB-47BB7C8454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e étude qualita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quête réalisée pour obtenir des éléments qualitatifs non chiff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quête sous forme de questions ouv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ment traiter un corpus de réponses à des questions ouvert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éthodes CAQDAS : logiciels d’aide à la codification thématique des données à partir d’une grille d’analyse pré-étab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tistique textuelle ou lexicométrie [Lebart &amp; Salem, 1994] : méthode d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nalyse quant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3280" y="65160"/>
            <a:ext cx="72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Contexte 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– Corpus –</a:t>
            </a:r>
            <a:r>
              <a:rPr b="1" lang="en-US" sz="1800" spc="-1" strike="noStrike">
                <a:solidFill>
                  <a:srgbClr val="d8d8ec"/>
                </a:solidFill>
                <a:latin typeface="Arial"/>
              </a:rPr>
              <a:t> Méthodes et outils – Traitements – Synthès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70A-ACB1-4C80-B7C8-F2CDCFC66D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7:58:19Z</dcterms:created>
  <dc:creator>PBaldit</dc:creator>
  <dc:description/>
  <dc:language>en-US</dc:language>
  <cp:lastModifiedBy>tolone</cp:lastModifiedBy>
  <dcterms:modified xsi:type="dcterms:W3CDTF">2009-02-16T10:41:21Z</dcterms:modified>
  <cp:revision>548</cp:revision>
  <dc:subject/>
  <dc:title>Diapositive 1</dc:title>
</cp:coreProperties>
</file>