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1C6080-D29F-446A-AC39-7AEBBD01E3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F563AD-B1F9-4C9F-A383-11DBB9F233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CE9497-FB3D-4C3C-AC6C-4CFD267575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54EFF7-58C8-4B20-8E2E-330FC8761E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CFC141-EBA8-4F2D-B364-FD5462C07C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884F3D-B698-4C74-B1E4-783C50C2E1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EFBD67-2D48-4F0F-A97B-C2F90F776D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B62244-BB05-400E-B9E9-9BA2E6D451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8F1835-FB29-41AB-8FEF-763FFC5F9F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9D7F9D-5CFE-4FBC-AE3F-9E3B9CE7C8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FB1241-B537-4FA9-A097-6D8A89D24D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518A26-8A9D-4C70-88A7-F21528AE0C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7D16CD-7152-4B07-A5AD-19FD7955B2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F7FAC6-2A99-4C2E-A7CF-6F6D8B9200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B95277-3777-4D62-882B-1CDD7FD921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C06E78-0984-4617-95E8-F4C02D1940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0F778D-B64E-4E9E-8ED1-4FA78B499C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2C4F94-71B8-48F9-85FB-6F63DCAF28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8E9D68-9381-46D6-B4F9-0955380724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46364C-35C4-48BD-B8AF-6C031D15DA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BF4FAF-4BAC-4A2C-93C2-2F7B8FEE9C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BFDA84-4C31-4544-BBE7-29074D1E3E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477699-2DD8-4EA2-9983-E5A6C4FF9C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8CFF74-9034-4EF6-9469-A3CD12BB60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5A9EAC-CE38-43E3-81D4-313CD6B762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79310A-1797-4ED4-BE84-670B8DFB2A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36EE86-1C08-4932-9A98-4D979931DD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CEA4C0-3CC6-4878-A495-48AD180A34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ACFAC6-2DD6-49F6-ADEF-B54388B1A7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BCFD71-AAE6-4D79-B158-93507C2DF5F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CD303A-7700-4B42-B7BD-179C741EA2C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4FEA40-5BB6-498D-B80B-57B7B66704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AA7253-EB1B-4E42-AB8F-2EDF664E9A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2EF2F6-4172-41A1-96EB-7ABEF26912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3D55B2-96CF-41FA-85EB-35297A0719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24E529-B104-4516-9C7A-9555BDA466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F97029-7127-45C7-9268-DB77E4EBAF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868217-9271-488E-9352-1469532ACC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CF9100-C392-4E4B-9E41-DBDF918C81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812B33-FF9C-42AD-9BA6-B4D675189C3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DD01A1-20FC-4C1C-A893-79E604042A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317C32-7C30-4860-8622-E85173592E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F8D306-64CC-4175-AA00-637546FC52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18C218-AF67-4F70-99F3-FC09C3FE83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0AE8ED-4544-4E26-89A4-7C9F7DF4F0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FB9937-168A-41E6-983E-D2B94FC542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60909D-4DF7-4BBA-8292-C3C397F9FE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44397C-F730-4C05-A5D3-B7F82A4929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1E6747-CE24-4AAD-83EA-6C9EB6E47C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96B8E7-C7C4-45F1-B65A-34376FF612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748-C53E-41A4-ABC5-3C6D5BA4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9AE-ECF0-433C-B2E6-162033A0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340-B4B2-4481-B2C3-B98A88CD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C0F-E9F6-485B-878A-7BA63946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4C0-3C60-4AAC-B52F-25C4191D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7B9B-C643-451A-9378-341C4206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9C5E-9380-4090-A351-B3B1C7F4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293-B3ED-4714-A765-5DF0EA85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53CC-BDB6-4336-A178-866B5277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EA0-54F0-4298-AB0D-A9A9D06C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BF58-E500-40B0-9EB4-A70CE273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C0B-96A8-443A-BF43-14C88345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05/12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en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D81289-1ED6-4878-B1E1-220DEA74F20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600200"/>
            <a:ext cx="7772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Les constructions à verbe support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du persa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629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c4c4c"/>
                </a:solidFill>
                <a:latin typeface="Calibri"/>
                <a:ea typeface="DejaVu Sans"/>
              </a:rPr>
              <a:t>Pollet Samvel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c4c4c"/>
                </a:solidFill>
                <a:latin typeface="Calibri"/>
                <a:ea typeface="DejaVu Sans"/>
              </a:rPr>
              <a:t>Université de Paris 3 – Mondes Iranien et ind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c4c4c"/>
                </a:solidFill>
                <a:latin typeface="Calibri"/>
                <a:ea typeface="DejaVu Sans"/>
              </a:rPr>
              <a:t>Kim ger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c4c4c"/>
                </a:solidFill>
                <a:latin typeface="Calibri"/>
                <a:ea typeface="DejaVu Sans"/>
              </a:rPr>
              <a:t>Université de Paris 3 - LP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6984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Identification des séquences N-V et Prep-N-V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productivité vs. « collocationnalité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600200"/>
            <a:ext cx="82296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Phénomène bien connu : la relation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collocationnell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entre le verbe et le n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Noms sémantiquement proches, voire synonymes se combinant avec deux verbes différe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a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hesâda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karda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* hesâda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or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jalousi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air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jalousi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p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envier’, ‘être jaloux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a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* raš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karda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rašk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or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Jalousi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air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jalousi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porter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 ‘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envier’, ‘être jaloux’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On doit établir l’inventaire pour ces séquences lexicalisées et/ou attest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86040" y="6356520"/>
            <a:ext cx="323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82F7FB-C6CB-4105-835C-324B42CDFEB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6984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Identification des séquences N-V et Prep-N-V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Produ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600200"/>
            <a:ext cx="8229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Toutefois, il faut également tenir compte de la productivité de séquences : production ou interprétation « on line », sur la base d’ analogie avec d’autres constructions ou des régularités syntaxiques et sémantiques que les locuteurs généralisent à partir d’un certain nombre d’exemples régulier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Exemples de constructions lexicalisé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a.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be Omi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telefon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à Omi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téléphon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 a passé un coup de fil à Omid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be Omi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faks / telegrâf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à Omi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fax /télégramm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envoyé un fax / un télégramme à Omid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Sur la base de ces constructions existantes , on observe depuis quelques années la construction suivant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d.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be Omi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imeyl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à Omi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emai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envoyé un email à Omid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en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C6C525-D52E-4920-A429-8F49968BE5C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6984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Identification des séquences N-V et Prep-N-V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Produ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La séquence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imeyl zada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‘envoyer un email’ se comporte exactement comme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aks zada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‘envoyer un fax’/’faxer’ et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telegrâf zada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envoyer un télégramme’/° ‘télégrammer’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Construction transiti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2)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a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in xabar-râ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e Omi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fak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z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ce nouvelle-od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à Omi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ax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faxé cette nouvelle à Omid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in xabar-râ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e Omi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imeyl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z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ce nouvelle-od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à Omi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email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(Lit.) ‘Maryam a emailé cette nouvelle à Omid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La production de nouvelles constructions semble se faire en conformité avec certaines régularités syntaxiques et sémant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86040" y="6356520"/>
            <a:ext cx="323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C0102E-1D5A-4F8C-A87E-D1A0F0E7404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6984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Identification des séquences N-V et Prep-N-V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Repérage et codage man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6002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Entreprise depuis trois ans sous forme de tableaux exce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Codage des propriétés syntaxiques, sémantiques, exemples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Une douzaine de verbes concernés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frapper’ : 500 constructions envir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dâdan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donner’ : 400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gereftan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prendre’ : 3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xordan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heurter’/ ‘manger’ : 3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âvardan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amener’ : 1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…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Dans l’ensemble environ 2000 entré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Problème : difficile pour les constructions avec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kardan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faire’ ou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šodan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devenir’, qui sont beaucoup plus productiv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57680" y="6356520"/>
            <a:ext cx="316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C33E3C-BD11-4CBD-B11F-203A85D36CE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Etude d’un 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Calibri"/>
                <a:ea typeface="DejaVu Sans"/>
              </a:rPr>
              <a:t>Le verbe </a:t>
            </a:r>
            <a:r>
              <a:rPr b="0" i="1" lang="en-GB" sz="3200" spc="-1" strike="noStrike">
                <a:solidFill>
                  <a:srgbClr val="4c4c4c"/>
                </a:solidFill>
                <a:latin typeface="Calibri"/>
                <a:ea typeface="DejaVu Sans"/>
              </a:rPr>
              <a:t>za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28960" y="6356520"/>
            <a:ext cx="3090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013EF4-BFCF-4C5E-B0CA-FFDBBC9D8B1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-504720" y="1366920"/>
            <a:ext cx="10153440" cy="5419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85880" y="0"/>
            <a:ext cx="73580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tude d’un cas 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zadan ‘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apper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en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23E889-E20D-48B4-8956-44E87200D79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Etude d’un cas : </a:t>
            </a:r>
            <a:r>
              <a:rPr b="0" i="1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zadan ‘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frapper</a:t>
            </a:r>
            <a:r>
              <a:rPr b="0" i="1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600200"/>
            <a:ext cx="822960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ntérê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Plusieurs emplois non-support , donc un contenu sémantique plus fort que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karda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faire’ par exemple, qui n’est employé qu’en tant que verbe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Mais aussi de très nombreux emplois support, dans des constructions  variées et avec des noms prédicatifs ou n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C’est un des verbes support les plus productifs après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karda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faire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l devrait être plus simple de déceler les régularités syntaxiques et sémantiques pour rendre compte de la productiv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57680" y="6356520"/>
            <a:ext cx="316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2FAC0C-4923-4B04-A9E0-A9288A9DF82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Emplois non-support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 zada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 : ‘battre’, ‘frappe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52712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N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N1(-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râ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152712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âba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Omid-râ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52712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âbak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Omid-odd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52712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âbak a frappé Omid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52712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N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N1(-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râ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bâ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 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152712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âba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Omid-râ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â ču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52712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âba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Omid-od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avec bâto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52712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âbak a frappé Omid avec un bâton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52712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N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bâ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 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b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 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152712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âba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â sang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e divâ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52712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âba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avec caillou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à mu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52712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(Lit.) ‘Bâbak a frappé le mur avec des cailloux.’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86040" y="6356520"/>
            <a:ext cx="323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D7589D-5171-48DD-A20F-AA7FC511F77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Emplois non-support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 zada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 : ‘mettre en contact’, ‘touche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432080"/>
                <a:tab algn="l" pos="31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N0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N1(-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râ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be 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1432080"/>
                <a:tab algn="l" pos="31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Omid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dast-aš-râ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be divâ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1432080"/>
                <a:tab algn="l" pos="31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Omid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main-3.sg-odd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à mu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frapper.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1432080"/>
                <a:tab algn="l" pos="31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Omid a touché la table de sa main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1432080"/>
                <a:tab algn="l" pos="31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(Lit.) ‘Omid a mis en contact sa main avec la tabl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1432080"/>
                <a:tab algn="l" pos="31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432080"/>
                <a:tab algn="l" pos="31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N0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bâ 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be 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1432080"/>
                <a:tab algn="l" pos="31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2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bâ dast-aš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be miz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1432080"/>
                <a:tab algn="l" pos="31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avec main-3.s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à tabl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1432080"/>
                <a:tab algn="l" pos="31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Omid a touché la table de sa main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14760" y="6356520"/>
            <a:ext cx="3305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0606D8-F0D3-4BDE-B451-E2FA21900CE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emplois non-support </a:t>
            </a:r>
            <a:br>
              <a:rPr sz="3600"/>
            </a:br>
            <a:r>
              <a:rPr b="0" i="1" lang="en-GB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 zadan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 : ‘poser’, ‘coller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040" y="1571760"/>
            <a:ext cx="82296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1076400"/>
                <a:tab algn="l" pos="2236680"/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N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N1(-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râ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b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 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1076400"/>
                <a:tab algn="l" pos="2236680"/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tablo-râ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be divâ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076400"/>
                <a:tab algn="l" pos="2236680"/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tableau-od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à mu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frapper.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076400"/>
                <a:tab algn="l" pos="2236680"/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Omid a accroché le tableau au mur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076400"/>
                <a:tab algn="l" pos="2236680"/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1076400"/>
                <a:tab algn="l" pos="2236680"/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N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N1(-râ)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bâ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 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b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 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1076400"/>
                <a:tab algn="l" pos="2236680"/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aks-râ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bâ punez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be divâ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076400"/>
                <a:tab algn="l" pos="2236680"/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photo-od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avec punais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à mu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076400"/>
                <a:tab algn="l" pos="2236680"/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Omid a collé la photo au mur avec une punaise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1076400"/>
                <a:tab algn="l" pos="2236680"/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gol-râ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bâ sanjâq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be mu-hâ-š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076400"/>
                <a:tab algn="l" pos="2236680"/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fleur-od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avec épingl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à cheveu-pl-3.s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076400"/>
                <a:tab algn="l" pos="2236680"/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épinglé la fleur à ses cheveux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356520"/>
            <a:ext cx="3162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B6DC35-2D51-4A51-BBB9-D63BEE9A111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Le lexique verbal du per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Environ 280 verbes simples, dont une centaine usit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Les « concepts verbaux » réalisés par des séquences composées d’un verbe, à contenu lexical plus ou moins faible, et un élément préverbal (nom, adjectif, adverbe, préposition, groupe prépositionn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Classe verbale fermée : le lexique verbal est enrichi exclusivement par des « constructions à verbe support » (au sens large du ter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356520"/>
            <a:ext cx="3090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54C1CC-EFC4-4D41-8A6F-8F908E765B8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Emplois non-support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 zada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 : ‘appliquer’, ‘étale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600200"/>
            <a:ext cx="822960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1076400"/>
                <a:tab algn="l" pos="17049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N0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N1(-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râ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b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 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1076400"/>
                <a:tab algn="l" pos="17049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Omid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n krem-râ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be surat-aš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076400"/>
                <a:tab algn="l" pos="17049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ce crème-od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à visage-3.s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076400"/>
                <a:tab algn="l" pos="17049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Omid a appliqué cette crème à son visage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076400"/>
                <a:tab algn="l" pos="17049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076400"/>
                <a:tab algn="l" pos="17049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2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râng-râ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bâ bro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be divâ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076400"/>
                <a:tab algn="l" pos="17049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Omid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avec bross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à mu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frapp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076400"/>
                <a:tab algn="l" pos="17049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Omid a appliqué la peinture au mur avec une brosse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076400"/>
                <a:tab algn="l" pos="17049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43120" y="6356520"/>
            <a:ext cx="337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66EE47-D05C-4B6C-9877-47BE48DBF6D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zadan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emplois support</a:t>
            </a:r>
            <a:br>
              <a:rPr sz="40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Coup, sévice (N= type de c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8760" y="1643040"/>
            <a:ext cx="822960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N0 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be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N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N1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1)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be omid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sili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N0 Prép-N N1 zad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à Omid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gifle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donné une gifle à Omid.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2)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omid-râ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sili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N0 N1-râ N2 zad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Omid-odd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gifle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 frapp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giflé Omid.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sili-e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be Omi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gifle-ez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à Omi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le gifle de Maryam à Omid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4)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Omid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az Maryam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sili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 xord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(Converse :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xordan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 de Maryam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gifle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manger.p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Omid a reçu une gifle d’Omid.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D’autres noms :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čak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gifle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kešide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gifle’ , kotak ‘dérouillée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lagad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coup de pied’,  mošt ‘coup de poing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ordang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coup de pied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pasgardani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coup sur la nuque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seqelme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coup’, 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tane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bousculade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tipâ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coup de pied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tudahâni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coup sur la bouche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tuguši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gifle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tusari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coup sur la tête’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71840" y="6356520"/>
            <a:ext cx="344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886422-C250-4BD2-8764-60F6557F63D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zadan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emplois support</a:t>
            </a:r>
            <a:br>
              <a:rPr sz="40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Coup, sévice (N= instrument, ar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1600200"/>
            <a:ext cx="82296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N0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b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N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1)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be omi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čâq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à Omid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coutea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donné un coup de couteau à Omid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2)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-râ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čâqu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N0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N1-râ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N2 za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-od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couteau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frapper.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blessé Omid au couteau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*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čâqu-y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be Om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couteau-ez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à Om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(pour dire) ‘le coup de couteau de Maryam à Omid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4)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az 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čâqu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xor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(Converse :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xordan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de 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coutea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nger.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 a reçu un coup de couteau de Maryam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Autres noms 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ču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bâton, bois’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kâr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couteau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šallâq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fouet’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šâx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corne’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sa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pierre’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tâziân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fouet’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ti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balle’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xanja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poignard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43120" y="6356520"/>
            <a:ext cx="337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2A77CD-4A62-476E-9BE1-E4DEEA4F377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zadan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emplois support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Préjudic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600200"/>
            <a:ext cx="822960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N0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b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N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1)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be omi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latm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N0 Prép-N N1 za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à Omid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préjudi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porté préjudice à Omid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2)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* 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-râ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latme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* N0 N1-râ N2 za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-od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préjudi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frapper.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(pour dire) ‘Maryam a porté préjudice à Omid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latme-y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be Om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couteau-ez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à Om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(pour dire) ‘le préjudice de Maryam à Omid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4)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az 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latm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xord /di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(Converse :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xordan, didan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de 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préjudi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nger.pas /voir.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 a subi des préjudices de Maryam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D’autres noms 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âsi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dégât, dommage’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latm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dégât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préjudic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’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sadam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préjudice’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zara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perte’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zarb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coup, préjudice’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zarba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coup’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57680" y="6356520"/>
            <a:ext cx="316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3F0F76-1B63-4618-9130-530DE6CD8B4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zadan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emplois support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calomnie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1600200"/>
            <a:ext cx="82296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N0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b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N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1)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be omi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tohmat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N0 Prép-N N1 za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à Omid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calomni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camlomnié Omid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2)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* 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-râ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tohmat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* N0 N1-râ N2 za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-od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calomni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frapper.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(pour dire) ‘Maryam a calomnié à Omid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tohmat-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be Om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calomnie-ez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à Om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(pour dire) ‘la préjudice de Maryam à Omid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4)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az 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tohmat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xor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(Converse :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xordan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de 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préjudi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nger.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 a subi des préjudices de Maryam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D’autres noms :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bohtân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‘calomnie’,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efterâ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‘calomnie’,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ettehâ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‘accusation’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86040" y="6356520"/>
            <a:ext cx="323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4A3BF2-F1F9-4C0B-B277-11EEC45876F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zadan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emplois support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upercherie’, ‘subterfug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1432080"/>
                <a:tab algn="l" pos="250992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N0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b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N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1)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be omi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kalak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à Omid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supercheri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roulé Omid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2)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* 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-râ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kalak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N0 N1-râ N2 za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-od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couteau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frapper.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432080"/>
                <a:tab algn="l" pos="250992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Kalak-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be Om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supercherie-ez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à Om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L’entourloupe de Maryam à Omid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4)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az 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kalak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xor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(Converse :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xordan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de Maryam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supercheri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nger.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mid a été trompé par Maryam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1432080"/>
                <a:tab algn="l" pos="250992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1432080"/>
                <a:tab algn="l" pos="250992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D’autres noms :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bambul, blof, gul, hile, hoqqe, nâro, neyrang, rud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86040" y="6356520"/>
            <a:ext cx="323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1F2627-DB2C-478B-9B6D-C8728937C8B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zadan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emplois support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cri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600200"/>
            <a:ext cx="822960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347840"/>
                <a:tab algn="l" pos="2508120"/>
                <a:tab algn="l" pos="38592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N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N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frapp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(Complé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347840"/>
                <a:tab algn="l" pos="2508120"/>
                <a:tab algn="l" pos="38592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347840"/>
                <a:tab algn="l" pos="2508120"/>
                <a:tab algn="l" pos="38592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aryâ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(k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âba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res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347840"/>
                <a:tab algn="l" pos="2508120"/>
                <a:tab algn="l" pos="38592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cri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qu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âba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arriver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347840"/>
                <a:tab algn="l" pos="2508120"/>
                <a:tab algn="l" pos="38592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 cria que Bâbak était arrivé.’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347840"/>
                <a:tab algn="l" pos="2508120"/>
                <a:tab algn="l" pos="38592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341280"/>
                <a:tab algn="l" pos="1347840"/>
                <a:tab algn="l" pos="2508120"/>
                <a:tab algn="l" pos="38592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xabar-e âmadan-e Omid-râ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aryâ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347840"/>
                <a:tab algn="l" pos="2508120"/>
                <a:tab algn="l" pos="38592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nouvelle-ez arriver-ez Omid-od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cri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347840"/>
                <a:tab algn="l" pos="2508120"/>
                <a:tab algn="l" pos="38592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  a crié la nouvelle d’arrivée d’Omid.’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347840"/>
                <a:tab algn="l" pos="2508120"/>
                <a:tab algn="l" pos="38592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1280"/>
                <a:tab algn="l" pos="1347840"/>
                <a:tab algn="l" pos="2508120"/>
                <a:tab algn="l" pos="38592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Variante de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: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kešida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tirer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347840"/>
                <a:tab algn="l" pos="2508120"/>
                <a:tab algn="l" pos="38592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1280"/>
                <a:tab algn="l" pos="1347840"/>
                <a:tab algn="l" pos="2508120"/>
                <a:tab algn="l" pos="38592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Autres  noms :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âng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dâ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aryâ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havâ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jâ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jiq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na’r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… (tous signifiant ‘cri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347840"/>
                <a:tab algn="l" pos="2508120"/>
                <a:tab algn="l" pos="38592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347840"/>
                <a:tab algn="l" pos="2508120"/>
                <a:tab algn="l" pos="38592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en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DB68BC-253F-4AD1-805D-A1A4593F5F0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zadan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emplois support</a:t>
            </a:r>
            <a:br>
              <a:rPr sz="40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Action à l’aide d’un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N0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N1(-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râ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)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N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tâq-râ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jâru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chmabre-od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balai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balayé la chambre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N0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N1(-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râ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)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N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2)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otâq-râ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jâru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chmabre-od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balai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balayé la chambre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N0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N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arenR"/>
              <a:tabLst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pâr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i-zan-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ram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ipf-frapper.pres-3.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Maryam rame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Autres noms :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arre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scie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bil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pêle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jâru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balai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lif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gant de toilette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mesvâk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brosse à dents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otu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fer à repasser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pâru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rame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rekâb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pédale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šâne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peigne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sohân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lime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suzan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aiguille’, </a:t>
            </a:r>
            <a:r>
              <a:rPr b="0" i="1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tolombe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‘pompe’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43120" y="6356520"/>
            <a:ext cx="337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19217C-6255-4468-8209-0A6B3664347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zadan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emplois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‘Application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606680"/>
                <a:tab algn="l" pos="4118040"/>
                <a:tab algn="l" pos="501984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N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N1(-râ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N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41280"/>
                <a:tab algn="l" pos="1606680"/>
                <a:tab algn="l" pos="4118040"/>
                <a:tab algn="l" pos="501984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kafš-hâ-yaš-râ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vâk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606680"/>
                <a:tab algn="l" pos="4118040"/>
                <a:tab algn="l" pos="501984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chaussure-pl-3.sg-od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cirag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606680"/>
                <a:tab algn="l" pos="4118040"/>
                <a:tab algn="l" pos="501984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‘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ciré ses chaussur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606680"/>
                <a:tab algn="l" pos="4118040"/>
                <a:tab algn="l" pos="501984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41280"/>
                <a:tab algn="l" pos="1606680"/>
                <a:tab algn="l" pos="4118040"/>
                <a:tab algn="l" pos="501984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nun-râ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kar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606680"/>
                <a:tab algn="l" pos="4118040"/>
                <a:tab algn="l" pos="501984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pain-od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beure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606680"/>
                <a:tab algn="l" pos="4118040"/>
                <a:tab algn="l" pos="501984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beurré le pain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606680"/>
                <a:tab algn="l" pos="4118040"/>
                <a:tab algn="l" pos="501984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1280"/>
                <a:tab algn="l" pos="1606680"/>
                <a:tab algn="l" pos="4118040"/>
                <a:tab algn="l" pos="501984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Autres noms : âb ‘eau’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âhâ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amidon’, atr ‘parfum’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lâk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‘vernis’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mâtik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rouge’ 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ra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peinture’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roqa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huile’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sâbu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savon’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šâmpu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‘shampoing’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6356520"/>
            <a:ext cx="344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69180A-7493-4C4A-B7E6-0FD42879EE9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zadan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emplois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‘pose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703520"/>
                <a:tab algn="l" pos="2959200"/>
                <a:tab algn="l" pos="439092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N0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be 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N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703520"/>
                <a:tab algn="l" pos="2959200"/>
                <a:tab algn="l" pos="439092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1)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e Omi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dastb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703520"/>
                <a:tab algn="l" pos="2959200"/>
                <a:tab algn="l" pos="439092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à Omi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enott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703520"/>
                <a:tab algn="l" pos="2959200"/>
                <a:tab algn="l" pos="439092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menotté Omid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703520"/>
                <a:tab algn="l" pos="2959200"/>
                <a:tab algn="l" pos="439092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703520"/>
                <a:tab algn="l" pos="2959200"/>
                <a:tab algn="l" pos="439092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N0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N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703520"/>
                <a:tab algn="l" pos="2959200"/>
                <a:tab algn="l" pos="439092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2)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eyna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703520"/>
                <a:tab algn="l" pos="2959200"/>
                <a:tab algn="l" pos="439092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lunette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703520"/>
                <a:tab algn="l" pos="2959200"/>
                <a:tab algn="l" pos="439092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 met / porte des lunettes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703520"/>
                <a:tab algn="l" pos="2959200"/>
                <a:tab algn="l" pos="439092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1280"/>
                <a:tab algn="l" pos="1703520"/>
                <a:tab algn="l" pos="2959200"/>
                <a:tab algn="l" pos="439092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Autres noms :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anâ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laisse’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krâvâ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‘cravate’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lejâ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‘muselier’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pâpiyo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‘nœud de papillon’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43120" y="6356520"/>
            <a:ext cx="337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DAC017-8368-44C0-BFEE-D061DF2F67B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Les Ver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La plupart des verbes les plus usités ont plusieurs emplois  « support » et lexica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Très peu de verbes à contenu sémantique précis (i.e. polysémie généralisé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La distinction entre emplois support et emplois non-support  est difficile à établir dans beaucoup de 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356520"/>
            <a:ext cx="3162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6FA013-FACD-45BA-846A-57E1158006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zadan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emplois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‘simulation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600200"/>
            <a:ext cx="82296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N0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xod-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râ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e 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za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xod-aš-râ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e divânegi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soi-3.sg-od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à foli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simulé la foli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2)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xod-aš-râ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e xâ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soi-3.sg-od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à sommeil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simulé le sommei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ihuši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évanouissement, 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imâri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‘maladie’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del dard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mal de ventre’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imâri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‘maladie’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arâmuškâri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‘oubli’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hemâqat ‘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stupidité’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sti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‘ivresse’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nafahmi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stupidité’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nâxoši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‘maladie’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sâdegi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‘naïveté’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xâb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sommeil’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xariya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stupidité’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78452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43120" y="6356520"/>
            <a:ext cx="337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A3638A-D830-4323-BC59-E779A97FD0C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Concluions Intermédia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600200"/>
            <a:ext cx="822960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Phénomène mettant en jeu des relations collocationnelles, donc nécessité d’inven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Phénomène impliquant une grande productivité (donc production et interprétation des séquences non-lexicalis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La nécessité de combiner les deux démarches : inventaire, mais également la mise en évidence des régular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Très longue si fait manuel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Possibilité d’extraction des deux types de données : liste de construction dans un premier temps et régularités syntaxique et sémantique dans un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alibri"/>
                <a:ea typeface="DejaVu Sans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te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en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E2399F-7B4D-49C1-B8F8-BFA97E1AF1B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Le corp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Calibri"/>
                <a:ea typeface="DejaVu Sans"/>
              </a:rPr>
              <a:t>Construction et caractéris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43120" y="6356520"/>
            <a:ext cx="337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F16877-E8F6-4FAD-98DD-0A34EF59484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Le corpu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Comment l’obteni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600200"/>
            <a:ext cx="82296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Un site web à aspirer : Le quotidie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Keyhâ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 ‘univer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Qutidien d’actualité le plus ancien d’Ir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Une liste de séparateurs (signes de ponctuations…) établié manuel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Transcription en alphabet romain (non indispens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Le corpus aspiré, découpé en phrases et stocké dans une base de donné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14760" y="6356520"/>
            <a:ext cx="3305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D4632C-7E9B-48AD-9168-EC563536AE8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Le corpus : caractéris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1600200"/>
            <a:ext cx="82296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Le site du quotidien et ses archives ont été aspirés intégrale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6000 pages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748 966 phr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21 266 372 tok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La longueur moyenne des phrases est de 28 tok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Le nombre moyen de phrases par page est de 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00200" y="6356520"/>
            <a:ext cx="351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01A185-F8D4-4902-B14A-CDF0847E88B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GrosMoteur: spi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9120" y="1179360"/>
            <a:ext cx="8201160" cy="54198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8016840" y="419040"/>
            <a:ext cx="492120" cy="6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1077840" indent="-216000" algn="ctr">
              <a:lnSpc>
                <a:spcPct val="100000"/>
              </a:lnSpc>
              <a:tabLst>
                <a:tab algn="l" pos="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113624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GrosMo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016840" y="419040"/>
            <a:ext cx="492120" cy="679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08040" y="1112760"/>
            <a:ext cx="79344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1814400"/>
            <a:ext cx="77724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L’extraction des constructions à verbe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86040" y="6356520"/>
            <a:ext cx="323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582BA7-3F2D-44A9-945B-8ED084C347F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Traiter la flexion verb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600200"/>
            <a:ext cx="822960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Une liste de schémas de conjugaison (établie manuell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Certaines corrections manuelles du corpus (les préfixes écrits séparément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La liste des formes verbales possibles, classées des plus probables aux moins prob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Algorithme d’apprentissage automatique de la morphologie verb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Méthode statistique à la Goldsm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Décision manuelle pour savoir jusqu’à quel seuil on garde les ver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Une liste de 120000 formes verbales avec leurs radicaux (avec relativement peu d’erre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71840" y="6356520"/>
            <a:ext cx="344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495B29-07B0-4C7D-A6B9-AF09D740D96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iste des schémas de conjugais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6 schémas plus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dâdan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‘donne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43120" y="6356520"/>
            <a:ext cx="337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EB47B3-6525-4279-BF3A-DB44D9BF165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0960" y="1639800"/>
            <a:ext cx="871236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::regula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%%% les verbes réguliers dont le Rad du passé se distingue du Rad du pré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%%%juste par une consonne t|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%%% exemple :: xwrdn (inf.), xwrd (Rad passé), xwr (Rad prése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%%% D'autres exemples : xawrd, mandn, brdn, randn, rsandn, xwand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mperNorm: b 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partPres: RAD n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sgPreInd:   mi RAD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sgPreInd:   mi RAD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*3sgPreInd:   mi RAD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plPreInd:   mi RAD 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plPreInd:   mi RAD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*3plPreInd:   mi RAD 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sgPreIndNeg:   nmi RAD m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sgPreIndNeg:   nmi RAD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Verbes ayant un emploi « support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57200" y="1641600"/>
            <a:ext cx="8231040" cy="4360680"/>
            <a:chOff x="457200" y="1641600"/>
            <a:chExt cx="8231040" cy="4360680"/>
          </a:xfrm>
        </p:grpSpPr>
        <p:sp>
          <p:nvSpPr>
            <p:cNvPr id="61" name=""/>
            <p:cNvSpPr/>
            <p:nvPr/>
          </p:nvSpPr>
          <p:spPr>
            <a:xfrm>
              <a:off x="457200" y="164160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âmad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14600" y="164160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venir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72000" y="164160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ândâx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29400" y="164160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jeter’, ‘lancer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" y="203832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âvard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14600" y="203832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apporter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203832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bas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29400" y="203832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fermer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2433600"/>
              <a:ext cx="2057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bord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14600" y="2433600"/>
              <a:ext cx="2057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emporter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2000" y="2433600"/>
              <a:ext cx="2057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did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29400" y="2433600"/>
              <a:ext cx="2057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voir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283068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dar âmad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14600" y="283068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sortir’ (intran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283068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dar âvard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29400" y="283068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sortir’ (tran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200" y="322740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dâš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14600" y="322740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avoir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0" y="322740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dâd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29400" y="322740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donner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" y="362268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baxšid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4600" y="362268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octroyer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62268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bar dâš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29400" y="362268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soulever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" y="4019400"/>
              <a:ext cx="2057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geref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4019400"/>
              <a:ext cx="2057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rendre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4019400"/>
              <a:ext cx="2057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kešid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29400" y="4019400"/>
              <a:ext cx="2057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tirer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441648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oftâd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14600" y="441648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tomber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72000" y="441648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raf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29400" y="441648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aller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" y="481176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resida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14600" y="481176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arriver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481176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kard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9400" y="481176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faire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5208480"/>
              <a:ext cx="2057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šod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14600" y="5208480"/>
              <a:ext cx="2057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devenir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5208480"/>
              <a:ext cx="2057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xord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400" y="5208480"/>
              <a:ext cx="2057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heurter’, ‘manger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560556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yâfa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560556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trouver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0" y="560556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zad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29400" y="560556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frapper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1641600"/>
              <a:ext cx="1440" cy="435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1641600"/>
              <a:ext cx="1440" cy="435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29400" y="1641600"/>
              <a:ext cx="1440" cy="435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" y="203832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" y="243360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" y="28306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227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36226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" y="401940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" y="44164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481176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" y="52084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560556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1641600"/>
              <a:ext cx="1440" cy="435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86800" y="1641600"/>
              <a:ext cx="1440" cy="435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16416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" y="60008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124080" y="6356520"/>
            <a:ext cx="344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0F1D34-711F-4BD3-8BDD-9442909EED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Extraits de fichiers de conjuga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600200"/>
            <a:ext cx="403848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radical: xwan infinitive:xwandn (92 percent, 51 forms of the regular101 patter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new points 51 of 55 possible points( = 92 percent in real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1plPreteritNeg : nxwandim (found)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2plPreSubj     : bxwanid (found)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2sgPastprogNeg :  - nmixwandi (crea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2sgPreSubjNeg  : nxwani (found)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2sgPreSubj     : bxwani (found)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3sgPreterit    :  xwand (found)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3sgPreSubj     :  bxwand (found)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inf            :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xwandn (found)        (infin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1plPreInd      :  mixwanim (found)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1sgPreIndNeg   :  nmixwanm (found)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3sgPreteritNeg :  nxwand (found)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48320" y="1600200"/>
            <a:ext cx="403848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radical: xwan infinitive:xwandn (92 percent, 51 forms of the regular101 patter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new points 51 of 55 possible points( = 92 percent in real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1plPreteritNeg : nxwandim (found)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2plPreSubj     :  bxwanid (found)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2sgPastprogNeg :  - nmixwandi (crea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2sgPreSubjNeg  :  nxwani (found)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2sgPreSubj     :  bxwani (found)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3sgPreterit    :  xwand (found)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3sgPreSubj     :  bxwand (found)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inf            :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xwandn (found)        (infin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1plPreInd      :  mixwanim (found)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1sgPreIndNeg   :  nmixwanm (found)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3sgPreteritNeg :  nxwand (found)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28960" y="6356520"/>
            <a:ext cx="3090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E8368F-70BF-479B-A411-F00A3015A16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Les collo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600200"/>
            <a:ext cx="822960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Pour un verbe donné et une dimension de fenêtre (à sa droite et sa gauche), Grosmoteur peut  en trouver toutes les occurrences avec la fenêtre correspond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Ces fenêtres constituent nos sous-corp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L’objectif : calculer la spécificité du sous-corpus comparée à l’ensemble du corp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28960" y="6356520"/>
            <a:ext cx="3090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9F4954-60F9-47F9-BF7F-315D973BF4D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57200" y="6984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a distribution cumulative hypergéométriqu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e teste de Fis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1600200"/>
            <a:ext cx="82296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tant donné un mot avec toutes ses fenêtres environnantes (i.e. les endroits où les éléments collocationnels sont situés a priori), quels sont les mots qui apparaissent plus souvent qu’attendu si les mots étaient distribués de façon équilibr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La réponse purement statistique : la distribution hypergéométr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en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A0D9AA-C824-4704-810F-E11B62F68A7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7200" y="6984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a distribution cumulative hypergéométriqu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e teste de Fis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Cette méthode évite les effets indésirables des mesures d’information mutuelle (i.e. mots grammaticaux, etc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Par exemple, si des mots grammaticaux figurent dans la liste, leur présence n’est pas due à un effet non-désiré de la méthode de calcul, mais liée à la structure syntaxique de la collocation en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86040" y="6356520"/>
            <a:ext cx="323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1AEF71-255C-49A1-8B02-67A6F485E96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255600" y="0"/>
            <a:ext cx="8675640" cy="7101000"/>
            <a:chOff x="255600" y="0"/>
            <a:chExt cx="8675640" cy="7101000"/>
          </a:xfrm>
        </p:grpSpPr>
        <p:sp>
          <p:nvSpPr>
            <p:cNvPr id="281" name=""/>
            <p:cNvSpPr/>
            <p:nvPr/>
          </p:nvSpPr>
          <p:spPr>
            <a:xfrm>
              <a:off x="255600" y="0"/>
              <a:ext cx="2374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ndâxtan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‘to throw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30520" y="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gereftan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‘to catch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3440" y="0"/>
              <a:ext cx="1925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zadan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‘to hit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99080" y="0"/>
              <a:ext cx="2430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xordan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‘to collide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5600" y="360360"/>
              <a:ext cx="12780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p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33600" y="360360"/>
              <a:ext cx="1096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o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30520" y="360360"/>
              <a:ext cx="1050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p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81360" y="360360"/>
              <a:ext cx="892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o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3440" y="360360"/>
              <a:ext cx="10954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p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68920" y="360360"/>
              <a:ext cx="8301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o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99080" y="360360"/>
              <a:ext cx="11718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p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70880" y="360360"/>
              <a:ext cx="1258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o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5600" y="630360"/>
              <a:ext cx="1278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fin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33600" y="630360"/>
              <a:ext cx="1096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a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30520" y="630360"/>
              <a:ext cx="1050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fin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81360" y="630360"/>
              <a:ext cx="892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sm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73440" y="630360"/>
              <a:ext cx="1095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fin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68920" y="630360"/>
              <a:ext cx="8301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xw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99080" y="630360"/>
              <a:ext cx="11718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fin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70880" y="630360"/>
              <a:ext cx="1258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šk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5600" y="898560"/>
              <a:ext cx="12780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5E+25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33600" y="898560"/>
              <a:ext cx="1096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30520" y="898560"/>
              <a:ext cx="1050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fin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81360" y="898560"/>
              <a:ext cx="892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73440" y="898560"/>
              <a:ext cx="10954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6,14E+6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68920" y="898560"/>
              <a:ext cx="8301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99080" y="898560"/>
              <a:ext cx="11718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fin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70880" y="898560"/>
              <a:ext cx="1258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čš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5600" y="1168560"/>
              <a:ext cx="1278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7E+25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33600" y="1168560"/>
              <a:ext cx="10969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30520" y="1168560"/>
              <a:ext cx="10508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fin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81360" y="1168560"/>
              <a:ext cx="8920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w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73440" y="1168560"/>
              <a:ext cx="10954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,39E+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68920" y="1168560"/>
              <a:ext cx="8301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99080" y="1168560"/>
              <a:ext cx="11718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fin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70880" y="1168560"/>
              <a:ext cx="12589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lwtl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5600" y="1438200"/>
              <a:ext cx="12780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E+15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33600" y="1438200"/>
              <a:ext cx="1096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X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30520" y="1438200"/>
              <a:ext cx="1050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fin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81360" y="1438200"/>
              <a:ext cx="892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r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73440" y="1438200"/>
              <a:ext cx="10954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,53E+2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68920" y="1438200"/>
              <a:ext cx="8301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99080" y="1438200"/>
              <a:ext cx="11718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,34E+28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70880" y="1438200"/>
              <a:ext cx="1258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fr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5600" y="1708200"/>
              <a:ext cx="12780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4E+1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33600" y="1708200"/>
              <a:ext cx="1096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'wi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30520" y="1708200"/>
              <a:ext cx="1050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fin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81360" y="1708200"/>
              <a:ext cx="892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nz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73440" y="1708200"/>
              <a:ext cx="10954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9,83E+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68920" y="1708200"/>
              <a:ext cx="8301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xw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99080" y="1708200"/>
              <a:ext cx="11718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,93E+2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70880" y="1708200"/>
              <a:ext cx="1258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q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5600" y="1978200"/>
              <a:ext cx="1278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E+1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33600" y="1978200"/>
              <a:ext cx="1096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ngah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30520" y="1978200"/>
              <a:ext cx="1050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fin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81360" y="1978200"/>
              <a:ext cx="892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nadi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73440" y="1978200"/>
              <a:ext cx="1095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,83E+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68920" y="1978200"/>
              <a:ext cx="8301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q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99080" y="1978200"/>
              <a:ext cx="11718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,19E+2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70880" y="1978200"/>
              <a:ext cx="1258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g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5600" y="2246400"/>
              <a:ext cx="1278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E+9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33600" y="2246400"/>
              <a:ext cx="10969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grd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30520" y="2246400"/>
              <a:ext cx="10508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fin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81360" y="2246400"/>
              <a:ext cx="8920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w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73440" y="2246400"/>
              <a:ext cx="10954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6,58E+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68920" y="2246400"/>
              <a:ext cx="8301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fri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99080" y="2246400"/>
              <a:ext cx="11718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4,32E+1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70880" y="2246400"/>
              <a:ext cx="12589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kl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5600" y="2516040"/>
              <a:ext cx="12780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6E+7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33600" y="2516040"/>
              <a:ext cx="1096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xat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30520" y="2516040"/>
              <a:ext cx="1050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fin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81360" y="2516040"/>
              <a:ext cx="892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jlw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73440" y="2516040"/>
              <a:ext cx="10954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6,26E+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68920" y="2516040"/>
              <a:ext cx="8301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h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99080" y="2516040"/>
              <a:ext cx="11718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,50E+15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70880" y="2516040"/>
              <a:ext cx="1258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5600" y="2786040"/>
              <a:ext cx="12780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E+6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33600" y="2786040"/>
              <a:ext cx="1096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’x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30520" y="2786040"/>
              <a:ext cx="1050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fin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81360" y="2786040"/>
              <a:ext cx="892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rnz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73440" y="2786040"/>
              <a:ext cx="10954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7,52E+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68920" y="2786040"/>
              <a:ext cx="8301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hr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99080" y="2786040"/>
              <a:ext cx="11718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,42E+1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70880" y="2786040"/>
              <a:ext cx="1258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5600" y="3056040"/>
              <a:ext cx="1278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6E+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33600" y="3056040"/>
              <a:ext cx="10969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ng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630520" y="3056040"/>
              <a:ext cx="10508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fin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81360" y="3056040"/>
              <a:ext cx="8920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73440" y="3056040"/>
              <a:ext cx="10954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4,12E+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68920" y="3056040"/>
              <a:ext cx="8301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99080" y="3056040"/>
              <a:ext cx="11718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5,86E+1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70880" y="3056040"/>
              <a:ext cx="12589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5600" y="3325680"/>
              <a:ext cx="12780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E+4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33600" y="3325680"/>
              <a:ext cx="10969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r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30520" y="3325680"/>
              <a:ext cx="1050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fin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81360" y="3325680"/>
              <a:ext cx="89208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adrnz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3440" y="3325680"/>
              <a:ext cx="109548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,98E+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68920" y="3325680"/>
              <a:ext cx="8301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g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99080" y="3325680"/>
              <a:ext cx="1171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,41E+1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70880" y="3325680"/>
              <a:ext cx="12589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5600" y="3594240"/>
              <a:ext cx="1278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E+4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33600" y="3594240"/>
              <a:ext cx="10969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30520" y="3594240"/>
              <a:ext cx="10508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fin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81360" y="3594240"/>
              <a:ext cx="8920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mzaiš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3440" y="3594240"/>
              <a:ext cx="10954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5,6978E+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68920" y="3594240"/>
              <a:ext cx="8301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am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99080" y="3594240"/>
              <a:ext cx="11718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,55E+8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70880" y="3594240"/>
              <a:ext cx="12589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gw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5600" y="3863880"/>
              <a:ext cx="12780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E+4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33600" y="3863880"/>
              <a:ext cx="1096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ra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30520" y="3863880"/>
              <a:ext cx="1050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5,72E+29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81360" y="3863880"/>
              <a:ext cx="892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fza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73440" y="3863880"/>
              <a:ext cx="10954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,1162E+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68920" y="3863880"/>
              <a:ext cx="8301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'ts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99080" y="3863880"/>
              <a:ext cx="11718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,84E+8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70880" y="3863880"/>
              <a:ext cx="1258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z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5600" y="4133880"/>
              <a:ext cx="12780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E+4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33600" y="4133880"/>
              <a:ext cx="1096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Whš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30520" y="4133880"/>
              <a:ext cx="1050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,55E+29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81360" y="4133880"/>
              <a:ext cx="892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xti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73440" y="4133880"/>
              <a:ext cx="10954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5993567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68920" y="4133880"/>
              <a:ext cx="8301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st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99080" y="4133880"/>
              <a:ext cx="11718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,12E+8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70880" y="4133880"/>
              <a:ext cx="1258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k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5600" y="4403880"/>
              <a:ext cx="1278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9E+4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33600" y="4403880"/>
              <a:ext cx="10969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Č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30520" y="4403880"/>
              <a:ext cx="10508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,59E+26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81360" y="4403880"/>
              <a:ext cx="8920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3440" y="4403880"/>
              <a:ext cx="10954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61100438,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68920" y="4403880"/>
              <a:ext cx="8301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t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99080" y="4403880"/>
              <a:ext cx="11718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4,27E+7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70880" y="4403880"/>
              <a:ext cx="12589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zrb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5600" y="4673520"/>
              <a:ext cx="1278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6E+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33600" y="4673520"/>
              <a:ext cx="1096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30520" y="4673520"/>
              <a:ext cx="1050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,10E+2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81360" y="4673520"/>
              <a:ext cx="892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r'h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73440" y="4673520"/>
              <a:ext cx="1095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02604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68920" y="4673520"/>
              <a:ext cx="8301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r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99080" y="4673520"/>
              <a:ext cx="11718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,80E+6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70880" y="4673520"/>
              <a:ext cx="1258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z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600" y="4941720"/>
              <a:ext cx="12780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4E+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33600" y="4941720"/>
              <a:ext cx="1096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ai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30520" y="4941720"/>
              <a:ext cx="1050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,37E+2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81360" y="4941720"/>
              <a:ext cx="892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3440" y="4941720"/>
              <a:ext cx="10954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981834,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8920" y="4941720"/>
              <a:ext cx="8301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zrb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99080" y="4941720"/>
              <a:ext cx="11718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,25E+6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70880" y="4941720"/>
              <a:ext cx="1258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iw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5600" y="5211720"/>
              <a:ext cx="12780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E+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33600" y="5211720"/>
              <a:ext cx="1096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30520" y="5211720"/>
              <a:ext cx="1050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,02E+15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81360" y="5211720"/>
              <a:ext cx="892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f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73440" y="5211720"/>
              <a:ext cx="10954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4170865,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68920" y="5211720"/>
              <a:ext cx="8301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99080" y="5211720"/>
              <a:ext cx="11718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,10E+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70880" y="5211720"/>
              <a:ext cx="1258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r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55600" y="5481720"/>
              <a:ext cx="1278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E+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33600" y="5481720"/>
              <a:ext cx="10969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30520" y="5481720"/>
              <a:ext cx="10508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,17E+1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81360" y="5481720"/>
              <a:ext cx="8920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'r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73440" y="5481720"/>
              <a:ext cx="10954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4088629,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68920" y="5481720"/>
              <a:ext cx="8301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99080" y="5481720"/>
              <a:ext cx="11718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4,91E+6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70880" y="5481720"/>
              <a:ext cx="12589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zx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600" y="5751360"/>
              <a:ext cx="12780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7E+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33600" y="5751360"/>
              <a:ext cx="1096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ai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30520" y="5751360"/>
              <a:ext cx="1050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8,52E+1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81360" y="5751360"/>
              <a:ext cx="892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iš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73440" y="5751360"/>
              <a:ext cx="10954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252084,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68920" y="5751360"/>
              <a:ext cx="8301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čh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499080" y="5751360"/>
              <a:ext cx="11718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5,38E+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70880" y="5751360"/>
              <a:ext cx="1258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5600" y="6021360"/>
              <a:ext cx="1278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7E+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33600" y="6021360"/>
              <a:ext cx="1096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J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30520" y="6021360"/>
              <a:ext cx="1050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,98E+1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81360" y="6021360"/>
              <a:ext cx="892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'h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73440" y="6021360"/>
              <a:ext cx="1095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703107,8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668920" y="6021360"/>
              <a:ext cx="8301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g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99080" y="6021360"/>
              <a:ext cx="11718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,07E+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70880" y="6021360"/>
              <a:ext cx="1258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g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5600" y="6289560"/>
              <a:ext cx="12780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E+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33600" y="6289560"/>
              <a:ext cx="1096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ax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30520" y="6289560"/>
              <a:ext cx="1050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,26E+1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81360" y="6289560"/>
              <a:ext cx="892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k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3440" y="6289560"/>
              <a:ext cx="10954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140782,5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68920" y="6289560"/>
              <a:ext cx="8301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rnwš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99080" y="6289560"/>
              <a:ext cx="11718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,64E+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70880" y="6289560"/>
              <a:ext cx="1258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5600" y="6559560"/>
              <a:ext cx="12780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E+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33600" y="6559560"/>
              <a:ext cx="1096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wz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30520" y="6559560"/>
              <a:ext cx="1050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9,96E+1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81360" y="6559560"/>
              <a:ext cx="892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grwg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73440" y="6559560"/>
              <a:ext cx="10954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561065,9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668920" y="6559560"/>
              <a:ext cx="8301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hi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99080" y="6559560"/>
              <a:ext cx="11718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,75E+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70880" y="6559560"/>
              <a:ext cx="12589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kt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5600" y="6829560"/>
              <a:ext cx="1278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5E+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33600" y="6829560"/>
              <a:ext cx="10969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Znd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30520" y="6829560"/>
              <a:ext cx="10508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,40E+7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81360" y="6829560"/>
              <a:ext cx="8920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hd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73440" y="6829560"/>
              <a:ext cx="10954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4755,50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68920" y="6829560"/>
              <a:ext cx="8301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framw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99080" y="6829560"/>
              <a:ext cx="11718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5,65E+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70880" y="6829560"/>
              <a:ext cx="12589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33600" y="360360"/>
              <a:ext cx="1440" cy="673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30520" y="0"/>
              <a:ext cx="1440" cy="709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81360" y="360360"/>
              <a:ext cx="1800" cy="673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73440" y="0"/>
              <a:ext cx="1800" cy="709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68920" y="360360"/>
              <a:ext cx="1800" cy="673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99080" y="0"/>
              <a:ext cx="1800" cy="709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70880" y="360360"/>
              <a:ext cx="1440" cy="673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55600" y="360360"/>
              <a:ext cx="867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55600" y="630360"/>
              <a:ext cx="867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55600" y="898560"/>
              <a:ext cx="867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5600" y="1168560"/>
              <a:ext cx="867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5600" y="1438200"/>
              <a:ext cx="8674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55600" y="1708200"/>
              <a:ext cx="867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5600" y="1978200"/>
              <a:ext cx="867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5600" y="2246400"/>
              <a:ext cx="867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5600" y="2516040"/>
              <a:ext cx="8674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5600" y="2786040"/>
              <a:ext cx="867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5600" y="3056040"/>
              <a:ext cx="867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5600" y="3325680"/>
              <a:ext cx="8674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5600" y="3594240"/>
              <a:ext cx="867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5600" y="3863880"/>
              <a:ext cx="8674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5600" y="4133880"/>
              <a:ext cx="867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5600" y="4403880"/>
              <a:ext cx="867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5600" y="4673520"/>
              <a:ext cx="8674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5600" y="4941720"/>
              <a:ext cx="8674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55600" y="5211720"/>
              <a:ext cx="8674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5600" y="5481720"/>
              <a:ext cx="867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55600" y="5751360"/>
              <a:ext cx="8674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55600" y="6021360"/>
              <a:ext cx="867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55600" y="6289560"/>
              <a:ext cx="8674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55600" y="6559560"/>
              <a:ext cx="867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5600" y="6829560"/>
              <a:ext cx="867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5600" y="0"/>
              <a:ext cx="1440" cy="709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929800" y="0"/>
              <a:ext cx="1440" cy="709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5600" y="0"/>
              <a:ext cx="867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55600" y="7099200"/>
              <a:ext cx="8674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Ce que le corpus nous appr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en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C71B66-7D0C-4552-ABC3-46222C2715F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es constructions moins étudié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es verbes support « composé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1978200"/>
                <a:tab algn="l" pos="2863800"/>
                <a:tab algn="l" pos="45720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dowla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hadaf-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enteqâ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qarâr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ger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78200"/>
                <a:tab algn="l" pos="2863800"/>
                <a:tab algn="l" pos="45720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gouverne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ut-ez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critiqu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plac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prendre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78200"/>
                <a:tab algn="l" pos="2863800"/>
                <a:tab algn="l" pos="45720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Le gouvernement a été critiqué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978200"/>
                <a:tab algn="l" pos="2863800"/>
                <a:tab algn="l" pos="45720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ored-e N qarâr gereftan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78200"/>
                <a:tab algn="l" pos="2863800"/>
                <a:tab algn="l" pos="45720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78200"/>
                <a:tab algn="l" pos="2863800"/>
                <a:tab algn="l" pos="45720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2)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kârmand-â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das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e’tesâ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zad-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78200"/>
                <a:tab algn="l" pos="2863800"/>
                <a:tab algn="l" pos="45720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employé-pl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i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grèv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rapper-3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78200"/>
                <a:tab algn="l" pos="2863800"/>
                <a:tab algn="l" pos="45720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Les employés se mirent en grève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78200"/>
                <a:tab algn="l" pos="2863800"/>
                <a:tab algn="l" pos="45720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dast be X za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78200"/>
                <a:tab algn="l" pos="2863800"/>
                <a:tab algn="l" pos="45720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86040" y="6356520"/>
            <a:ext cx="323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62A5C8-D185-4163-BAAF-9BF645E42AB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dast be N zad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600200"/>
            <a:ext cx="822960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dast  zadan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‘toucher’ (Lit. ‘main frapper’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be miz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dast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z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à table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main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touché la table.’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Nombre d’occurrences anormalement élevé dans le corpus, mais avec une autre interpré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2) (…) dar 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itâlia 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dast 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be 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yek 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e'tsab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 48 sâ'te 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zad-a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dans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Italie 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main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à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un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grève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48 heures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-3.p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En Italie, (…), ils ont entamé une grève de 48 heures.’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3) niru-hâ-ye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amniati-e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afqân 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dast be tezâhorât-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force-pl-ez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sécurité-ez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afghan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main à manifestation-e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e'terâz-amiz 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zad-a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contestataire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DejaVu Sans"/>
              </a:rPr>
              <a:t>frapper.pas-3.p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Les forces de sécurité afghanes se sont manifestées pour protester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0E1B12-9E46-4DE9-9F14-60B0652AAFF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857680" y="6356520"/>
            <a:ext cx="316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BD49D2-4DEF-47C9-B262-F996B942BED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6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ons résultats d’extraction dans l’ensem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Extraction des Vsup “composés”, généralement ignorés dans les étu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Recherche en cour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- affiner les méthodes de calcul (notamment en variant la tailles des fenêt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Développement d’un dictionnaire des constructions à Vsup du persan dans le cadre du projet ANR franco-allemand (2009-2011)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heory and Implementation of a Head-driven Phrase Structure Grammar of Persia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57680" y="6356520"/>
            <a:ext cx="316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11CBC8-075F-4CB7-BE0E-C34B832D2C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Les constructions à verb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Calibri"/>
                <a:ea typeface="DejaVu Sans"/>
              </a:rPr>
              <a:t>Divers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Calibri"/>
                <a:ea typeface="DejaVu Sans"/>
              </a:rPr>
              <a:t>Produ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Calibri"/>
                <a:ea typeface="DejaVu Sans"/>
              </a:rPr>
              <a:t>Collocationn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en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C9A9CE-7577-46B7-866C-CC914065375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6984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Diversité des constructions N-V ou Prep-N-V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e 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Le nom est un N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prédicatif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(satisfait aux critères de la formation du syntagme nominal, relative, coréférence avec le sujet du verbe support dans la construction à verbe support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a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Omid-r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šekas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dâ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Omid-od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défait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donner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vaincu Omid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az Marya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šekas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x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de Marya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défait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nger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Omid a été vaincu par Maryam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c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šekast-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défaite-ez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la défaite d’Omi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en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CD3D62-C372-4FE2-9208-152D4FFACD0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6984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Diversité des constructions N-V ou Prep-N-V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e 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Le nom est un nom concret et ne peut fonctionner comme  un nom prédicatif (i.e. ne satisfait pas aux critères de définition des nom prédicatifs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a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âqče-râ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â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dâ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jardin-od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eau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donner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aryam a arrosé le jardin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* âb-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âq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eau-ez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jar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(pour dire) ‘l’arrosage du jardin’ (N.B. grammatical si ‘l’eau du jardin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c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â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dâdan-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bâqč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eau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donner-ez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jar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l’arrosage du jardi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En dehors de la construction à verbe support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â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‘eau’ ne signifie pas ‘arrosage’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356520"/>
            <a:ext cx="323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DA9961-CC18-40E9-8FE7-09B1931FAA8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6984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Diversité des constructions N-V ou Prep-N-V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e 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60020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L’élément non-verbal fonctionne comme un nom dans le contexte de la construction à verbe support (e.g. il peut être modifié par un adjectif dans la construction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ezâfé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),  mais n’a aucun emploi en tant que nom en dehors de la construction à verbe support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a.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az Marya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gul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xor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de Marya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(Nom)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manger.p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Omid a été berné par Maryam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b.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*</a:t>
            </a:r>
            <a:r>
              <a:rPr b="1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 gul-e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Omid / Marya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 c.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* in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gul-h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X-ez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Omid/Marya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 ce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X-p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Comparez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a.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Omid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az Marya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kalak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xor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Omid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de Marya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subterfuge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manger.p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Omid a été berné par Maryam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b.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kalak-e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Maryam c.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c.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in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kalak-h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subterfuge-ez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Marya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 ce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subterfuge-p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‘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le subterfuge de Maryam’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 ‘ces subterfuges’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Dans le contexte de la construction (1),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gul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DejaVu Sans"/>
              </a:rPr>
              <a:t> s’interprète comme ‘subterfuge’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en 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8265CD-B458-4423-9F70-CA2B95BC396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6984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Identification des séquences N-V et Prep-N-V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productivité vs. « collocationnalité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600200"/>
            <a:ext cx="82296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Les dictionnaires du persa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Ces constructions verbales sont appelées «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verbes composé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inventaire non-systémat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Sont répertoriées les séquences « lexicalisées » et certaines autres séquences composées d’un verbe et d’un complément non-détermin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Exemple : le dictionnaire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Moï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mentionne comme verbes composés les séquences suivant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-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âb xorda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‘boire de l’eau’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(Lit. ‘eau ingurgiter/absor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- mâšin rânda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‘conduire une voiture’ (Lit. ‘voiture conduire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356520"/>
            <a:ext cx="366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Les constructions à verbe support duper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BDAD5C-B1DA-4C12-B5B8-3BC2D92B619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tilisateur Windows</dc:creator>
  <dc:description/>
  <dc:language>en-US</dc:language>
  <cp:lastModifiedBy>Utilisateur Windows</cp:lastModifiedBy>
  <cp:revision>0</cp:revision>
  <dc:subject/>
  <dc:title>Les constructions à verbe support du persan</dc:title>
</cp:coreProperties>
</file>