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C29-7A8F-4821-BE4E-DC661779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1D2-150F-43B6-A4FE-9D643128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A6F0-2F55-473A-977F-AC50A88F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948-6E47-479B-B781-24C9E1DB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67BE-4C1D-4B38-BD05-F027DDC7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4A46-1D72-4457-9ED9-544C15BD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E417-AA63-48F8-8D2E-E5620E4E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FDCE-DDD9-4A58-BFDB-FF760308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8E9F-1DB2-42ED-A9ED-672FE1A7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16000" y="260280"/>
            <a:ext cx="77724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1E6B-2124-4D58-8E79-550006BC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E75F-9893-45D8-80E4-98782F67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557-8803-45A0-9D76-66FD2E83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F82D-9AEE-451D-8832-C0AB558D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A3D5-E79C-44BD-AE20-E2AEC266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8C6C-8156-4B0E-9D50-3AA65175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E359-BBF9-40DE-9183-8942FF17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E022-44E0-45A1-A4A2-23D4FB23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37C-2C20-4F17-A7D6-C4CDB071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FD3-BAC5-43E8-8335-FB849671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523-BB95-4383-A844-921436B8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6000" y="260280"/>
            <a:ext cx="77724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811-B2EA-4BD6-AA90-A4C4AC9A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830-91AB-4308-B004-78372827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237-C40C-43AC-A43E-6A0E2FD6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8F7-7D9C-4102-9CB1-0D96BBB3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836640"/>
            <a:ext cx="8458200" cy="871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125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0CB0-E414-4170-BD71-8DA062E86076}" type="slidenum">
              <a:rPr b="0" lang="ro-RO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4000" y="6021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28th</a:t>
            </a:r>
            <a:r>
              <a:rPr b="0" lang="ro-RO" sz="1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April</a:t>
            </a:r>
            <a:r>
              <a:rPr b="0" lang="ro-RO" sz="1400" spc="-1" strike="noStrike">
                <a:solidFill>
                  <a:srgbClr val="00264c"/>
                </a:solidFill>
                <a:latin typeface="Times New Roman"/>
              </a:rPr>
              <a:t> 200</a:t>
            </a: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742840" y="60199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264c"/>
                </a:solidFill>
                <a:latin typeface="Times New Roman"/>
              </a:rPr>
              <a:t>Institut Gaspard-Monge – Univerisit</a:t>
            </a:r>
            <a:r>
              <a:rPr b="0" lang="ro-RO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é</a:t>
            </a:r>
            <a:r>
              <a:rPr b="0" lang="ro-RO" sz="1400" spc="-1" strike="noStrike">
                <a:solidFill>
                  <a:srgbClr val="00264c"/>
                </a:solidFill>
                <a:latin typeface="Times New Roman"/>
              </a:rPr>
              <a:t> P</a:t>
            </a: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ro-RO" sz="1400" spc="-1" strike="noStrike">
                <a:solidFill>
                  <a:srgbClr val="00264c"/>
                </a:solidFill>
                <a:latin typeface="Times New Roman"/>
              </a:rPr>
              <a:t>ris-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264c"/>
                </a:solidFill>
                <a:latin typeface="Times New Roman"/>
              </a:rPr>
              <a:t>Marne-la-Vall</a:t>
            </a:r>
            <a:r>
              <a:rPr b="0" lang="ro-RO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é</a:t>
            </a:r>
            <a:r>
              <a:rPr b="0" lang="ro-RO" sz="1400" spc="-1" strike="noStrike">
                <a:solidFill>
                  <a:srgbClr val="00264c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6632-5913-421A-AC3D-A363DEE8980D}" type="slidenum">
              <a:rPr b="0" lang="ro-RO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601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The Conjugation of the Romanian Verbs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Ana-Maria Barbu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64c"/>
                </a:solidFill>
                <a:latin typeface="Times New Roman"/>
              </a:rPr>
              <a:t>Romanian Academy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64c"/>
                </a:solidFill>
                <a:latin typeface="Times New Roman"/>
              </a:rPr>
              <a:t>Institut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e</a:t>
            </a:r>
            <a:r>
              <a:rPr b="0" lang="ro-RO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of</a:t>
            </a:r>
            <a:r>
              <a:rPr b="0" lang="ro-RO" sz="1800" spc="-1" strike="noStrike">
                <a:solidFill>
                  <a:srgbClr val="00264c"/>
                </a:solidFill>
                <a:latin typeface="Times New Roman"/>
              </a:rPr>
              <a:t> Ling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uistics</a:t>
            </a:r>
            <a:r>
              <a:rPr b="0" lang="ro-RO" sz="1800" spc="-1" strike="noStrike">
                <a:solidFill>
                  <a:srgbClr val="00264c"/>
                </a:solidFill>
                <a:latin typeface="Times New Roman"/>
              </a:rPr>
              <a:t> “Iorgu Iordan – Al. Rosetti”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64c"/>
                </a:solidFill>
                <a:latin typeface="Times New Roman"/>
              </a:rPr>
              <a:t>Bucharest, Romani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II. Paradigm inventor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820728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The first conjugation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 (-a)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  -14 paradigms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              </a:t>
            </a:r>
            <a:r>
              <a:rPr b="0" lang="ro-RO" sz="1800" spc="-1" strike="noStrike">
                <a:solidFill>
                  <a:srgbClr val="00264c"/>
                </a:solidFill>
                <a:latin typeface="Times New Roman"/>
              </a:rPr>
              <a:t>IP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=indicative present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1295280"/>
          <a:ext cx="8610480" cy="5145120"/>
        </p:xfrm>
        <a:graphic>
          <a:graphicData uri="http://schemas.openxmlformats.org/drawingml/2006/table">
            <a:tbl>
              <a:tblPr/>
              <a:tblGrid>
                <a:gridCol w="476280"/>
                <a:gridCol w="1885680"/>
                <a:gridCol w="2971800"/>
                <a:gridCol w="3276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erbs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ommon features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ifferences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lucra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‘work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1sg: 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z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2sg: 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z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sg/pl 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1: 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ază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2,3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-ază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pl 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1: 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ăm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2,3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-em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Gerund 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1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ând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2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nd,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P3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nd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tudia ‘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tudy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rdeia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‘pepper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peria ‘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care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1 sg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= 2sg, 3sg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/pl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l:  </a:t>
                      </a: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m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1 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g    P4:</a:t>
                      </a: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, 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5:-</a:t>
                      </a:r>
                      <a:r>
                        <a:rPr b="1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încuia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‘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lock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Gerund 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nd,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P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nd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cuza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‘acuse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1sg: 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2sg: 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3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g/pl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ă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l:  </a:t>
                      </a: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ă</a:t>
                      </a: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onj. 3sg/pl       P6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7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ă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eceda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‘precede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umbla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‘go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sg.1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u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2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3sg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/pl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ă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1pl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ăm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eda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  ‘render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1sg 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= 3pl: </a:t>
                      </a: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au, 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pl:</a:t>
                      </a: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ăm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3sg   P10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a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9,11,12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ă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. imperf.1sg P9,10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am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11,12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am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. perf. 1sg P9,10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ai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11,12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u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11,12 have perfect roots</a:t>
                      </a:r>
                      <a:r>
                        <a:rPr b="1" i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 stăt-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</a:t>
                      </a:r>
                      <a:r>
                        <a:rPr b="1" i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ăd-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lua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     ‘take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ta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     ‘stay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2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a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     ‘give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3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ghea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‘watch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milar to # 1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1pl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-em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2pl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aţi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 Gerund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nd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4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ochea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‘bewitch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milar to # 4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2pl P4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aţi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14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aţ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II. Paradigm inventor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820728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The 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second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 conjugation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 (-ea)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  -4 paradigms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           </a:t>
            </a:r>
            <a:r>
              <a:rPr b="0" lang="ro-RO" sz="1800" spc="-1" strike="noStrike">
                <a:solidFill>
                  <a:srgbClr val="00264c"/>
                </a:solidFill>
                <a:latin typeface="Times New Roman"/>
              </a:rPr>
              <a:t>IP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=indicative present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This is an old and unproductive conjugation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Verbs tend to become of the third conjugsation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920" y="2743200"/>
          <a:ext cx="8686800" cy="2155680"/>
        </p:xfrm>
        <a:graphic>
          <a:graphicData uri="http://schemas.openxmlformats.org/drawingml/2006/table">
            <a:tbl>
              <a:tblPr/>
              <a:tblGrid>
                <a:gridCol w="480960"/>
                <a:gridCol w="1728720"/>
                <a:gridCol w="2895480"/>
                <a:gridCol w="3581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erb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ommon feature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ifference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ărea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‘appear’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1sg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=3pl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2sg: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sg: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mperative P1: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  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intransitive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erbs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            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2: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(transitive verbs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cădea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‘lower’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ea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‘drink’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g: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a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u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2sg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3sg: 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3pl P3: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au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4: 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rea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‘want’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ast perfect 1pl. P3: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user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ă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4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use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e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ă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II. Paradigm inventor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820728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The 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third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 conjugation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 (-e)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  -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 paradigms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              </a:t>
            </a:r>
            <a:r>
              <a:rPr b="0" lang="ro-RO" sz="1800" spc="-1" strike="noStrike">
                <a:solidFill>
                  <a:srgbClr val="00264c"/>
                </a:solidFill>
                <a:latin typeface="Times New Roman"/>
              </a:rPr>
              <a:t>IP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=indicative present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1905120"/>
          <a:ext cx="8229600" cy="3855960"/>
        </p:xfrm>
        <a:graphic>
          <a:graphicData uri="http://schemas.openxmlformats.org/drawingml/2006/table">
            <a:tbl>
              <a:tblPr/>
              <a:tblGrid>
                <a:gridCol w="506160"/>
                <a:gridCol w="1779840"/>
                <a:gridCol w="2590560"/>
                <a:gridCol w="3353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erb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ommon feature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ifference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une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‘put’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1sg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=3pl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3sg: 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. past perfect 1sg: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sesem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onj. 3sg=3pl: -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ă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mperative 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,P4: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2: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3: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articiple P1,2,3: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s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4: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t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urge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‘flow’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z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ce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‘say’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upe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‘break’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ere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‘ask’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. past perfect 1sg: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u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em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articiple 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ut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mperative 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ace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‘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ake’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umple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‘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ll’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1sg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=3pl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u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3sg: 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onj. 3sg=3pl: -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. past perfect 1sg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P7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u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em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8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-sesem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articiple P7: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ut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8: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s, 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Gerund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7: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ând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8: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nd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crie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‘write’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II. Paradigm inventor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820728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The 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fourth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 conjugation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 (-i and -î)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  -1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 paradigms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0" lang="ro-RO" sz="1800" spc="-1" strike="noStrike">
                <a:solidFill>
                  <a:srgbClr val="00264c"/>
                </a:solidFill>
                <a:latin typeface="Times New Roman"/>
              </a:rPr>
              <a:t>IP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=indicative present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1371600"/>
          <a:ext cx="8686800" cy="4689360"/>
        </p:xfrm>
        <a:graphic>
          <a:graphicData uri="http://schemas.openxmlformats.org/drawingml/2006/table">
            <a:tbl>
              <a:tblPr/>
              <a:tblGrid>
                <a:gridCol w="480960"/>
                <a:gridCol w="1652400"/>
                <a:gridCol w="2590920"/>
                <a:gridCol w="3962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erbs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ommon features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ifferences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vesti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‘tell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 perfect 1sg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 past perfect 1sg:-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sem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Gerund 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–ind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articiple 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t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1sg=3pl P1,P2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sc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3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esc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sg P1,P2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şte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3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eşte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onj. 3sg=3pl P1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ască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2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-ască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3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-iască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ustii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‘ravage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l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cui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‘live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şti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   ‘know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1sg=3pl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u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3sg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e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ui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  ‘climb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1sg=2sg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3sg=3pl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e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ugi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‘run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1sg=3pl: </a:t>
                      </a:r>
                      <a:r>
                        <a:rPr b="0" lang="ro-RO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3sg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mperative P6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i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7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8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o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mţi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‘feel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eni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‘come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feri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‘offer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1sg:</a:t>
                      </a:r>
                      <a:r>
                        <a:rPr b="0" lang="ro-RO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    3sg =3pl 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3sg/pl P9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ă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10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-e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11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-ie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onj. 3sg=3pl P9,10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11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:-iască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mperative P9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ă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10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e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P8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ombăni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‘sulk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trebui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‘must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2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u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î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   ‘hate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1sg=3pl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ăsc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3sg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ăşte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3.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ârî</a:t>
                      </a: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   ‘insert’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 1sg:</a:t>
                      </a:r>
                      <a:r>
                        <a:rPr b="0" lang="ro-RO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3sg=3pl:</a:t>
                      </a:r>
                      <a:r>
                        <a:rPr b="1" lang="ro-RO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ă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Times New Roman"/>
              </a:rPr>
              <a:t>III.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Verbs distribution in  paradig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First conjuga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Total:4813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90920" y="990720"/>
          <a:ext cx="4038480" cy="5476680"/>
        </p:xfrm>
        <a:graphic>
          <a:graphicData uri="http://schemas.openxmlformats.org/drawingml/2006/table">
            <a:tbl>
              <a:tblPr/>
              <a:tblGrid>
                <a:gridCol w="533160"/>
                <a:gridCol w="1371600"/>
                <a:gridCol w="1371600"/>
                <a:gridCol w="762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. of verb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lucra 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51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6.87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tud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3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.1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rde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46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per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2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încu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cuz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946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2.6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eced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umbl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ed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lu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t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eghe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4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eoche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III.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Verbs distribution in  paradig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Second conjuga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Total: 28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505320" y="1295280"/>
          <a:ext cx="4267080" cy="1857600"/>
        </p:xfrm>
        <a:graphic>
          <a:graphicData uri="http://schemas.openxmlformats.org/drawingml/2006/table">
            <a:tbl>
              <a:tblPr/>
              <a:tblGrid>
                <a:gridCol w="533160"/>
                <a:gridCol w="1371600"/>
                <a:gridCol w="144792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. of verb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păre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29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căde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e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re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III.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Verbs distribution in  paradig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052640"/>
            <a:ext cx="84582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Third conjuga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Total 286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505320" y="1447920"/>
          <a:ext cx="3352680" cy="3560760"/>
        </p:xfrm>
        <a:graphic>
          <a:graphicData uri="http://schemas.openxmlformats.org/drawingml/2006/table">
            <a:tbl>
              <a:tblPr/>
              <a:tblGrid>
                <a:gridCol w="420480"/>
                <a:gridCol w="1079640"/>
                <a:gridCol w="1081080"/>
                <a:gridCol w="771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. of verb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un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.92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urg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zic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up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er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88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ac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umpl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cri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III.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Verbs distribution in  paradig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907560"/>
            <a:ext cx="86644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64c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Fourth conjuga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Total:2371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19520" y="990720"/>
          <a:ext cx="4190760" cy="5386320"/>
        </p:xfrm>
        <a:graphic>
          <a:graphicData uri="http://schemas.openxmlformats.org/drawingml/2006/table">
            <a:tbl>
              <a:tblPr/>
              <a:tblGrid>
                <a:gridCol w="533160"/>
                <a:gridCol w="1371600"/>
                <a:gridCol w="1295640"/>
                <a:gridCol w="990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. of verb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ovest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578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1.0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usti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locu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9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6.58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şt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u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89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.52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ug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mţ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en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fer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ombăn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trebu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urî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ârî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III.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Verbs distribution in  paradig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The best represented paradigm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64c"/>
                </a:solidFill>
                <a:latin typeface="Times New Roman"/>
              </a:rPr>
              <a:t>Remark. </a:t>
            </a:r>
            <a:r>
              <a:rPr b="0" lang="ro-RO" sz="1800" spc="-1" strike="noStrike">
                <a:solidFill>
                  <a:srgbClr val="00264c"/>
                </a:solidFill>
                <a:latin typeface="Times New Roman"/>
              </a:rPr>
              <a:t>One should study the most used paradigms in corpora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0880" y="1600200"/>
          <a:ext cx="8001000" cy="412416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914400"/>
                <a:gridCol w="1081080"/>
                <a:gridCol w="36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onjug. &amp; Parad. #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. of verb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overage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[%]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.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lucr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51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6.87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: -ez, -ezi, -ea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ză, -ăm, -aţi, -ează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V.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ovest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578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1.0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: -e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c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-e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şti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-e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şte, -im, -iţi, -esc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.6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cuz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946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2.6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: -</a:t>
                      </a:r>
                      <a:r>
                        <a:rPr b="0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-i, -ă, -ăm, -aţi, -ă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V.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locu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9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6.58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: 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c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-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şti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-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şte, -im, -iţi, -iesc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.2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tud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3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.1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: -ez, -ezi, -a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ză, -em, -aţi, -ază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V.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u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89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.52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: -</a:t>
                      </a:r>
                      <a:r>
                        <a:rPr b="0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-</a:t>
                      </a:r>
                      <a:r>
                        <a:rPr b="0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-e, -im, -iţi, -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II.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un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.92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P: -</a:t>
                      </a:r>
                      <a:r>
                        <a:rPr b="0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 -i, -e, -em, -eţi, -</a:t>
                      </a:r>
                      <a:r>
                        <a:rPr b="0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articiple: -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IV.Types of altern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264c"/>
                </a:solidFill>
                <a:latin typeface="Times New Roman"/>
              </a:rPr>
              <a:t>A. Consonantal alternations: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at the right edge of</a:t>
            </a:r>
            <a:r>
              <a:rPr b="1" lang="ro-RO" sz="2400" spc="-1" strike="noStrike">
                <a:solidFill>
                  <a:srgbClr val="00264c"/>
                </a:solidFill>
                <a:latin typeface="Times New Roman"/>
              </a:rPr>
              <a:t> the root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Alternations encountered in all the conjugations triggered b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y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 the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desinence –i of the second person singular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: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d &gt; z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  râ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d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  râ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z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i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st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&gt;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şt   asi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st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a   asi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şt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&gt;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ş   lă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s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a    la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ş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i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sc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&gt;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şt  ri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sc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a     ri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şt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i 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t &gt;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ţ    aju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t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a   aju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i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şc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&gt;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şt   mi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şc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a   mi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şt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&gt; </a:t>
            </a:r>
            <a:r>
              <a:rPr b="0" lang="en-US" sz="1600" spc="-1" strike="noStrike">
                <a:solidFill>
                  <a:srgbClr val="00264c"/>
                </a:solidFill>
                <a:latin typeface="Symbol"/>
                <a:ea typeface="Symbol"/>
              </a:rPr>
              <a:t></a:t>
            </a: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pu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-e   pu-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Alternations specific to the second conjugation triggered by the participle ending –ut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d &gt; z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  că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d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a   că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z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ut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ntrodu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s work presents the results of an approach to the Romanian verb conjugation, got by methods of computational linguistic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Over 7500 verbs have been classified in conjugation paradigms and, inside paradigms, in types of phonological alternation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A part of the research reported here has been supported by the National University Research Counsel of Romania (CNCSIS), grant no. 33549/18A/2002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IV.Types of alternations</a:t>
            </a: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at the edge of</a:t>
            </a: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 the roo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Alternations specific to the third conjugation triggered by different participle endings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participle ending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–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&gt; </a:t>
            </a:r>
            <a:r>
              <a:rPr b="0" lang="en-US" sz="1600" spc="-1" strike="noStrike">
                <a:solidFill>
                  <a:srgbClr val="00264c"/>
                </a:solidFill>
                <a:latin typeface="Symbol"/>
                <a:ea typeface="Symbol"/>
              </a:rPr>
              <a:t></a:t>
            </a: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toar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c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tor-s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&gt; </a:t>
            </a:r>
            <a:r>
              <a:rPr b="0" lang="en-US" sz="1600" spc="-1" strike="noStrike">
                <a:solidFill>
                  <a:srgbClr val="00264c"/>
                </a:solidFill>
                <a:latin typeface="Symbol"/>
                <a:ea typeface="Symbol"/>
              </a:rPr>
              <a:t></a:t>
            </a: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deci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d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deci-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g &gt; </a:t>
            </a:r>
            <a:r>
              <a:rPr b="0" lang="en-US" sz="1600" spc="-1" strike="noStrike">
                <a:solidFill>
                  <a:srgbClr val="00264c"/>
                </a:solidFill>
                <a:latin typeface="Symbol"/>
                <a:ea typeface="Symbol"/>
              </a:rPr>
              <a:t></a:t>
            </a: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atin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g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atin-s, tra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g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tra-s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&gt; </a:t>
            </a:r>
            <a:r>
              <a:rPr b="0" lang="en-US" sz="1600" spc="-1" strike="noStrike">
                <a:solidFill>
                  <a:srgbClr val="00264c"/>
                </a:solidFill>
                <a:latin typeface="Symbol"/>
                <a:ea typeface="Symbol"/>
              </a:rPr>
              <a:t></a:t>
            </a: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pu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n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   pu-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&gt; </a:t>
            </a:r>
            <a:r>
              <a:rPr b="0" lang="en-US" sz="1600" spc="-1" strike="noStrike">
                <a:solidFill>
                  <a:srgbClr val="00264c"/>
                </a:solidFill>
                <a:latin typeface="Symbol"/>
                <a:ea typeface="Symbol"/>
              </a:rPr>
              <a:t></a:t>
            </a: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admi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t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admi-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participle ending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–t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b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&gt; </a:t>
            </a:r>
            <a:r>
              <a:rPr b="0" lang="en-US" sz="1600" spc="-1" strike="noStrike">
                <a:solidFill>
                  <a:srgbClr val="00264c"/>
                </a:solidFill>
                <a:latin typeface="Symbol"/>
                <a:ea typeface="Symbol"/>
              </a:rPr>
              <a:t></a:t>
            </a: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ier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b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 fier-t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&gt; p  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coa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-e  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p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-t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g &gt; p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fri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g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-e  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fri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p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-t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         [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]g &gt; </a:t>
            </a:r>
            <a:r>
              <a:rPr b="0" lang="en-US" sz="1600" spc="-1" strike="noStrike">
                <a:solidFill>
                  <a:srgbClr val="00264c"/>
                </a:solidFill>
                <a:latin typeface="Symbol"/>
                <a:ea typeface="Symbol"/>
              </a:rPr>
              <a:t></a:t>
            </a: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ân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g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 frân-t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participle ending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–ut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d &gt; z   c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re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d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cre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z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ut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şt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&gt;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sc cre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şt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cre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sc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ut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IV. Types of alternations</a:t>
            </a: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at the edge of</a:t>
            </a: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 the roo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Alternations specific to the second and third conjugations triggered by the gerund ending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ând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: 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d &gt; z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    că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d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a   căz-ând,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red-e   crez-ând    N.B. ced-a ced-ând (I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&gt;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g     uci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d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  ucig-ând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şt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&gt;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sc   na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şt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   nă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sc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ând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&gt;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ţ       admi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t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 admi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ând        N.B vomit-a vomit-ând (I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Other types of alternations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 &gt; ch [e]       mar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-a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mar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ch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-ez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(conj.I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g &gt; gh [e]      navi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-a       navi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gh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-ez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(conj.I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sc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&gt;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şt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[e]   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i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sc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-a 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i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şt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(conj.I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şc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&gt;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şt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[e]   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  împro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şc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-a 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împroa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şt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(conj.I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şt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&gt;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sc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[</a:t>
            </a:r>
            <a:r>
              <a:rPr b="0" lang="en-US" sz="1600" spc="-1" strike="noStrike">
                <a:solidFill>
                  <a:srgbClr val="00264c"/>
                </a:solidFill>
                <a:latin typeface="Symbol"/>
                <a:ea typeface="Symbol"/>
              </a:rPr>
              <a:t>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/ă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]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re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şt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       cre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sc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/crea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sc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ă (conj.III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z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&gt; d [</a:t>
            </a:r>
            <a:r>
              <a:rPr b="0" lang="en-US" sz="1600" spc="-1" strike="noStrike">
                <a:solidFill>
                  <a:srgbClr val="00264c"/>
                </a:solidFill>
                <a:latin typeface="Symbol"/>
                <a:ea typeface="Symbol"/>
              </a:rPr>
              <a:t>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/ă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/e]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u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-i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u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/au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ă/au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d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(conj.IV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ţ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&gt;  t [</a:t>
            </a:r>
            <a:r>
              <a:rPr b="0" lang="en-US" sz="1600" spc="-1" strike="noStrike">
                <a:solidFill>
                  <a:srgbClr val="00264c"/>
                </a:solidFill>
                <a:latin typeface="Symbol"/>
                <a:ea typeface="Symbol"/>
              </a:rPr>
              <a:t>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/ă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/e]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m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ţ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-i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      sim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/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sim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ă/sim</a:t>
            </a:r>
            <a:r>
              <a:rPr b="1" lang="ro-RO" sz="2000" spc="-1" strike="noStrike">
                <a:solidFill>
                  <a:srgbClr val="00264c"/>
                </a:solidFill>
                <a:latin typeface="Times New Roman"/>
              </a:rPr>
              <a:t>t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-e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(conj.IV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Types of alternations –inside the roo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264c"/>
                </a:solidFill>
                <a:latin typeface="Times New Roman"/>
              </a:rPr>
              <a:t>B. Vo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wel</a:t>
            </a:r>
            <a:r>
              <a:rPr b="1" lang="ro-RO" sz="2400" spc="-1" strike="noStrike">
                <a:solidFill>
                  <a:srgbClr val="00264c"/>
                </a:solidFill>
                <a:latin typeface="Times New Roman"/>
              </a:rPr>
              <a:t> alternations: inside the root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This type of alternations is present in all the conjugations.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There are 14 types of vowel alternations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We suppose two reasons for yielding alternations: the movement of the stress and the influence of the endings. However, further research is needed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1. Alternations triggered by the movement of the stres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ă-a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   t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ă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i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á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&gt; t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á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i  (IP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1sg) ‘cut’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a-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ă     tr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á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ge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&gt; tr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ge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á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m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(I.imperfect 1sg)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‘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dr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a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’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â-ă     răm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â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ne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&gt; r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ăm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ă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s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é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i (I. perfect)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‘stay’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e-i     prez</a:t>
            </a:r>
            <a:r>
              <a:rPr b="1" lang="en-US" sz="2000" spc="-1" strike="noStrike" u="sng">
                <a:solidFill>
                  <a:srgbClr val="00264c"/>
                </a:solidFill>
                <a:uFillTx/>
                <a:latin typeface="Times New Roman"/>
                <a:ea typeface="宋体"/>
              </a:rPr>
              <a:t>e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nt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á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&gt; prez</a:t>
            </a:r>
            <a:r>
              <a:rPr b="1" lang="en-US" sz="2000" spc="-1" strike="noStrike" u="sng">
                <a:solidFill>
                  <a:srgbClr val="00264c"/>
                </a:solidFill>
                <a:uFillTx/>
                <a:latin typeface="Times New Roman"/>
                <a:ea typeface="宋体"/>
              </a:rPr>
              <a:t>í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nt (IP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1sg) ‘present’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u-o    d</a:t>
            </a:r>
            <a:r>
              <a:rPr b="1" lang="en-US" sz="2000" spc="-1" strike="noStrike" u="sng">
                <a:solidFill>
                  <a:srgbClr val="00264c"/>
                </a:solidFill>
                <a:uFillTx/>
                <a:latin typeface="Times New Roman"/>
                <a:ea typeface="宋体"/>
              </a:rPr>
              <a:t>u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re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á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&gt; d</a:t>
            </a:r>
            <a:r>
              <a:rPr b="1" lang="en-US" sz="2000" spc="-1" strike="noStrike" u="sng">
                <a:solidFill>
                  <a:srgbClr val="00264c"/>
                </a:solidFill>
                <a:uFillTx/>
                <a:latin typeface="Times New Roman"/>
                <a:ea typeface="宋体"/>
              </a:rPr>
              <a:t>ó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r (IP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3pl)  ‘hurt’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u-oa  d</a:t>
            </a:r>
            <a:r>
              <a:rPr b="1" lang="en-US" sz="2000" spc="-1" strike="noStrike" u="sng">
                <a:solidFill>
                  <a:srgbClr val="00264c"/>
                </a:solidFill>
                <a:uFillTx/>
                <a:latin typeface="Times New Roman"/>
                <a:ea typeface="宋体"/>
              </a:rPr>
              <a:t>u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re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á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&gt; d</a:t>
            </a:r>
            <a:r>
              <a:rPr b="1" lang="en-US" sz="2000" spc="-1" strike="noStrike" u="sng">
                <a:solidFill>
                  <a:srgbClr val="00264c"/>
                </a:solidFill>
                <a:uFillTx/>
                <a:latin typeface="Times New Roman"/>
                <a:ea typeface="宋体"/>
              </a:rPr>
              <a:t>o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á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re (IP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3sg)  ‘hurt’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IV.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Types of alternations: inside the roo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2. Alternations depending on the ending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ă-e     v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ă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rsa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&gt; v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e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rşi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(IP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sg)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‘pour’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ă-a     v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ă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rsa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&gt; v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a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rsă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(IP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3sg)   ‘pour’    NB. ap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ă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r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á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: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á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p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ă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ră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‘to defend’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e-a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  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v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e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dea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&gt; v</a:t>
            </a:r>
            <a:r>
              <a:rPr b="1" lang="en-US" sz="2000" spc="-1" strike="noStrike" u="sng">
                <a:solidFill>
                  <a:srgbClr val="00264c"/>
                </a:solidFill>
                <a:uFillTx/>
                <a:latin typeface="Times New Roman"/>
                <a:ea typeface="宋体"/>
              </a:rPr>
              <a:t>a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dă (Conj. 3sg)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‘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see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’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    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pi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e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rde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&gt;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pi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a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rdă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(IP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3sg) ‘lose’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e-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ă     v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e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dea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&gt; v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ă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d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(IP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1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sg) ‘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see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’,  acop</a:t>
            </a:r>
            <a:r>
              <a:rPr b="1" lang="en-US" sz="2000" spc="-1" strike="noStrike" u="sng">
                <a:solidFill>
                  <a:srgbClr val="00264c"/>
                </a:solidFill>
                <a:uFillTx/>
                <a:latin typeface="Times New Roman"/>
                <a:ea typeface="宋体"/>
              </a:rPr>
              <a:t>e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ri &gt; acop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ă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r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(IP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1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sg)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‘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cover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’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e-ea   cr</a:t>
            </a:r>
            <a:r>
              <a:rPr b="1" lang="en-US" sz="2000" spc="-1" strike="noStrike" u="sng">
                <a:solidFill>
                  <a:srgbClr val="00264c"/>
                </a:solidFill>
                <a:uFillTx/>
                <a:latin typeface="Times New Roman"/>
                <a:ea typeface="宋体"/>
              </a:rPr>
              <a:t>e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de &gt; cr</a:t>
            </a:r>
            <a:r>
              <a:rPr b="1" lang="en-US" sz="2000" spc="-1" strike="noStrike" u="sng">
                <a:solidFill>
                  <a:srgbClr val="00264c"/>
                </a:solidFill>
                <a:uFillTx/>
                <a:latin typeface="Times New Roman"/>
                <a:ea typeface="宋体"/>
              </a:rPr>
              <a:t>ea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d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(IP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3sg)  ‘belive’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i-â     v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i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nde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&gt;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v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â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ndă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(IP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3sg)  ‘sell’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o-oa  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în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o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ta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&gt;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în</a:t>
            </a:r>
            <a:r>
              <a:rPr b="1" lang="ro-RO" sz="2000" spc="-1" strike="noStrike" u="sng">
                <a:solidFill>
                  <a:srgbClr val="00264c"/>
                </a:solidFill>
                <a:uFillTx/>
                <a:latin typeface="Times New Roman"/>
              </a:rPr>
              <a:t>oa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tă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(IP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3sg)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‘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swim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’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oa-o   c</a:t>
            </a:r>
            <a:r>
              <a:rPr b="1" lang="en-US" sz="2000" spc="-1" strike="noStrike" u="sng">
                <a:solidFill>
                  <a:srgbClr val="00264c"/>
                </a:solidFill>
                <a:uFillTx/>
                <a:latin typeface="Times New Roman"/>
                <a:ea typeface="宋体"/>
              </a:rPr>
              <a:t>oa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se &gt; c</a:t>
            </a:r>
            <a:r>
              <a:rPr b="1" lang="en-US" sz="2000" spc="-1" strike="noStrike" u="sng">
                <a:solidFill>
                  <a:srgbClr val="00264c"/>
                </a:solidFill>
                <a:uFillTx/>
                <a:latin typeface="Times New Roman"/>
                <a:ea typeface="宋体"/>
              </a:rPr>
              <a:t>o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s (IP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1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sg)  ‘sew’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oa-u   c</a:t>
            </a:r>
            <a:r>
              <a:rPr b="1" lang="en-US" sz="2000" spc="-1" strike="noStrike" u="sng">
                <a:solidFill>
                  <a:srgbClr val="00264c"/>
                </a:solidFill>
                <a:uFillTx/>
                <a:latin typeface="Times New Roman"/>
                <a:ea typeface="宋体"/>
              </a:rPr>
              <a:t>oa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se &gt; c</a:t>
            </a:r>
            <a:r>
              <a:rPr b="1" lang="en-US" sz="2000" spc="-1" strike="noStrike" u="sng">
                <a:solidFill>
                  <a:srgbClr val="00264c"/>
                </a:solidFill>
                <a:uFillTx/>
                <a:latin typeface="Times New Roman"/>
                <a:ea typeface="宋体"/>
              </a:rPr>
              <a:t>u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sut (Participle)  ‘sew’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V. V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erbal roots</a:t>
            </a: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t</a:t>
            </a: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 perfect tens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60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Works in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Romanian morphology do not register specific root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for the perfect tenses of verbs.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However a lot of verbs of second and third conjugation displa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y the same consonantal alternation at participle and perfect tenses (i.e.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the simple perfect and the past perfect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). This fact leads us to consider the existence of a perfect root on verbal conjugation.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Sometimes the participle root is used for gerund too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3520" y="3200400"/>
          <a:ext cx="8076960" cy="3214800"/>
        </p:xfrm>
        <a:graphic>
          <a:graphicData uri="http://schemas.openxmlformats.org/drawingml/2006/table">
            <a:tbl>
              <a:tblPr/>
              <a:tblGrid>
                <a:gridCol w="2286000"/>
                <a:gridCol w="1285920"/>
                <a:gridCol w="1087200"/>
                <a:gridCol w="2019240"/>
                <a:gridCol w="1398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er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lternation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rticipl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mple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erfect 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sg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rund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</a:t>
                      </a:r>
                      <a:r>
                        <a:rPr b="1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d-ea</a:t>
                      </a: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‘to </a:t>
                      </a: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ee</a:t>
                      </a: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ăz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ut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ăz-ui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ăz-ând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naşt-e</a:t>
                      </a: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to give birth’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şt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c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născ-u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născ-ui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născ-ând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cid-e</a:t>
                      </a: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‘to decide’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 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eci-s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eci-sei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eciz</a:t>
                      </a: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-ând !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dmit-e</a:t>
                      </a: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‘to admit’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dmi-s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dmi-sei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mi</a:t>
                      </a: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ţ-ând !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parg-e</a:t>
                      </a: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‘to break’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g 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par-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p</a:t>
                      </a: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-</a:t>
                      </a: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ei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părg-ând !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oac-e</a:t>
                      </a: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‘to bake’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 </a:t>
                      </a:r>
                      <a:r>
                        <a:rPr b="0" lang="ro-RO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p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op-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op-sei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oc-</a:t>
                      </a: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â</a:t>
                      </a: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nd</a:t>
                      </a:r>
                      <a:r>
                        <a:rPr b="0" lang="ro-RO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!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The automatic treatment of the Romanian verbs allow us to study a ver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y big number of verb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We have distributed Romanian verbs on paradigms and types of alternation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Our approach offer a clearer perspective of similitudes and differences regarding the conjugation of the Romanian verb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Quantitative measuring is now easy to do. 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Thank you !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ssues to be discuss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I.  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rocedure of getting inflected verbal forms</a:t>
            </a:r>
            <a:r>
              <a:rPr b="0" lang="it-IT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II. 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Paradigm inventory</a:t>
            </a: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III.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Verbs distribution in  paradigm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IV.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Types of alternations: inside the verbal root and at the right edge of it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V. V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erbal roots</a:t>
            </a: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 for perfect tense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cedure of getting inflected verbal forms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415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264c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1.   Resourc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507960" indent="-507960">
              <a:spcBef>
                <a:spcPts val="601"/>
              </a:spcBef>
              <a:buClr>
                <a:srgbClr val="00264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Verbs are taken from DOOM 1989 (Dictionary of Orthographic, Orthoepic and Morphological forms of the Romanian words) available in an electronic copy</a:t>
            </a: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507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507960" indent="-507960">
              <a:spcBef>
                <a:spcPts val="601"/>
              </a:spcBef>
              <a:buClr>
                <a:srgbClr val="00264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A parser for the verb entries in DOOM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507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507960" indent="-507960">
              <a:spcBef>
                <a:spcPts val="601"/>
              </a:spcBef>
              <a:buClr>
                <a:srgbClr val="00264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A verb paradigm inventory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507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507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Entry struture in DOOM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507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POS=part-of-speech, MSD=morphosyntactic description, IF=inflected form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8080" y="4724280"/>
          <a:ext cx="7459560" cy="1338120"/>
        </p:xfrm>
        <a:graphic>
          <a:graphicData uri="http://schemas.openxmlformats.org/drawingml/2006/table">
            <a:tbl>
              <a:tblPr/>
              <a:tblGrid>
                <a:gridCol w="1038240"/>
                <a:gridCol w="735120"/>
                <a:gridCol w="1711080"/>
                <a:gridCol w="1133640"/>
                <a:gridCol w="1420560"/>
                <a:gridCol w="1420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lemma 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POS 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SD1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F1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SD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F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507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andoná    vb.,   ind. prez. 1 sg.   abandonéz,  3 sg. </a:t>
                      </a: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 pl.  abandoneáz</a:t>
                      </a: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ă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5181480"/>
            <a:ext cx="0" cy="57492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5257800"/>
            <a:ext cx="0" cy="57456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5181480"/>
            <a:ext cx="0" cy="57492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5181480"/>
            <a:ext cx="0" cy="57492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5181480"/>
            <a:ext cx="0" cy="57492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5181480"/>
            <a:ext cx="0" cy="57492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 P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cedure of getting inflected verbal for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981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>
              <a:spcBef>
                <a:spcPts val="601"/>
              </a:spcBef>
              <a:buClr>
                <a:srgbClr val="00264c"/>
              </a:buClr>
              <a:buSzPct val="8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 </a:t>
            </a:r>
            <a:r>
              <a:rPr b="1" lang="ro-RO" sz="2400" spc="-1" strike="noStrike">
                <a:solidFill>
                  <a:srgbClr val="00264c"/>
                </a:solidFill>
                <a:latin typeface="Times New Roman"/>
              </a:rPr>
              <a:t>Paradigm comple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872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entifying the paradigm which provides endings for all the forms specified in DOOM. It is possible to get more paradigms matching the provided forms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287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2872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Cutting the endings of one or more DOOM forms in order to get the root(s) corresponding to different moods or tenses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287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2872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 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Assembling the rest of the inflected forms (i.e. the empty cells in 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the t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able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below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) from the root(s) and the corresponding paradigm endings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287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2872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Only the one-word forms have been completed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4365720"/>
          <a:ext cx="8218440" cy="1881000"/>
        </p:xfrm>
        <a:graphic>
          <a:graphicData uri="http://schemas.openxmlformats.org/drawingml/2006/table">
            <a:tbl>
              <a:tblPr/>
              <a:tblGrid>
                <a:gridCol w="1743120"/>
                <a:gridCol w="1433520"/>
                <a:gridCol w="625320"/>
                <a:gridCol w="1744560"/>
                <a:gridCol w="630360"/>
                <a:gridCol w="558720"/>
                <a:gridCol w="14828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Nb. of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paradigm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Present indicativ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1 sg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2 sg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3 sg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1 pl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2.pl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3 pl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aradigm’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 ending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-éz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-éz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-eáz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ă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ắ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m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-á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ţ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-eáz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ă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DOOM form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abandonéz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abandoneáz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ă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abandoneáz</a:t>
                      </a:r>
                      <a:r>
                        <a:rPr b="1" lang="ro-RO" sz="1800" spc="-1" strike="noStrike">
                          <a:solidFill>
                            <a:srgbClr val="00264c"/>
                          </a:solidFill>
                          <a:latin typeface="Times New Roman"/>
                          <a:ea typeface="宋体"/>
                        </a:rPr>
                        <a:t>ă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 P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cedure of getting inflected verbal for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264c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Verification procedur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The output has been checked by students by focusing on the following problems: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Ambiguity –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when a list of possible paradigms exists. This is due to the fact that sometimes DOOM does not specify all the distinguishing forms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Accent –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there are cases when the stress of a verb is either on the root, or on the ending during verbal conjugation. The program assembling the inflected forms sometimes missed this kind of change.</a:t>
            </a:r>
            <a:r>
              <a:rPr b="1" i="1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Root –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Romanian words exhibit a rich system of consonantal and vowel alternations.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Interpreting errors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宋体"/>
              </a:rPr>
              <a:t> – as is well known, in many cases, descriptions in printed dictionaries are not explicit enough for automatic processing.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 P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cedure of getting inflected verbal for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*absorbí vb., ind. prez. 1 sg. şi 3 pl. absorb, imperf. 3 sg. absorbeá; conj. prez. 3 sg. şi pl. absoárb</a:t>
            </a:r>
            <a:r>
              <a:rPr b="0" lang="ro-RO" sz="1800" spc="-1" strike="noStrike">
                <a:solidFill>
                  <a:srgbClr val="333333"/>
                </a:solidFill>
                <a:latin typeface="Times New Roman"/>
              </a:rPr>
              <a:t>ă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宋体"/>
              </a:rPr>
              <a:t>OOT</a:t>
            </a:r>
            <a:r>
              <a:rPr b="0" lang="ro-RO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absoarb 26  29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宋体"/>
              </a:rPr>
              <a:t>OOT</a:t>
            </a:r>
            <a:r>
              <a:rPr b="0" lang="ro-RO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absorb 0  1  2  3  4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宋体"/>
              </a:rPr>
              <a:t>…</a:t>
            </a:r>
            <a:r>
              <a:rPr b="0" lang="ro-RO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25  27  28  30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宋体"/>
              </a:rPr>
              <a:t>… </a:t>
            </a:r>
            <a:r>
              <a:rPr b="0" lang="ro-RO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8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f. absorbí</a:t>
            </a:r>
            <a:r>
              <a:rPr b="0" lang="ro-RO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aradigma=i-6 7 8</a:t>
            </a:r>
            <a:r>
              <a:rPr b="1" lang="ro-RO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宋体"/>
              </a:rPr>
              <a:t>imperative 6: -i, </a:t>
            </a:r>
            <a:r>
              <a:rPr b="0" lang="en-US" sz="1800" spc="-1" strike="noStrike">
                <a:solidFill>
                  <a:srgbClr val="fb0332"/>
                </a:solidFill>
                <a:latin typeface="Times New Roman"/>
                <a:ea typeface="宋体"/>
              </a:rPr>
              <a:t>7: -e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宋体"/>
              </a:rPr>
              <a:t>, 8: -o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  <a:ea typeface="宋体"/>
              </a:rPr>
              <a:t>(# - marks the lack of the accent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2120" y="3048120"/>
          <a:ext cx="7467480" cy="3444840"/>
        </p:xfrm>
        <a:graphic>
          <a:graphicData uri="http://schemas.openxmlformats.org/drawingml/2006/table">
            <a:tbl>
              <a:tblPr/>
              <a:tblGrid>
                <a:gridCol w="3733560"/>
                <a:gridCol w="3733920"/>
              </a:tblGrid>
              <a:tr h="346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.ind.prez.1sg. absorb#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.ind.prez.2sg. absorbi#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.ind.prez.3sg. absorbe#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.ind.prez.1pl. absorbím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.ind.prez.2pl. absorbí</a:t>
                      </a: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ţ</a:t>
                      </a: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.ind.prez.3pl. </a:t>
                      </a:r>
                      <a:r>
                        <a:rPr b="0" lang="ro-RO" sz="1800" spc="-1" strike="noStrike">
                          <a:solidFill>
                            <a:srgbClr val="fb0332"/>
                          </a:solidFill>
                          <a:latin typeface="Times New Roman"/>
                          <a:ea typeface="Times New Roman"/>
                        </a:rPr>
                        <a:t>absorb</a:t>
                      </a: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.ind.imperf.1sg. absorbeám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...</a:t>
                      </a:r>
                      <a:endParaRPr b="0" lang="en-US" sz="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2.ind.perf.s.1sg. absorbí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....</a:t>
                      </a:r>
                      <a:endParaRPr b="0" lang="en-US" sz="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8.ind.m.m.c.perf.1sg. absorbísem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4.conj.prez.1sg. absorb#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5.conj.prez.2sg. absorbi#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6.conj.prez.3sg. absoárb</a:t>
                      </a: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ă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9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0.imper.2sg. </a:t>
                      </a:r>
                      <a:r>
                        <a:rPr b="0" lang="ro-RO" sz="1800" spc="-1" strike="noStrike">
                          <a:solidFill>
                            <a:srgbClr val="fb0332"/>
                          </a:solidFill>
                          <a:latin typeface="Times New Roman"/>
                          <a:ea typeface="Times New Roman"/>
                        </a:rPr>
                        <a:t>absorbi</a:t>
                      </a: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1.imper.neg.2sg. absorbí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...</a:t>
                      </a:r>
                      <a:endParaRPr b="0" lang="en-US" sz="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5.part.adj.m.sg. absorbít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6.part.adj.f.sg. absorbít</a:t>
                      </a: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ă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7.part.adj.m.pl. absorbí</a:t>
                      </a: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ţ</a:t>
                      </a: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8.part.adj.f.pl. absorbít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II. Paradigm inventor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05264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In Romanian there are four conjugations depending on the final vowel of the infinitive form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-</a:t>
            </a: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     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a lucra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 (to work), 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a accesa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宋体"/>
              </a:rPr>
              <a:t> (to access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-ea</a:t>
            </a: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 (diphtongue)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a vedea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(to see), 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a bea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(to drink)</a:t>
            </a: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 –</a:t>
            </a:r>
            <a:r>
              <a:rPr b="0" lang="ro-RO" sz="2000" spc="-1" strike="noStrike">
                <a:solidFill>
                  <a:srgbClr val="00264c"/>
                </a:solidFill>
                <a:latin typeface="Times New Roman"/>
              </a:rPr>
              <a:t>old and unproductiv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-e      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a pune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(to put), 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a admite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(to admit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-i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a </a:t>
            </a:r>
            <a:r>
              <a:rPr b="0" i="1" lang="ro-RO" sz="2400" spc="-1" strike="noStrike">
                <a:solidFill>
                  <a:srgbClr val="00264c"/>
                </a:solidFill>
                <a:latin typeface="Times New Roman"/>
              </a:rPr>
              <a:t>şti</a:t>
            </a: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 (to know), </a:t>
            </a:r>
            <a:r>
              <a:rPr b="0" i="1" lang="ro-RO" sz="2400" spc="-1" strike="noStrike">
                <a:solidFill>
                  <a:srgbClr val="00264c"/>
                </a:solidFill>
                <a:latin typeface="Times New Roman"/>
              </a:rPr>
              <a:t>a veni</a:t>
            </a: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 (to come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-î      </a:t>
            </a:r>
            <a:r>
              <a:rPr b="0" i="1" lang="ro-RO" sz="2400" spc="-1" strike="noStrike">
                <a:solidFill>
                  <a:srgbClr val="00264c"/>
                </a:solidFill>
                <a:latin typeface="Times New Roman"/>
              </a:rPr>
              <a:t>a urî</a:t>
            </a: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 (to hate), </a:t>
            </a:r>
            <a:r>
              <a:rPr b="0" i="1" lang="ro-RO" sz="2400" spc="-1" strike="noStrike">
                <a:solidFill>
                  <a:srgbClr val="00264c"/>
                </a:solidFill>
                <a:latin typeface="Times New Roman"/>
              </a:rPr>
              <a:t>a coborî</a:t>
            </a: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 (to go down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There are verbs ending in –ea which actually belong to the first conjugation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264c"/>
                </a:solidFill>
                <a:latin typeface="Times New Roman"/>
              </a:rPr>
              <a:t>a crea</a:t>
            </a: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 (to create) – where final –ea is pronounced in hiat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us: cre-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264c"/>
                </a:solidFill>
                <a:latin typeface="Times New Roman"/>
              </a:rPr>
              <a:t>a veghea</a:t>
            </a: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 (to watch) –where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‘e’ in final –ea belongs to the consonantal group ‘ghe’</a:t>
            </a: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(it is a palatalization mark): veg’-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33"/>
                </a:solidFill>
                <a:latin typeface="Times New Roman"/>
              </a:rPr>
              <a:t>II. Paradigm inventor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2472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Criteria for distinguishing the paradigms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3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1. Paradigms are defined by sets of desinence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3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2. A desinence is what it is added to the root for yielding an inflected form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3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3. The root is  what it is got by removing the vowel(s) specific to one of the four conjugations from the infinitive form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3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.g. lucra &gt; lucr-, vedea&gt;ved-, pune &gt; pun-, </a:t>
            </a: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şti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&gt; </a:t>
            </a: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şt-, urî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&gt; ur-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3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4. Two paradigms differ if their desinence sets differ by at least one membe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3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64c"/>
                </a:solidFill>
                <a:latin typeface="Times New Roman"/>
              </a:rPr>
              <a:t>5. Irregular verbs have their own paradigm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3:33:28Z</dcterms:created>
  <dc:creator>Emil IONESCU</dc:creator>
  <dc:description/>
  <dc:language>en-US</dc:language>
  <cp:lastModifiedBy>xxx</cp:lastModifiedBy>
  <dcterms:modified xsi:type="dcterms:W3CDTF">2008-04-26T00:05:52Z</dcterms:modified>
  <cp:revision>70</cp:revision>
  <dc:subject/>
  <dc:title>Valenţele verbale ca tipare de utilizare în corpus</dc:title>
</cp:coreProperties>
</file>