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C23-F8FE-4131-87F1-B1DEB879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02A-62FD-4341-B425-76436E15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E85-021F-4115-BCBA-D2FC0D0B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18B-7791-400F-B42A-556DE91F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DD2-9316-4826-99E6-7845CEB1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654-AF7F-4D74-AC15-00F8D6A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388-A079-4959-B61A-9D7EE471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E61-9A04-4FA3-987F-37F3430C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8FE-8880-4C35-A1CA-ECF30B8D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36F-A7AE-429C-8446-6BB3C53D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098-C661-4136-848B-20600A71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C14-3C2C-4201-AE32-11AF3B61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6C0B-7B5C-4FDF-9611-71719118B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3320" y="404640"/>
            <a:ext cx="647928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’annotation morphosyntax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e transcription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e dialogues oraux spontan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e D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e de recherche Vali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ne.dister@uclouvain.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éminaire interne de l’équipe d’informatique linguistique de l’IG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3 mars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blèmes liés à la transcription elle-mê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 transcri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opie du « tout transcrir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ibler ses objectifs de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ventions de transcription explic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onventions de transcription Vali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hographe standard (lisibilit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é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 de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cage ort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hographique 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'est pour ç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élange toujours l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on dan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rança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 c’es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a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a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 parle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rança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uram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cation de la phonétique entre crochets si nécessa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onventions de transcription Vali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bandon du concept de 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 de ponc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 de majus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onventions de transcription Vali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e en compte de l’oralité du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e silencieuse (3 degré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-  eu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répé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mot amorc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 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our à la ligne pour changement de prise de pa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 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vauchement de pa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onventions de transcription Vali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Passages incompréhensib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x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336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Multitranscrip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1 j’ai vu {des,les} v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onventions de transcription Vali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laJD1  il est né en quelle année lui |- Françoi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laCD1 en -| quatre-vingt-qua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laJD1  ben oui si c'est sa petite communion // ah mais il avait opér/ opéré que je parle / là il allait bie/ il allait encore bien quand il est allé à la petite communion  hein // de François (silence) |- ouf oui mais enfin &lt;blaCD1&gt; oui mais enfin bon oui -| mais depuis qu'il avait été opéré on ne partait plus hein / euh / ni le soleil  / ni le froid / ça n/ ça ne lui valait rien / et puis / il était vite fatigué 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90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onventions de transcription Vali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rKJ1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uh mais euh 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 qui est souhai/ la p/ les performances qui sont souhaitées par / nos 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os prescriptivistes 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 la part de ceux qui sont réputés être les modèles en matière de langue / ici 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e sont pas exactement les performances qui seraient 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uh réclamées par des puristes parisiens de leurs propres / instances 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e crois p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082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fficultés de l’étiquetage de corpus or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le unité de traite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les corpus écrits, « d’une majuscule à un point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Gulim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Gulim"/>
              </a:rPr>
              <a:t>{S}Avant, j’étais toujours faible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Gulim"/>
              </a:rPr>
              <a:t>{S} Maintenant, je prends de la vitamine A.{S} Mon médecin me l'a conseillé.{S} Il s'appelle B. Denis. {S} Son frère travaille à la S.N.C.F.{S} Il est délégué synd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ept de phrase inopérant à l’oral, textes non ponctu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fficultés de l’étiquetage de corpus or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le unité de traitemen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r de paro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lenc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use longu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use brèv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ité intonativ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ifficultés liées aux marques de l’or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pé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pétition de « en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il y avait que moi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en en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//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en e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boulangerie parce que moi je voulais du boulot par l’écol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adre du trav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ntal et Centre de recherche Valibel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Variétés linguistiques du français en Belgi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anque de données textuelles oral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registrements et des tran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tiquetage morphosyntax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ifficultés liées aux marques de l’or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nctu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y a pas de de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comment d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// d’échappatoire à ce niveau-là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qu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h (silence) au niveau euh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je vais d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/ d’être grammatical ou / ou orthograph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enfin ici je vois que / parmi les /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allez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je dirai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es grosses têtes les grands techniciens ils s’expriment correctement je vais pas dire le contraire / mais je vais pas dire que ils s’expriment mieux que pas mal d’employés 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ifficultés liées aux marques de l’or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hrases inachev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1 en français |- je je suis &lt;L0&gt; en français -| mal à l’aise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dans la mesure / où si je pff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on pas pour une raison de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ce que ça dépend le type d’études je pense que c’est pas de la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hilologi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r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euh class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ais les gens qui font des études scientifiques / ne s’expriment // normalement ceux qui font des mathématiques devraient savoir bien s’exprimer c’est toujours ce que me disait un profess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ifficultés liées aux conventions :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cas des chevauch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CT0 ah bon |- ç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c’e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FJ1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he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-| oui je s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CT0 c’est une bonne méthode [accFJ1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CT0 ah bon |- ç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c’e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&lt;accFJ1&gt; hein -| c’est une bonne méthode [accFJ1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Étude linguistique approfondi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certaines dis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« gérer » dans le processus d’étiquetag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aire émerger des régularit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ffets sur la linéarité de l’énonc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pérer les inachèvements syntax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ermettre le découpage des énoncés en unités plus pet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ntraint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pouvoir les repérer de manière automat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Étude approfondi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certaines dis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pétition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12 192) 1/31 m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euh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9423)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/47 m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morces de morphèm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3612) 1/123 m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tocorrections immédi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uses silencieus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30 831)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/14 mot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Étude approfondi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certaines dis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1026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pétition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12 192) 1/31 m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rMS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je sais pas / parler sans accent pour m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’est s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 s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 sans bafouiller s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 s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s se tromper de mots quoi s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s qu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langue fourche  qu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Étude approfondi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certaines dis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tocorrections immédi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cFJ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bè c’est-à-dire que euh / oui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le 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iégeois // euh // ont un ac/ ont ont une euh comment dirais-je ont un contact sont généralement des gens chaleureux (…) [accFJ1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Étude approfondi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certaines dis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morces de morphèm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3612) 1/123 m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jDV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pprendre ça c’es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transm/ transmett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un savoir donc ça c’est apprendre communiquer euh euh (…) [iljDV1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rMS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i ça me plaît bien mais // faut dire que / bon euh avec la boulangerie euh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je fai/ je faisai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s pralines chez moi (…) [ilrMS1r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eGF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st-ce que vous songez à d' autr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mmunicat/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uh à d’autr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fonc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rire) [ilePA2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lrVI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 quand un néerlandophone parle français / euh je trouve que ça ne fait pas bien du tout / par rapport à quelqu’un qui parle bie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fran/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omme un Bruxellois par exemple (…) [ilrVI2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Étude approfondi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certaines dis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euh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(9423)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/47 m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pause sonore », « euh d’hésitation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mVV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’est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une panne euh d’alternat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[famVV1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laAT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...) tu vois de t/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tous nos copains euh / sont universitair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ussi et je crois que ça doit le trotter un peu tu vois [blaAT1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Étude approfondi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certaines dis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uses silencieus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30 831)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/14 m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 degrés de pause : brève, longue, 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tés subjectivement par le transcrip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rp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us-corpus de la banque de données Vali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60 enregistrements = tran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90 locu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43 195 m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0 he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 grands groupe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entrevues semi-dirig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conversations l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cours non planif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étraitement du corp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Harmoniser »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ndre les données compatibles avec le logiciel Unitex et le système de levée d’ambigü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érer des balises, notamment pour les dis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ouper le texte en unité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nscription init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une trémie / ça veut dire qu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trémie justement une trémie i/ |- c’est une &lt;L0&gt; oui -| un tunnel une trémie chez nous c’est: / c’est le c’est c’est ce qu’on appelle un tu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h d’a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ein |- mais &lt;L0&gt; mm -| une pet/ un petit tunnel qui n’est pas trè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 une trémie euh grammaticalement c’est une chose qui s’ en/ qui s’ enfonce plutôt dans la te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sultats du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étrai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{ileGF0,.NLoc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{&lt;r&gt; une &lt;/r&gt;,.IGN+Rep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une trémie </a:t>
            </a:r>
            <a:r>
              <a:rPr b="0" lang="fr-FR" sz="2000" spc="-1" strike="noStrike">
                <a:solidFill>
                  <a:srgbClr val="777777"/>
                </a:solidFill>
                <a:latin typeface="Arial"/>
              </a:rPr>
              <a:t>{/,.PAB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ça veut dire qu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{ilePA2,.NLoc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une trémie justement une trémie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</a:rPr>
              <a:t>{i/,.AMO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777777"/>
                </a:solidFill>
                <a:latin typeface="Arial"/>
              </a:rPr>
              <a:t>{|-,.IGN+ChO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’est </a:t>
            </a:r>
            <a:r>
              <a:rPr b="0" lang="fr-FR" sz="2000" spc="-1" strike="noStrike">
                <a:solidFill>
                  <a:srgbClr val="00cc00"/>
                </a:solidFill>
                <a:latin typeface="Arial"/>
              </a:rPr>
              <a:t>{&lt;c&gt; u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@76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777777"/>
                </a:solidFill>
                <a:latin typeface="Arial"/>
              </a:rPr>
              <a:t>-|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cc00"/>
                </a:solidFill>
                <a:latin typeface="Arial"/>
              </a:rPr>
              <a:t>&lt;/c&gt;,.IGN+Cor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un tunnel une trémie chez nous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{&lt;r&gt; c’est / &lt;/r&gt;,.IGN+Re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 c’est le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{&lt;r&gt; c’est &lt;/r&gt;,.IGN+Rep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’est ce qu’on appelle un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{@768 ileGF0,.NLocChev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{ileGF0,.NLoc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h d’ac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{ilePA2,.NLoc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hein </a:t>
            </a:r>
            <a:r>
              <a:rPr b="0" lang="fr-FR" sz="2000" spc="-1" strike="noStrike">
                <a:solidFill>
                  <a:srgbClr val="777777"/>
                </a:solidFill>
                <a:latin typeface="Arial"/>
              </a:rPr>
              <a:t>{|-,.IGN+ChO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ais </a:t>
            </a: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{@769,.IGN+Loc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777777"/>
                </a:solidFill>
                <a:latin typeface="Arial"/>
              </a:rPr>
              <a:t>{-|,.IGN+ChF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cc00"/>
                </a:solidFill>
                <a:latin typeface="Arial"/>
              </a:rPr>
              <a:t>{&lt;c&gt; une pet/ &lt;/c&gt;,.IGN+Cor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un petit tunnel qui n’est pas très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{@769 ileGF0,.NLocChev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{ileGF0,.NLoc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{ilePA2,.NLoc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{S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r une trémie </a:t>
            </a:r>
            <a:r>
              <a:rPr b="0" lang="fr-FR" sz="2000" spc="-1" strike="noStrike">
                <a:solidFill>
                  <a:srgbClr val="777777"/>
                </a:solidFill>
                <a:latin typeface="Arial"/>
              </a:rPr>
              <a:t>{euh,.IGN+Euh}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rammaticalement c’est une chose </a:t>
            </a:r>
            <a:r>
              <a:rPr b="0" lang="fr-FR" sz="2000" spc="-1" strike="noStrike">
                <a:solidFill>
                  <a:srgbClr val="99cc00"/>
                </a:solidFill>
                <a:latin typeface="Arial"/>
              </a:rPr>
              <a:t>{&lt;r&gt; qui s’en/ &lt;/r&gt;,.IGN+Rep}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qui s’enfonce plutôt dans la ter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cessus d’an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e « brut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trai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ultation des ressources lexicales afin de fournir toutes les hypothèses pour les « mot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vée d’ambigüités qui supprime les hypothèses erro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idation manu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2492280"/>
            <a:ext cx="485640" cy="40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155736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378936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501336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lfrabel 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ictionnaire électroniqu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u français en Belg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de traiter automatiquement des textes (de scripteurs) bel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rend actuellement 5124 entr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endra les informations issues de l’enquête de vitalité menée à Vali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1066680"/>
            <a:ext cx="77724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uindaille,guindaille.N:fs/Delfrabel:fête, beuv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uindailles,guindaille.N:fp/Delfrabel:fête, beuv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uindailleur,guindailleur.N:ms+Hum/Delfrabel:fê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uindailleurs,guindailleur.N:mp+Hum/Delfrabel:fê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uindailleuse,guindailleur.N:fs+Hum/Delfrabel:fê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uindailleuses,guindailleur.N:fp+Hum/Delfrabel:fê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sbrouille,bisbrouille.N:fs/Delfrabel:fâch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sbrouilles,bisbrouille.N:fp/Delfrabel:fâch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ulletin de virement,bulletin de virement.N:ms/Delfrabel:mandat de v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ulletins de virement,bulletin de virement.N:mp/Delfrabel:mandats de v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xtrait du Delfrab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xtrait du Delfra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bras,.ADV/Delfrabel:dans les 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disposition de,.PREP/Delfrabel:à la dispositio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dos,.ADV/Delfrabel:sur le 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fond de balle,.ADV/Delfrabel:à fond de t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force que,.CONJS/Delfrabel:à forc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la toilette,.ADV/Delfrabel:aux toil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ie,abiye.INTJ/Delfrabel: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ile,abiye.INTJ/Delfrabel: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iye,abiye.INTJ/Delfrabel: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îye,abiye.INTJ/Delfrabel: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bie,abiye.INTJ/Delfrabel: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bile,abiye.INTJ/Delfrabel: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biye,abiye.INTJ/Delfrabel: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cessus d’an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e « brut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trai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ultation des ressources lexicales afin de fournir toutes les hypothèses pour les « mot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vée d’ambigüités qui supprime les hypothèses erro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idation manu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492280"/>
            <a:ext cx="485640" cy="40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155736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378936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01336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système E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limination of Lexical Ambiguities by Grammars (Eric Laporte, Olivier Blan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ystème linguistique : règles construites par des experts hum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vée d’ambiguïtés par contraintes lo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ravail sur l’automate du texte (et non sur un texte linéa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lague l’automate du texte en douc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rainte de travail : silence zé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iquetage morphosyntax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ttre des étiquettes = lever des ambiguïtés = élaguer l’automate du 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ag : Elimination of lexical ambiguities by gram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tiquetage morphosyntax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Chaque matin, Pierre porte la malle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d’Éli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{chaque,.DET+Dind:ms} {matin,.N:ms}, {Pierre,.NPr} {porte,porter.V:P3s} {la,le.DET+Ddef:fs} {mallette,.N:fs} {d’,de.PREP} {Elisa,.NPr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utomate de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la petite brise la g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1643040"/>
          <a:ext cx="8880480" cy="50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43040"/>
                    <a:ext cx="888048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utomate de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la petite brise la glace </a:t>
            </a:r>
            <a:br>
              <a:rPr sz="40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(autre repré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87280" y="2205000"/>
          <a:ext cx="702468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70246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rammaire de désambigü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2421000"/>
          <a:ext cx="764712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21000"/>
                    <a:ext cx="76471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ésultat partiel après désambigü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2349360"/>
          <a:ext cx="8331120" cy="33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833112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sultats prélimin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0 gramm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sultats encourage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(rappel :  99,99%; précision : 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tinence du prétrai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la transcription à l’étiquetage : processus expli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ctuel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alyse en chu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livier Blanc (Munich), Matthieu Constant (Paris-Est), Patrick Watrin (U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tiquetage morphosyntax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 objectif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èse : processus vers cet objectif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ications théoriques des cho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ées de départ (transcri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til : logiciel Uni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ressources lexicales (dictionnaires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électroniques)                             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grammaires « linguistiqu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correction manuelle de l’étique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tiquetage morphosyntax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ogiciel Unitex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Paumier 200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logiciel l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logiciel modulable (prétrait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ajout de données (ressources lexic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système de levée d’ambigüités E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tiquetage morphosyntax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èmes « performants » pour le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 au point pour « l’écrit standard » et non pour des transcriptions de l’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 au point pour du « français de Franc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libel : transcriptions de français parlé en Bel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cessus d’an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xte « brut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trai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ultation des ressources lexicales afin de fournir toutes les hypothèses pour les « mot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vée d’ambigüités qui supprime les hypothèses erro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idation manu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492280"/>
            <a:ext cx="485640" cy="40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155736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378936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501336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e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Le français parlé. Transcription et é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Blanche-Benveniste et Jeanjean, 1987, Didier Erud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blèmes d’écout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i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à l’enregist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au nombre de locu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à la variété de langue du locu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08:54:26Z</dcterms:created>
  <dc:creator>Matrice UCL</dc:creator>
  <dc:description/>
  <dc:language>en-US</dc:language>
  <cp:lastModifiedBy>Matrice UCL</cp:lastModifiedBy>
  <dcterms:modified xsi:type="dcterms:W3CDTF">2008-03-02T18:57:53Z</dcterms:modified>
  <cp:revision>184</cp:revision>
  <dc:subject/>
  <dc:title>Diapositive 1</dc:title>
</cp:coreProperties>
</file>