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41DE-84A4-4F8A-AB08-355A78FF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761B-BDD5-435D-9698-112CA48F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A0A-2467-4A2C-B08E-49A35340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6102-6193-4AA8-BC97-53788C07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0FA-4460-4BB7-A4E4-358A1800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2126-BD9E-47B3-ADAE-9A28530E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14A3-570F-412E-9CD0-2422FAAD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C139-AF59-4925-BAA4-ACA7AA53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0BE7-2D31-4FE0-B8FD-0396EC74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61F5-BD71-410E-A17A-B800C194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5F68-DE4E-4DD9-ADE0-92F2ED5B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5E87-AD5C-4C5B-A894-F4D5DA93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0BB2-A159-4254-B229-988A71279453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Quelques remarques sur le verbe support 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t le nom prédicatif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n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osition sujet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IM Joon Se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EFCO &amp; IG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niversité Paris-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A partir du Npré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. Npréd (Arg1, Arg2, Arg3…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. GN =: Npréd (de + par) N1 Prép N2 Prép N3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. Vsup + Npréd: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) Position complémen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0 Vsup Npréd Prép N1 Prép N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) Position suj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préd Vsup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préd Prép N1 ETRE Vpp (E + par N0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préd Prép N1 par N0 ETRE Vpp (E + W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éminaire IG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5048-99D4-46B0-84DF-0089EBCD7E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év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Hypothès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orme passive [ETRE Vpp] du « Vsup » a-t-elle toujours une fonction ‘support grammatical’ pour le prédicat 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Afin que la construction passive [ETRE Vpp] du « Vsup » soit considérée comme une construction de « Vsup » où il y a un « Npréd » en position sujet, il faut satisfaire une condition structurelle : restructuration du « GN » prédicatif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éminaire IG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BD6C-53FC-4AC8-BB2C-B48F524EB90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év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Prédicat et Restructuration (éclatement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GNpréd et les autres (compléments ou W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[GN] (V + ETRE Vpp) 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s naturel sinon agrammatic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[GN] (V + ETRE Vpp) (Prép N + W) 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us stable, naturel si un GNpréd est restructuré (éclaté) en deux unités dans les constructions à Vsup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Hypothèse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 le GNpréd n’est pas restruturé (éclaté), le Vsup ne fonctionne pas bien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éminaire IG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701A-832A-4D93-8374-F30A990F66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év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Critères syntaxiques </a:t>
            </a:r>
            <a:br>
              <a:rPr sz="3200"/>
            </a:b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pour les construction à Vsu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ujet identiqu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sujet du Npréd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le sujet de la phrase à Vsup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ouble analys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mplément du Npré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mplément du Vsup (sinon ‘Vsup Npréd’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éminaire IG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3F33-88C5-4866-B7B1-8D37A947CB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év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Restructurati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Restructuration de « Na de Nb »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(M. Gross ; A. Guillet et C. Leclère : 1981)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Restructuration de GNpréd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(LIM, 1996; 2007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2 types de restructur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D’un GNpréd à une phrase à Vsup (Nouvelle R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D’une phrase à une autre (Ancienne R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éminaire IG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7434-0B6D-4890-89F5-198419594C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év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Restructuration « Na de Nb » (I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[Les dents de Léa] claquent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b) [Léa] claque [des dents]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a) Guy a attrapé [le goulot de la bouteille]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b) Guy a attrapé [la bouteille] [par le goulot]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is types de parties (Na) contre le tout (Nb) comme suit 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 Partie du corps, (b) Partie de l’objet, (c) Partie abstraite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tte relation sémantique « partie/tout » est généralisable dans la notion d’inaliénable. (Guillet et Leclère 1981 : 107-109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éminaire IG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932-ABC9-4EF8-A94E-E340707479E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év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Restructuration « Na de Nb » (II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[Les choix de Max] sont hasardeux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b) [Max] est hasardeux [dans ses choix]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a) J’apprécie [la promotion de Marie]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b) J’apprécie [Marie] [pour sa promotion]. 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a) Paul encourage [les efforts de Marie]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b) Paul encourage [Marie] [dans ses efforts]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a) [Les propos de Max] ont de l’agressivité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b) [Max] a de l’agressivité [dans ses propos]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éminaire IG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8FEC-74E6-42F2-8D1E-0F434E0F19B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év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Restructuration du GNpré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Npréd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↔ Constructions à Vsup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[Les études de Max sur le Vsup au LADL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↔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b) [Max] a fait [des études sur le Vsup au LADL]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b’) [Max] a fait [des études] [sur le Vsup au LADL]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GNpréd ↔ Constructions à ETRE Vp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a) [Les études de Max sur le Vsup au LADL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↔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(8b) [Les études de Max sur le Vsup] ont été faites [au LADL]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éminaire IG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F28F-C76D-481B-8B77-6665F630D3F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év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Restructuration du GNpréd</a:t>
            </a:r>
            <a:br>
              <a:rPr sz="3200"/>
            </a:b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A quelle condition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[Les études (de + par) Max sur le Vsup au LADL] ont été faites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Les études sur le Vsup au LADL] ont été faites [par Max]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Les études (de + par) Max au LADL] ont été faites [sur le Vsup]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Les études (de + par) Max sur le Vsup] ont été faites [au LADL]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Les études (de + par) Max sur le Vsup au LADL] ont été (bien + impeccablement) faites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49528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cc"/>
                </a:solidFill>
                <a:latin typeface="Times New Roman"/>
                <a:ea typeface="바탕"/>
              </a:rPr>
              <a:t>[Les études (de + par) Max sur le Vsup] ont été faites par ses étudiants et ses chercheurs au LADL.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►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* ou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éminaire IG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22C6-599E-4B43-B37C-A6E635D5B21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év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Formaliser </a:t>
            </a:r>
            <a:br>
              <a:rPr sz="3200"/>
            </a:b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la restructuration du GNpréd (I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le GN actif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1) Sélection du « Vsup » :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up (Npréd de Na Prép Nb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2) Insertion du « Vsup » et éclatement du « GN » :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) Vsup (Npréd) (prép Nb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ucturation obligatoi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éminaire IG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0989-5C19-416E-BA20-C8543F3FE10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év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Plan et objectif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ciser la notion du Vsup et du prédic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lassifier les Npréd selon leur posi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flexion sur la notion de « transformation »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util descriptif &gt; règle générative (pas automatique, des exception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lation bi-directionnelle (&gt; uni-directionnelle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ctif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passif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ominalisation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Restructur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lation d’équivalenc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struction transitive à Vsup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Construction passive à Vsup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struction à Vsup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GNpré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s du corée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4419720"/>
            <a:ext cx="685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4800600"/>
            <a:ext cx="1600200" cy="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éminaire IG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9A23-93F0-463D-81FF-ECDDDF3656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év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Formaliser </a:t>
            </a:r>
            <a:br>
              <a:rPr sz="3200"/>
            </a:b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la restructuration du GNpréd (II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le GN passif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1) Sélection du support « ETRE Vpp » 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préd par Na Prép Nb) ETRE Vpp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2) Insertion de [ETRE Vpp] et éclatement du « GN » 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préd Prép Nb) [ETRE Vpp] (par Na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le GN actif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1) Sélection du support « ETRE Vpp » dans le « GN » actif 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préd de Na Prép Nb) [ETRE Vpp]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2) Insertion de [ETRE Vpp] et éclatement du « GN » 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préd de Na) [ETRE Vpp] (prép Nb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éminaire IG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25F-7EEC-49F5-8B7F-3FEB0A91625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év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Restructuration nouvelle et ancienn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93432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éminaire IG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8C00-1349-4B29-B07D-3EA4BF3E4B3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év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Restructuration obligatoire et facultativ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truction active: obligatoi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truction passive: obligatoire ou facultative?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sup standard : obligatoi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ariantes de Vsup : obligatoire ou facultative (?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éminaire IG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8EF-4BAC-428D-8DC2-5585BA85694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év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Le cas du corée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sup: hada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fair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, toida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devenir, se réalise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ticularités en coréen :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sup + Npréd &gt; Verbe compos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Yeongu (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étud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 + hada (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fair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 &gt; yeongu-hada (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étude-fair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Yeongu (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étud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 + toida (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devenir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 &gt; yeongu-doida (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étude-devenir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mation du G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 (E +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i)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 (juxtaposition ou particule génitive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ticule génitive ‘ii’ : ‘eso-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’ (pour le complément locatif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rmes déterminantes: ‘edaiha-n’ (&gt; ‘edaiha-yo (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su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)’), ‘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ihan (&gt; ‘eūiha-yo (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éminaire IG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357C-DF33-4EB8-AD81-1B3E0D25B83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év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Vsup « toida (</a:t>
            </a:r>
            <a:r>
              <a:rPr b="0" i="1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devenir, se réaliser</a:t>
            </a: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) »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Structure argumentale du « Npréd » 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연구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ŏngu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 (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tud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원빈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nbin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한국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동사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kukŏ tongsa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« GN » =: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nbin-i-e ūihan hankukŏ tongsa-(E + ūi + e taihan) yŏngu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Sélection du « Vsup » 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ida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 (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ni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 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nbin-i-e ūihan hankukŏ tongsa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(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+ ūi + e taihan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ŏngu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; [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ida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) Restructuration 1 du « GN » = 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nbin-i-e ūihai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[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kukŏ tongsa-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ūi + e taihan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ŏngu-­ka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[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i-ŏt-ta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) Restructuration 2 du « GN » = 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[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Wonbin-i-e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ihai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] [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hankukŏ tongsa-n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n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] [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yŏngu-ka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] [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toi-ŏt-ta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]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 Lexicalisation - fusion du « Npréd » avec le « Vsup » = 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[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Wonbin-i-e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ihai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] [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hankukŏ tongsa-n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n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] [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yŏngu-toi-ŏt-ta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]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éminaire IG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DB4D-AD15-4926-BEC6-367DB8F5360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év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Vsup « hada (</a:t>
            </a:r>
            <a:r>
              <a:rPr b="0" i="1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faire</a:t>
            </a: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) »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GN = 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nbin-i-ūi hankukŏ tongsa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(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+ ūi + e taiha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ŏngu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Sélection du « Vsup » 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d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 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nbin-i-ūi hankukŏ tong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+ ūi + e taih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ŏng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; 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d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) Restructuration 1 du « GN » = 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nbin-i-nū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[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kukŏ tongsa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(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+ ?*ūi + e taiha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ŏngu-lūl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[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-yŏt-ta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) Restructuration 2 du « GN » = 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nbin-i-nū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[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kukŏ tongsa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(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ūl + e taihai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 [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ŏngu-lūl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[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-yŏt-ta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) Lexicalisation - fusion du « Npréd » avec le « Vsup » =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[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Wonbin-i-nū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] [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hankukŏ tongsa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(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lūl + e taihai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)] [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yŏnguha-yŏt-ta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]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éminaire IG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32FB-B407-4ECC-BB51-AA3961D9F58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év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Pour concl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tudier les constructions à Vsup à partir du GNpré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lassifier les constructions à Vsup d’après la position des Npré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vantage :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tude autonome des G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lation bi-directionnelle : actif et passif, nominalisation et restructur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fléchir sur les notions de base : Vsup, prédica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éminaire IG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102A-8274-4EE2-9565-EB545240BCB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év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Vsup et Npré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réd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noyau de l’opération prédicative qui détermine une phrase simple (sujet, des compléments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up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auxiliaire (support) grammatical qui supporte l’élément prédicatif, en indiquant le temps, l’aspect, le nombre et la personne, etc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éminaire IG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DF9-5A9A-419C-8D5E-25EE105F71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év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Études sur les « Vsup »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s à Vsup dans lesquelles les Npréd se trouvent en position de complément direct ou indirec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J. Labelle, 1974),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r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J. Giry-Schneider, 1978; 1987),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re Prép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. Danlos, 1980),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ndre, perdre, avoi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. Vivès, 1983),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ne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. Gross, 1989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ntes des Vsup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up passif (converse):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voir, subir, essuyer…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up aspectuel: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cer, entamer, prendre, poursuivre, perdre, terminer…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up stylistique: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ttre, monter, mener…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éminaire IG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A959-BAE1-43E1-AD8D-DE984B49B2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év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Npréd en position de complément </a:t>
            </a:r>
            <a:br>
              <a:rPr sz="3200"/>
            </a:br>
            <a:r>
              <a:rPr b="0" lang="fr-FR" sz="2400" spc="-1" strike="noStrike" u="sng">
                <a:solidFill>
                  <a:srgbClr val="ff3300"/>
                </a:solidFill>
                <a:uFillTx/>
                <a:latin typeface="Arial"/>
              </a:rPr>
              <a:t>(direct, indirect, attribut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’. N0 Vsup Npréd W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Max a (fait + mené + effectué) des études sur le Vsup au LADL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Max (fait + entame + poursuit + termine) la description de son voyage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Je suis le frère de Paul. (G. Gross 199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’. N0 Vsup (E + N1) Prép Npréd W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Max (est + entre + reste) dans le coma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 Max a donné une maison en location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éminaire IG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7470-7606-436B-A55D-BF84BD599E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év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Npréd en position suje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Constructions à Vsup intransitif ou d’attribu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La pluie tombe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Le bruit court que Luc est mort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Notre objectif est de décrire les constructions à Vsup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Constructions passives [ETRE Vpp]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Les études de Max sur le Vsup ont été faites au LADL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 Les études de Max sur le Vsup ont été (menées + effectuées) au LADL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éminaire IG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2309-BD56-484A-92C6-3616181E38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év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Npréd en position suje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Npréd Vsup (E + W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[La pluie] tombe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[Le bruit] court [que Luc est mort]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[Notre objectif] est [de décrire les constructions à Vsup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Npréd être Vpp (E + W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[Les études de Max sur le Vsup] ont été faites [au LADL]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 [Les études de Max sur le Vsup] ont été (menées + effectuées) [au LADL]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éminaire IG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D29-4A7D-4B78-A932-48BDC23765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év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Constructions complexes à 2 prédicat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Les </a:t>
            </a:r>
            <a:r>
              <a:rPr b="0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ntacts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uc avec l’ennemi sont </a:t>
            </a:r>
            <a:r>
              <a:rPr b="0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nnus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Le </a:t>
            </a:r>
            <a:r>
              <a:rPr b="0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inéma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uc à Marie est sans </a:t>
            </a:r>
            <a:r>
              <a:rPr b="0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ffet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La </a:t>
            </a:r>
            <a:r>
              <a:rPr b="0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mpagne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 gouvernement contre le tabac </a:t>
            </a:r>
            <a:r>
              <a:rPr b="0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ntinue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’) Les </a:t>
            </a:r>
            <a:r>
              <a:rPr b="0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ntacts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Luc a avec l’ennemi sont </a:t>
            </a:r>
            <a:r>
              <a:rPr b="0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nnus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’) Le </a:t>
            </a:r>
            <a:r>
              <a:rPr b="0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inéma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Luc fait à Marie est sans </a:t>
            </a:r>
            <a:r>
              <a:rPr b="0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ffet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’) La </a:t>
            </a:r>
            <a:r>
              <a:rPr b="0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ampagne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le gouvernement fait contre le tabac </a:t>
            </a:r>
            <a:r>
              <a:rPr b="0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ntinue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éminaire IG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62D0-DD55-43C7-8E89-9549F0A3D3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év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Questions posées </a:t>
            </a:r>
            <a:br>
              <a:rPr sz="3200"/>
            </a:br>
            <a:r>
              <a:rPr b="0" lang="fr-FR" sz="3200" spc="-1" strike="noStrike" u="sng">
                <a:solidFill>
                  <a:srgbClr val="ff3300"/>
                </a:solidFill>
                <a:uFillTx/>
                <a:latin typeface="Arial"/>
              </a:rPr>
              <a:t>pour les Npréd en position suje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« Npréd » pourrait-il apparaître dans une autre position qu’en position de complément supposée générale, par exemple en position sujet?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« Vsup » conserverait-il la même fonction qu’en position de complément?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c’est oui, quelle en serait la condition?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éminaire IG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A57B-6BAD-4228-934F-7E4725F7E54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 fév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onseo</cp:lastModifiedBy>
  <dcterms:modified xsi:type="dcterms:W3CDTF">2008-02-25T12:32:18Z</dcterms:modified>
  <cp:revision>32</cp:revision>
  <dc:subject/>
  <dc:title>PowerPoint Presentation</dc:title>
</cp:coreProperties>
</file>