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4178-6047-4071-A2E5-CC327649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CFEC-5843-4745-93CD-7B8678E0D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991-1282-4A74-A5B2-5869DAD8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FD37-1265-4AFD-972C-F4DD1B134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F33F-4BDE-49C0-B001-A7B270BD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598-37FB-43F3-9952-F91FFF14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845-7153-432C-9FAB-6236CB33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07C4-BA67-4FF4-9B74-A48A6B29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A94-06AD-4D71-9E1B-8A1987A9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E7D6-3D71-40A8-9B96-426A5E81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3272-89AF-4C4B-974D-1B00217B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9A5-D17F-4DBB-BD3A-E13EA0C4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7F7F4-5248-4824-A33D-3F29396A9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e vocatif des noms communs du roumai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ana-Marina DUMITRIU -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ncuta GUTA - </a:t>
            </a:r>
            <a:r>
              <a:rPr b="0" i="1" lang="fr-FR" sz="3200" spc="-1" strike="noStrike">
                <a:solidFill>
                  <a:srgbClr val="000000"/>
                </a:solidFill>
                <a:latin typeface="Arial"/>
              </a:rPr>
              <a:t>UC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49780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nombre de morphèmes spécifiques diffère en fonction du 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genre du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</a:rPr>
              <a:t>Noms masc: - 75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4 classes  - forment le vocatif singulier en –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5 classes – forment le vocatif singulier en -(u)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16 classes – forment le vocatif singulier en –e et en –(u)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</a:rPr>
              <a:t>Noms féminins: 177 cl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53 clases – forment le vocatif singulier en –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</a:rPr>
              <a:t>Noms neutres – 42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30 classes – forment le vocatif en –(u)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2 classes sans voca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nombre de morphèmes spécifiques diffère en fonction du 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nombre du 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Rem: </a:t>
            </a:r>
            <a:r>
              <a:rPr b="0" i="1" lang="fr-FR" sz="2800" spc="-1" strike="noStrike">
                <a:solidFill>
                  <a:srgbClr val="ff7c80"/>
                </a:solidFill>
                <a:latin typeface="Arial"/>
              </a:rPr>
              <a:t>Pas de morphèmes spécifiques pour le pluriel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éalisation des formes de vocatif est en fonction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la terminaison du N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Rem: </a:t>
            </a:r>
            <a:r>
              <a:rPr b="0" lang="fr-FR" sz="2800" spc="-1" strike="noStrike">
                <a:solidFill>
                  <a:srgbClr val="ff7c80"/>
                </a:solidFill>
                <a:latin typeface="Arial"/>
              </a:rPr>
              <a:t>Pas de formes spécifiques pour les masc finnissant p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i="1" lang="fr-FR" sz="2800" spc="-1" strike="noStrike">
                <a:solidFill>
                  <a:srgbClr val="009999"/>
                </a:solidFill>
                <a:latin typeface="Arial"/>
              </a:rPr>
              <a:t>-e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ex :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reg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– N8,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starost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– N8a,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munt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– N9,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oaspet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– N9a,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soar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– N81,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şarp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– N82, etc.)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i="1" lang="fr-FR" sz="2800" spc="-1" strike="noStrike">
                <a:solidFill>
                  <a:srgbClr val="009999"/>
                </a:solidFill>
                <a:latin typeface="Arial"/>
              </a:rPr>
              <a:t>-ă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ex :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tată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– N12,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ducă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– N13,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rigă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– N13a,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mutulică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– N13b,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taică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– N13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i="1" lang="fr-FR" sz="2800" spc="-1" strike="noStrike">
                <a:solidFill>
                  <a:srgbClr val="009999"/>
                </a:solidFill>
                <a:latin typeface="Arial"/>
              </a:rPr>
              <a:t>-ea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ex: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prîslea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– N93a) ou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009999"/>
                </a:solidFill>
                <a:latin typeface="Arial"/>
              </a:rPr>
              <a:t>-a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ex: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boa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– N6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i="1" lang="fr-FR" sz="2800" spc="-1" strike="noStrike">
                <a:solidFill>
                  <a:srgbClr val="009999"/>
                </a:solidFill>
                <a:latin typeface="Arial"/>
              </a:rPr>
              <a:t>les néologismes insuffisamment adaptés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(ex: dandy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– N17a,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efendi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– N17b)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Ces néologismes s’emploient uniquement à la forme homonyme avec le nominatif non articulé ; ils ne réalisent non plus la forme homonyme avec le nominatif articulé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onditionnement syntaxi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sélection des formes de Vocatif dépend généralement de la présence en apostrophe du nom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eu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ccompagn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’un ou plusieurs déterminant(s), ainsi que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a position du/des déterminant(s)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par rapport au nom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 :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Ce mai faci, (prieten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eten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eten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eten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 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3628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 N :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Iubit + iubit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ubit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ubit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prieten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N :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Iubit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ubit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ubit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ubit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prieten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A :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Prieten + prieten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eten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eten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(iubit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ubit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ubit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ubit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 Poss N :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Iubit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ubit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ubit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ubit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meu (prieten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eten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eten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eten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,…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NPoss A 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Prieten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eten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eten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ieten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meu (iubit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ubit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ubit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ubit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onditionnement stylisti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’acception générale est que « la forme en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–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st neutre sous aspect stylistique 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99"/>
                </a:solidFill>
                <a:latin typeface="Arial"/>
              </a:rPr>
              <a:t>Les registres de langu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 :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codr</a:t>
            </a:r>
            <a:r>
              <a:rPr b="0" i="1" lang="fr-FR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, bac</a:t>
            </a:r>
            <a:r>
              <a:rPr b="0" i="1" lang="fr-FR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, cuc</a:t>
            </a:r>
            <a:r>
              <a:rPr b="0" i="1" lang="fr-FR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, lup</a:t>
            </a:r>
            <a:r>
              <a:rPr b="0" i="1" lang="fr-FR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pop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 /vs/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codr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, baci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, cuc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, lup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litt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Stai, lup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, nu mă mânca !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chanson populai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Arrête, loup, ne me mords pa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Lup</a:t>
            </a: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ule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,de ce ai urechile atât de mari ?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etit chaperon roug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 Loup, pourquoi as-tu les oreilles si grandes 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99"/>
                </a:solidFill>
                <a:latin typeface="Arial"/>
              </a:rPr>
              <a:t>valeurs stylistiques développées par la forme en </a:t>
            </a:r>
            <a:r>
              <a:rPr b="1" i="1" lang="fr-FR" sz="2800" spc="-1" strike="noStrike">
                <a:solidFill>
                  <a:srgbClr val="009999"/>
                </a:solidFill>
                <a:latin typeface="Arial"/>
              </a:rPr>
              <a:t>–ule,</a:t>
            </a:r>
            <a:r>
              <a:rPr b="1" lang="fr-FR" sz="2800" spc="-1" strike="noStrike">
                <a:solidFill>
                  <a:srgbClr val="009999"/>
                </a:solidFill>
                <a:latin typeface="Arial"/>
              </a:rPr>
              <a:t> alors que la forme en –</a:t>
            </a:r>
            <a:r>
              <a:rPr b="1" i="1" lang="fr-FR" sz="2800" spc="-1" strike="noStrike">
                <a:solidFill>
                  <a:srgbClr val="009999"/>
                </a:solidFill>
                <a:latin typeface="Arial"/>
              </a:rPr>
              <a:t>e</a:t>
            </a:r>
            <a:r>
              <a:rPr b="1" lang="fr-FR" sz="2800" spc="-1" strike="noStrike">
                <a:solidFill>
                  <a:srgbClr val="009999"/>
                </a:solidFill>
                <a:latin typeface="Arial"/>
              </a:rPr>
              <a:t> reste neut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forme en </a:t>
            </a:r>
            <a:r>
              <a:rPr b="0" i="1" lang="fr-FR" sz="2800" spc="-1" strike="noStrike">
                <a:solidFill>
                  <a:srgbClr val="ff0000"/>
                </a:solidFill>
                <a:latin typeface="Arial"/>
              </a:rPr>
              <a:t>-e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dentifi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a donc un référent extralinguistique désigné par l’acception courante du nom), la forme en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-ule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décri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son référent extralinguistique est un individu auquel on attribue les qualités/les défauts d’une class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e :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copil</a:t>
            </a:r>
            <a:r>
              <a:rPr b="0" i="1" lang="fr-FR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« mon enfant »),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băiet</a:t>
            </a:r>
            <a:r>
              <a:rPr b="0" i="1" lang="fr-FR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« mon garçon »),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cioban</a:t>
            </a:r>
            <a:r>
              <a:rPr b="0" i="1" lang="fr-FR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« berger »),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oet</a:t>
            </a:r>
            <a:r>
              <a:rPr b="0" i="1" lang="fr-FR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« poète »),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oşneg</a:t>
            </a:r>
            <a:r>
              <a:rPr b="0" i="1" lang="fr-FR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« vieillard »),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ţăran</a:t>
            </a:r>
            <a:r>
              <a:rPr b="0" i="1" lang="fr-FR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« paysan »)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, păgân</a:t>
            </a:r>
            <a:r>
              <a:rPr b="0" i="1" lang="fr-FR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païen) ;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bărbat</a:t>
            </a:r>
            <a:r>
              <a:rPr b="0" i="1" lang="fr-FR" sz="2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« mon mari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- ule :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copil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« enfant que tu es ; enfantin ! »,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băiat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« imberbe »)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, cioba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«grossier »)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, poet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« distrait, idéaliste »)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, moşneag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« vieille carcasse »)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ţăran</a:t>
            </a:r>
            <a:r>
              <a:rPr b="0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« mal élevé »)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, păgâ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« impi »),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bărbat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« gaillard 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conditionnement pragmat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99"/>
                </a:solidFill>
                <a:latin typeface="Arial"/>
              </a:rPr>
              <a:t>Les relation interpers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formes de vocatif singulier du nom masculin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dom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« monsieur 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omn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litt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omnu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fam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om’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fam.)  - manque de respect ou degré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duit d’instruction du locute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(fam.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9999"/>
                </a:solidFill>
                <a:latin typeface="Arial"/>
              </a:rPr>
              <a:t>Les styles fonctio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dées préconçues sur le vocatif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formes de Vocatif sont rares (Lombard, GA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Vocatif exclut la détermination et la définitude (Irimia, Lomba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Seul le vocatif reste en dehors de la détermination»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(GLR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1997 : 72 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 … il est difficile de combiner la notion de vocatif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’apostrophe, avec celle de défini/indéfini, de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terminé/ indéterminé» (GLR, p. 7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rminaison –lor est l’un des morphèmes spécifiques (pour le pluriel) (assertion unan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nombre de morphèmes spécifique diffère d’un grammairien à l’autre:3, 4 ou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classes de flexions (dont le nombre diffère d’un auteur à l’autre) ignorent complètement les formes de Vocatif et leur poids comme critère de classification et sous classif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 hésitante dans l’analyse des formes de vocatif identiques aux formes de nominatif , même dans le cadre d’un même ouvrage (G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 absence [totale !] des formes de vocatif tout 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nant un exemple contredisant cette affi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absence de formes propres de vocatifs 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 emprunt » des formes de nominatif 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) existence des formes de vocatif identiques au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s de nominatif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itionnement sémantiqu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vocatif = cas de la subjectivité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a perspective graduelle sur la réalisation du Vocat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[+humain],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[+animal]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Vocatif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usu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o-RO" sz="2800" spc="-1" strike="noStrike">
                <a:solidFill>
                  <a:srgbClr val="ff7c80"/>
                </a:solidFill>
                <a:latin typeface="Arial"/>
              </a:rPr>
              <a:t>Mam</a:t>
            </a:r>
            <a:r>
              <a:rPr b="0" i="1" lang="ro-RO" sz="2800" spc="-1" strike="noStrike">
                <a:solidFill>
                  <a:srgbClr val="ff7c80"/>
                </a:solidFill>
                <a:latin typeface="Arial"/>
                <a:ea typeface="Arial"/>
              </a:rPr>
              <a:t>ă</a:t>
            </a:r>
            <a:r>
              <a:rPr b="0" lang="ro-RO" sz="2800" spc="-1" strike="noStrike">
                <a:solidFill>
                  <a:srgbClr val="ff7c80"/>
                </a:solidFill>
                <a:latin typeface="Arial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fr-FR" sz="2800" spc="-1" strike="noStrike">
                <a:solidFill>
                  <a:srgbClr val="ff7c80"/>
                </a:solidFill>
                <a:latin typeface="Arial"/>
                <a:ea typeface="Arial"/>
              </a:rPr>
              <a:t> </a:t>
            </a:r>
            <a:r>
              <a:rPr b="0" i="1" lang="fr-FR" sz="2800" spc="-1" strike="noStrike">
                <a:solidFill>
                  <a:srgbClr val="ff7c80"/>
                </a:solidFill>
                <a:latin typeface="Arial"/>
                <a:ea typeface="Arial"/>
              </a:rPr>
              <a:t>tată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+…),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deschide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-mi uş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(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Mama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apa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+…),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ouvre-moi la porte!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Un’te duci tu,</a:t>
            </a:r>
            <a:r>
              <a:rPr b="0" i="1" lang="fr-FR" sz="2800" spc="-1" strike="noStrike">
                <a:solidFill>
                  <a:srgbClr val="ff7c80"/>
                </a:solidFill>
                <a:latin typeface="Arial"/>
              </a:rPr>
              <a:t>mielu</a:t>
            </a:r>
            <a:r>
              <a:rPr b="1" i="1" lang="fr-FR" sz="2800" spc="-1" strike="noStrike">
                <a:solidFill>
                  <a:srgbClr val="ff7c80"/>
                </a:solidFill>
                <a:latin typeface="Arial"/>
              </a:rPr>
              <a:t>le</a:t>
            </a:r>
            <a:r>
              <a:rPr b="0" i="1" lang="fr-FR" sz="2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+ personn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« Où vas-tu petit agneau?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[+objet][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concret]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— Vocatif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  <a:ea typeface="Arial"/>
              </a:rPr>
              <a:t>occasi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personnification)(style particulier: poétique, solennel, plaisant, populaire, vieilli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f7c8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7c80"/>
                </a:solidFill>
                <a:latin typeface="Arial"/>
              </a:rPr>
              <a:t>Lun</a:t>
            </a:r>
            <a:r>
              <a:rPr b="0" i="1" lang="fr-FR" sz="2800" spc="-1" strike="noStrike">
                <a:solidFill>
                  <a:srgbClr val="ff7c80"/>
                </a:solidFill>
                <a:latin typeface="Arial"/>
                <a:ea typeface="Arial"/>
              </a:rPr>
              <a:t>ă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luminează-mi calea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…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«Lune, éclaire mon chemin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7c80"/>
                </a:solidFill>
                <a:latin typeface="Arial"/>
                <a:ea typeface="Arial"/>
              </a:rPr>
              <a:t>  </a:t>
            </a:r>
            <a:r>
              <a:rPr b="0" i="1" lang="ro-RO" sz="2800" spc="-1" strike="noStrike">
                <a:solidFill>
                  <a:srgbClr val="ff7c80"/>
                </a:solidFill>
                <a:latin typeface="Arial"/>
                <a:ea typeface="Arial"/>
              </a:rPr>
              <a:t>Poezie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,îmi faci viaţa frumosă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«Poésie, tu rends ma vie belle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7c80"/>
                </a:solidFill>
                <a:latin typeface="Arial"/>
                <a:ea typeface="Arial"/>
              </a:rPr>
              <a:t> </a:t>
            </a:r>
            <a:r>
              <a:rPr b="0" i="1" lang="ro-RO" sz="2800" spc="-1" strike="noStrike">
                <a:solidFill>
                  <a:srgbClr val="ff7c80"/>
                </a:solidFill>
                <a:latin typeface="Arial"/>
                <a:ea typeface="Arial"/>
              </a:rPr>
              <a:t>Calculatorule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, îmi faci viaţa imposibilă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«Mon ordinateur, tu rends ma vie impossible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[+abstrait]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vocatif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potent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ro-RO" sz="2800" spc="-1" strike="noStrike">
                <a:solidFill>
                  <a:srgbClr val="ff7c80"/>
                </a:solidFill>
                <a:latin typeface="Arial"/>
              </a:rPr>
              <a:t>Internetul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meu iubit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,…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Mon Internet chéri…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[+abstrait]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vocatif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difficile à acce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7c80"/>
                </a:solidFill>
                <a:latin typeface="Arial"/>
              </a:rPr>
              <a:t>Constitu</a:t>
            </a:r>
            <a:r>
              <a:rPr b="0" i="1" lang="ro-RO" sz="2800" spc="-1" strike="noStrike">
                <a:solidFill>
                  <a:srgbClr val="ff7c80"/>
                </a:solidFill>
                <a:latin typeface="Arial"/>
                <a:ea typeface="Arial"/>
              </a:rPr>
              <a:t>ţionalitate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îndrum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  <a:ea typeface="Arial"/>
              </a:rPr>
              <a:t>ă paşii naţiunii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 Constitutionnalité, conduis les pas de la nation!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ire </a:t>
            </a: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impossible à acce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ff7c80"/>
                </a:solidFill>
                <a:latin typeface="Arial"/>
              </a:rPr>
              <a:t>?Esperantoul </a:t>
            </a: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meu iubit,…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« Mon espéranto chéri! 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l y a une échelle graduelle allant des formes usuelles jusqu’à celles inacceptables pour les sujets parl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onditionnement phonétiqu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’adaptabilité du néologisme au système phonétique du rou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flamingo - *flamingo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[+animal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picolo - *picoloul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[+humain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radio(u) – radioule        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[+objet;+ concret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gigolo(u) – gigoloule     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[+humain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La phonétique combinatoir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omn</a:t>
            </a:r>
            <a:r>
              <a:rPr b="0" lang="fr-FR" sz="2800" spc="-1" strike="noStrike" baseline="-25000">
                <a:solidFill>
                  <a:srgbClr val="000000"/>
                </a:solidFill>
                <a:latin typeface="Arial"/>
              </a:rPr>
              <a:t>-N-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+N commençant par consonne =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on comandant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« mon commandant 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*don amiral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« mon amiral 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ariantes dans le roumain standard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omnule coman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Arial"/>
              </a:rPr>
              <a:t>domnule ami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conditionnement morphologiqu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général, les noms qui présentent l’homonymie avec la forme non articulée de nominatif réalisent aussi l’homonymie avec le nominatif articulé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18:29:57Z</dcterms:created>
  <dc:creator>Dana-Marina</dc:creator>
  <dc:description/>
  <dc:language>en-US</dc:language>
  <cp:lastModifiedBy>Dana-Marina</cp:lastModifiedBy>
  <dcterms:modified xsi:type="dcterms:W3CDTF">2008-02-17T22:19:10Z</dcterms:modified>
  <cp:revision>245</cp:revision>
  <dc:subject/>
  <dc:title>La flexion verbale en roumain </dc:title>
</cp:coreProperties>
</file>