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F24-CE77-4F78-A777-E78D9691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E3C-3FA6-40A8-ABE6-D07F09BF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467-D810-4D3E-8B52-3D41E9F0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BE6-09B1-48B2-B755-66863414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100-51A3-4109-829B-74E38A0C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15F-C5AF-4D4D-8931-B59C6BE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E42-F708-4CCE-98EB-ABAB73D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8DD-ABD6-4F0B-B16C-BF5664A8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1F5-AE1D-40BE-BC2E-31A57B7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3C8-D198-4C57-B861-42D8B2A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80F-A668-40A9-A5C8-C6A6538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730-987C-4DBE-BC3D-AB7FFA9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Camugli Gall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7 janvi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éminaire IGM Informatique lingu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EFE7-ADE1-4B61-BD4E-46BA5443D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r des tables et jusqu’où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mariage fécond de l’informatique et de la lingui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F9C-E664-465F-A0BF-5B0F680836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. Blanc &amp; C. Camugli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jonction, phénomène scalaire: ordre, sommation, exhortation, prière, instruction, consigne, suggestion, autorisation, conseil [Chareaudeau 19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t importante de l’impli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(+) 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Unitex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permet des repérages en contextes l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-) Une lacune : l’absence de traitement des clitiques 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Unit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présent 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C79-240F-4523-A7C4-99AD9BE1CF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. Blanc &amp; C. Camugli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rnage du corpus par types de dis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jussifs sont plus nombreux dans les groupes C (échanges bidirectionnels en face à face mais avec prise de parole non libre) et D (échanges unidirectionnel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 nombreux dans le groupe A qui suppose des relations de parité entre interlocu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jonctions sont donc plutôt présentes dans des discours où les relations sont institutionnell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tic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rbrat Orecchioni 199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C64-50D1-48A7-A03D-E8CB2D1583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résultats chiff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ules 2.5 % des 3098 E.F à verbes transitifs apparaissent dans le corpus 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 ces 2.5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0.5 % en modalité asser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9.5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n contexte injonct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xpressions figurant en contexte assertif ne sont pas celles que l’on trouve en contexte injonctif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il y a spé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occur. injonctives correspondent à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0.6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structures des tables utilis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781-ABE5-4BC8-9053-91BA73C3BB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xpressions figées portant l’inj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’appartiennent généralement pas au thème du discours mais constituent plutô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s régulateurs de la situatio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s possèdent u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ôle communicatif spécialis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n modulant l’intensité sonore des échanges, en les régulant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ausser la voix/ alzare la vo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u 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lever la main/alzare la mano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 autorisation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hareaudeau 1992 : 593) dans la bouche du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urrent speak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1 qui a autorité pour gérer les tours de parole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are la parola/donner la parole 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s font partie de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rituels de la convers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70F-095C-43BE-963B-03CBD30779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expé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Raddrizzare le gambe ai cani, donner de la confiture aux cochons. De l’humour dans certaines structures figé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oque international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ire mode(s) d’emplo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is 10 Nanterre (25-27 juin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je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décrire le fonctionnement du r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proch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par les énoncés paradoxaux de la table C1P2, reprenant le canevas d’impossibilia médiév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à paraît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 Catherine Garitte (ed)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Humore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29F-6D92-4BDA-9F74-2262BF34EE4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re mode(s) d’emplo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7)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mariage t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cupération des restes de la fouille avec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Unit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’Oli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corpus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lheureusement s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lossaN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abonné ab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pas de corpus écrit italien de grande enver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uropre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corpus journalistiqu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 donc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douillages avec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recueillir des occurrences analogues (?) en it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C59-245C-4A4F-95AD-72EB529387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re mode(s) d’emplo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) L’énoncé figé apparaît dans une relation d’équivalence sémantique avec l’objet du disc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ans l’Hérault, en pleine terre bovétiste, </a:t>
            </a:r>
            <a:r>
              <a:rPr b="0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un parrainage c’est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 un mouton à cinq pat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ibér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5 /02/ 2007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&gt;portée axiologique de péjoration pour toute l’énonc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07F-87F3-454A-BD62-6F031F3B0A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re mode(s) d’emplo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ux pos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début de prise de pa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plus souvent en fin d’un exposé argumentatif comme en résumé d’une pens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ar leurs saillances, les figures constituent des nœuds langagiers qui focalisent des moments forts de la communication »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 Bonhomm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gmatique des figures du discour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 : Champion, 2005 :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BA2-8EB4-450D-A885-BDBF4AEA7E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tours des fouilles électroniques sur les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ercher un mouton à cinq pattes [C1I.C1R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trouver + rencontrer) un mouton à cinq pattes [C1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être un mouton à cinq pattes [E1H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ans de corpu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uropre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92 occur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ccurrences transitiv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88 occurrences nom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Être en quête du mouton à cinq pattes, il s’ag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’u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D19-ECB4-4DF3-8211-E5EC67A9F1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cision des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ême constat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nner un coup d’épée dans l’e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C1P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 p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être/ s’ag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 coup d’épée dans l’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D65-C7AE-4845-A737-D39547B295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ques repères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. Chomsky (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oëlle Tamine, 1978,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scription syntaxique du sens figur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 Thèse de Doctorat d’Etat (dir. M. G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s 1990 un OVNI découvre l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xique Gra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07A-0C1D-4B05-89EE-3B6C105C157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cision des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ercher midi à quatorze he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C1P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jours né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Ne pas + sa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rcher midi à quatorze h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529-A11D-4DA1-AAC8-E106632C02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estionnements actue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fourcher un cheval de bataille [C1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le cheval de bataille [ED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visita a Roma, oltre l’udienza prevista in Vaticano, sarà dedicata a questioni europee e al disegno di Unione Mediterranea, un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valli di battag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Sarkozy”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19/12/2007:1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 compos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7ED-180B-41B4-B052-51042F44B8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ements act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Entre structures transitives et adver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1) mangiare il pane a ufo [C1PC2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/ mangiare + essercene + vivere a ufo [P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2) raccontarne di cotte e di crude [C1PN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ccontarne di belle e di brutte a [C1PN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rne di cotte e di belle [P con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3) pagare a babbo morto [CCPN] &amp; [PC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BFF-0E19-4314-933A-841B74A75A0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onclusion par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ns l’apport de l’informati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linguistique manque de grands espaces (les corpus) pour confirmer/infirmer ses 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l’informat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linguistique peut faire plein de petits glaçons et de merveilleuses petites b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Pef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prince de mots tordu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6BA-0326-4E62-AFCB-592C753AC7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’autres peti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herches linguistiques en Langues Rom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029" sz="2400" spc="-1" strike="noStrike">
                <a:solidFill>
                  <a:srgbClr val="000000"/>
                </a:solidFill>
                <a:latin typeface="Arial"/>
              </a:rPr>
              <a:t>Direction : Maria Helena Araujo Carreira (EA 15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029" sz="2400" spc="-1" strike="noStrike">
                <a:solidFill>
                  <a:srgbClr val="000000"/>
                </a:solidFill>
                <a:latin typeface="Arial"/>
              </a:rPr>
              <a:t>Equipe de Linguistique du Centre de Recherche en Littératures et Civilisations Romanes (Univ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is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travaux sur la langue politique ital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lors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etit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laç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formaticiens seraient-ils disposés à créer des mini - séminaires d’applicatio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F61-ABB9-4F0C-9927-F6D505A31F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tique n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igement est-il si figé que ce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 : “Andiamo a Lodi ? No a Verona !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jeux phoniques en italien ancien » i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ommage à Georges Ulys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umour, ironie, impertinence.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tali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4/2, Université de Provence, pp. 739-7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7EF-5D68-4060-8F71-C4CD96B3B5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andare a Vero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u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ire la verità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aller à Cacha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c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ller à/ andare 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N =  lieu où se déroule une activité ou ou un dé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ller au bal, à la cha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ndare al ballo, a cacci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Loc =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ller danser, chasser/ andare a ballare, a caccia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S. Prep modal "Aller à N [manière]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ller à l'économi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andare a gonfie vele/ a testa b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169-962D-4773-8B74-2A943ED69C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afore « cristalizzat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aussi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metafore cristalliz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zant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hénomènes syntax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. Gross (1982:1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. Guiraud.1980.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s structures sémantiques du françai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29F-4A18-41E7-B748-AAD2D01D1B2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 conclus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VNI voudrait se po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) ne plus perdre ses corpus au départ de chaque chercheur-prêteur-d’ordinat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) partager ses corpus avec une équ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) échanger des compétences info/ linguist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) suggérer une prestation de service à d’autr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) ne plus devoir écrire sur ses genoux dans le bureau d’une âme char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FB8-114E-4CFC-A08F-C8EDA56C45B2}" type="slidenum">
              <a:t>2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quête de collaborations informatiques pou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.F. italiennes contenant un trait lexical [+ animal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.F. avec coordination int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.F. avec né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.F à trait lexical [musiqu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BEB-AFB6-48C1-8DDD-A5D5140426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ns plus tar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V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t-être un peu demeuré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mire toujours la Rolls Royce qu’est Uni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ne sait qu’aller à bicyc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355-4CA7-435D-8D7C-5ADAAB9DE2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tiques au quotid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comprendre le sémantisme d’expressions figées dans le cadre d’une étude compa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pprofondir le fonctionnement syntaxique de l‘italien au regard de celui du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166-3DA0-453A-82B4-C3FC998E82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de la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s d’interactions fécondes informatique / linguis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. Blanc &amp; C. Camugli (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. Camugli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à paraît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umores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) Précisions des tables à la lumière des requêtes sur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l’étude du figement, une analyse syntaxique de la langu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331-8632-4C61-B800-C8F8594BE1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re le sémantisme d’expressions figées dans le cadre d’une étude comparative malgré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acunes des dictionnaires papi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étérogénéité des informations : définition sémantique, traduction sans explications, etc..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mension pragmatique n’est pas explicitée : aucune indication sur les intentions du locuteur (éventuelle orientation axiologiq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172-D796-4122-88D8-3CB05D77D6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sémantisme. Un exemp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uovere cielo e terra (C1PC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uovere mari e monti 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emuer mers et mo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mployer tous les moyens pour obtenir qq. chose, recourir à des personnes influ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remuer ciel et ter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uovere cielo e ter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/ insiste sur l’extension des moy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us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uovere mari e mo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: focalise sur le courage de l'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D53-EFC1-484E-85F4-A5B30AEFC5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informatique &amp; lingu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. Blanc &amp; C. Camugli (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Le fonctionnement injonctif d’expressions figées en italien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Maria Helena Araùjo Carreira (ed) « Venez, venez ! » De la suggestion à l’injonction dans les langues romanes ». Université Paris 8 Vincennes Saint Denis :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avaux et document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2-2006, pp. 267-2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 des journées :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éterminer le fonctionnement de l’injonction en dis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779-2D83-426F-B2F4-EE773EA546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. Blanc &amp; C. Camugli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s suppor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tables de figées à verbes transi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rpus L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Mauro, Tullio/ Mancini, Federico/ Vedovelli, Massimo / Voghera, Miriam (1993)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sico di frequenza dell’italiano parla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IP)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lano : Etaslib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s moy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graphes patrons élaborés par Oli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A0B-4A5E-464F-87C7-58BF782E91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7:57:33Z</dcterms:created>
  <dc:creator>Catherine</dc:creator>
  <dc:description/>
  <dc:language>en-US</dc:language>
  <cp:lastModifiedBy>Catherine</cp:lastModifiedBy>
  <dcterms:modified xsi:type="dcterms:W3CDTF">2008-01-06T21:55:05Z</dcterms:modified>
  <cp:revision>43</cp:revision>
  <dc:subject/>
  <dc:title>Brève intro biographique : un OVNI découvre le Lexique Grammaire Chomsky 1961 Joëlle </dc:title>
</cp:coreProperties>
</file>