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308-E609-4368-85F9-03F0E08F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463-234D-4147-AAF9-2DC94166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B73-6EBF-4FFA-BDBF-5CA58C85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32F-2866-466F-927A-40B089E7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14C-490D-42BD-9457-279A72C1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69C-C8BB-4C94-A675-3008C652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AD3-840A-4779-8A65-CE19FC10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A65-CF34-40FC-AE47-35C101E4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557-C60B-4D9F-AE58-4175F6F2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2A5-187E-4D1D-B9A0-17F2DBD4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D53-2525-4B47-A088-D83FF054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8DA-DB7D-431D-BE45-1C140DA7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8F9C-3992-4170-B50D-582BCEBD2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aux grammaires catégorie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approche naïve pour s’initier à ce form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core un  autre exemple de même structure: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 petits enfants aiment les gros jou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557360"/>
          <a:ext cx="8229600" cy="4473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és linguist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assign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égories syntax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*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\N*)/N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e transit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s correspon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fa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\N*)/N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\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core un  autre exemple de même structure: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 jeunes filles aiment les petits cade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1557360"/>
          <a:ext cx="8229600" cy="4473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és linguist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assign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égories syntax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u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*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\N*)/N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e transit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s correspon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u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\N*)/N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\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allèlle avec l’analyse syntagmatique en stemmas de Tesn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emma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u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g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u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92000" y="1599840"/>
            <a:ext cx="5194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catégori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\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ar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\N*)/N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\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14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26920" y="4724280"/>
            <a:ext cx="6494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2268360" y="472392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allèlle avec l’analyse syntagmatique en stemmas de Tesn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819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emma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distribu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’env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2000" y="1052640"/>
            <a:ext cx="51944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e catégori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   facteur      a distribué     le        cou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/N   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(S\N*)/N*   N*/N    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&gt;                         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                                        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\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env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\N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00000" y="1844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195640" y="1844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97164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70036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692360" y="45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692360" y="51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allèlle avec l’analyse syntagmatique en stemmas de Tesn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70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emma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o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oi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ou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87280" y="1599840"/>
            <a:ext cx="6156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catégori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\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\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187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84360" y="3357360"/>
            <a:ext cx="431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331640" y="3357360"/>
            <a:ext cx="431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allèlle avec l’analyse syntagmatique en stemmas de Tesn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067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emma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renver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itu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ié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el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trai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000" y="3644640"/>
            <a:ext cx="86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e catégori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nvers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é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\N*)/N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476360" y="169992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492000" y="169992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84360" y="22762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332000" y="22762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564000" y="227628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642920" y="220500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allèlle avec l’analyse syntagmatique en stemmas de Tesn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emma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donné 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fre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ell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m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78920" y="304128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e catégori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f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donné à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m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S\N*)/N*)/N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\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\N*)/N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\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476360" y="169992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492000" y="169992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64000" y="227628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642920" y="220500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500720" y="220464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492360" y="1557360"/>
            <a:ext cx="345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bli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gages n°148 de décembre 2002 : Les grammaires catégorielles par Béatrice Godart-Wendling (Larou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chael Moortgat (Ed.) : Logical Aspects of Computational Linguistics, 3rd International Conference, LACL ’98, Grenoble France, Decembre 1998 (Sprin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bastian Shaumyan : A Semiotic Theory of language, Indiana University Press, Bloomington and Indianapolis,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k Steedman : Surface Structure and Interpretation, 1996, the MIT Pres, Massachussets institute of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k Steedman : The Syntactic process, 2001, the MIT Pres, Massachussets institute of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arold D. Levin, Categorial Grammar and the Logical Form of Quantification, 1982, Biblio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nner à chaque mot un type construit de façon à pouvoir effectuer entre les constituants de la phrase un calcul arithmétique permettant de voir si celle-ci est bien constru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e pour les diverses construction de types, on se ramène à un nombre restreint de types de bas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typ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hras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nventionnellement noté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comme le mot anglai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ente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typ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m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ventionnellement noté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comme le mot anglai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nou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typ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minal comple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nventionnellement noté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onstructions de types se feront de façon récursive à partir de 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ux types de base à l’aide de barres de division gauche (\) et droite (/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rtic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un opérateur qui attend un opérande nominal à sa dro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verb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 opérateur qui attend un opérande nominal à sa gau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fr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\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404640"/>
            <a:ext cx="842472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émas d’application vers la droite / vers la ga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és linguistiq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assign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és linguistiq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assigné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\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ie avec l’arithm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9640" y="907920"/>
          <a:ext cx="8229600" cy="568656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32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syntax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-----------------------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X\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-----------------------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ication des fractions arithmét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&gt; * Y =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* ---------&lt; =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s class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 * 3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* -----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s orienté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/3) * 3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* (2\3) =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llustrons par les exemples suivants :</a:t>
            </a:r>
            <a:br>
              <a:rPr sz="2400"/>
            </a:b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fred arrive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fred frappe Bern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2637000"/>
          <a:ext cx="8229600" cy="3286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és linguist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assign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égories syntax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n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p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\N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\N*)/N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prop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e intransit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e transit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s correspon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f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\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fr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pp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n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\N*)/N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\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utre exemple :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 petits ruisseaux font les grandes rivi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9640" y="1557360"/>
          <a:ext cx="8229600" cy="4473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és linguist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assign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égories syntax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iss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viè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*/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\N*)/N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e transit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s correspond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isseau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v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\N*)/N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\N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0:41:15Z</dcterms:created>
  <dc:creator>jean-pierre</dc:creator>
  <dc:description/>
  <dc:language>en-US</dc:language>
  <cp:lastModifiedBy>jean-pierre</cp:lastModifiedBy>
  <dcterms:modified xsi:type="dcterms:W3CDTF">2008-03-28T16:39:37Z</dcterms:modified>
  <cp:revision>13</cp:revision>
  <dc:subject/>
  <dc:title>Introduction aux grammaires catégorielles</dc:title>
</cp:coreProperties>
</file>