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6150-7046-4EA4-B827-B9999B29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381-9682-4A09-8FF6-4F77FDCB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835-6D2A-45E0-BB0E-A6B67DE96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58D4-6D09-4CB0-9D8B-9DBDB9DF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FD11-3F8E-4150-A5FE-ABD4ABB6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C4B-48C4-4F69-B1F6-C3757F31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6E04-9F74-499F-9C1F-E159AEEB2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DFB-C9E2-490F-8250-752870CC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CEE0-5BF1-47B7-96EB-A6279337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E8D-9340-405E-B14B-E565FC94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FB75-9335-4A35-925B-A9DADBD2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874E-A440-4EAD-95BB-4F2C7301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A389-3967-48AB-9700-95D5904B0B7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able des tables de verbes distributionnels du franç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852280"/>
            <a:ext cx="799128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ic La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GM - Université de Marne-la-Vall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éminaire d'Informatique linguis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2 novembre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finition d'une c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2285640"/>
            <a:ext cx="77040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=: Qu P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rép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=: Qu P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=: V-inf W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fr-F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=: Qu P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fr-F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=: V-inf W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finition d'une c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4360" y="2285640"/>
            <a:ext cx="770400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table est définie par un ensemble de propriétés et les valeurs correspond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valeurs peuvent être nég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propriétés doivent être vérifiées simultanément (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, donc formule booléenne (parfoi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, ex. tab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finition de la tab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2195640" y="1484280"/>
            <a:ext cx="446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 =: V</a:t>
            </a:r>
            <a:r>
              <a:rPr b="0" lang="fr-FR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-inf W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 =: Qu Psubj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=: Qu Pind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 =: V</a:t>
            </a:r>
            <a:r>
              <a:rPr b="0" lang="fr-FR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-inf W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=: Qu Psubj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 =: Qu Pind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=: N-hum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 N</a:t>
            </a:r>
            <a:r>
              <a:rPr b="0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 N</a:t>
            </a:r>
            <a:r>
              <a:rPr b="0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 N</a:t>
            </a:r>
            <a:r>
              <a:rPr b="0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 N</a:t>
            </a:r>
            <a:r>
              <a:rPr b="0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 N</a:t>
            </a:r>
            <a:r>
              <a:rPr b="0" lang="fr-FR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 Pr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 N</a:t>
            </a:r>
            <a:r>
              <a:rPr b="0" lang="en-GB" sz="22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6560" y="1701720"/>
            <a:ext cx="71640" cy="144000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6560" y="3214800"/>
            <a:ext cx="71640" cy="143964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78520" y="299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98560" y="3214800"/>
            <a:ext cx="320760" cy="3338280"/>
          </a:xfrm>
          <a:custGeom>
            <a:avLst/>
            <a:gdLst>
              <a:gd name="textAreaLeft" fmla="*/ 204840 w 320760"/>
              <a:gd name="textAreaRight" fmla="*/ 321120 w 320760"/>
              <a:gd name="textAreaTop" fmla="*/ 86760 h 3338280"/>
              <a:gd name="textAreaBottom" fmla="*/ 3251520 h 33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8480" y="47242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76360" y="2349360"/>
            <a:ext cx="71280" cy="1657440"/>
          </a:xfrm>
          <a:custGeom>
            <a:avLst/>
            <a:gdLst>
              <a:gd name="textAreaLeft" fmla="*/ 45720 w 71280"/>
              <a:gd name="textAreaRight" fmla="*/ 71640 w 71280"/>
              <a:gd name="textAreaTop" fmla="*/ 43200 h 1657440"/>
              <a:gd name="textAreaBottom" fmla="*/ 1614240 h 16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09800" y="220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9800" y="3789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"Les" tables dans le lexique-gramm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826920" y="1844640"/>
            <a:ext cx="7561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chaque classe, une sélection des propriétés jugées les plus intéress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priétés dont les valeurs dépendent des entrées de la classe (taille de la p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s de propriétés "codables" pour une classe et "incodables" pour une au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e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auteurs du lexique-grammaire n'ont pas codé la distinction entre deux construction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e V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[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moyen] et construction à agent fantôme) faute d'être certains qu'elle est co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"Les" tables dans le lexique-gramm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838080" y="1523880"/>
            <a:ext cx="77076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e soldat abaisse le pont-levis = Le pont-levis s'abai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yen]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 :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"n'évoque aucun ag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On boit ce whisky sec = Ce whisky se boit 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"implique qu'il y a un agent" (agent fantô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adverbes orientés vers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ne sont pas un critère suffis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e pont-levis s'abaisse sans (effort + *faire d'effor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e whisky se boit sec et sans faire de grim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On rattache la deuxième théorie à la prem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= La deuxième théorie se rattache à la prem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(E + ?sans rencontrer de difficult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"Les" tables dans le lexique-gramm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26920" y="1844640"/>
            <a:ext cx="7561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toutes les propriétés peuvent être intéressantes (systématicit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toutes sont importantes pour l'analyse syntax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certaines propriétés dont les valeurs ne dépendent pas des entrées sont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able des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70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me "la" table du lexique-grammaire, mais chaque ligne correspond à une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enu des cas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la valeur de la propriété si elle est commune à toutes les entrées de la classe : "+", "-", "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"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"o" s'il faut aller voir dans la table de l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lémentaire des tables exis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le des class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able des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4360" y="1773000"/>
            <a:ext cx="770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jet des années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sultat : liste de remarques sur les propriétés et de projets de recher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jet actu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ssais en 2005 dans le cadre de Lexsy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truction systématique à partir de juin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jet collectif :  MC  EL ChL 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age du travail par proprié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de la table des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48392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sion 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ite automatiquement à partir des tables de ver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ment les propriétés bi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eurs dans les cas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"o" si la propriété figure dans la table de la cla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"?" si elle n'y figure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ifications manu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placer les "?" et vérifier les "o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es propriétés non bin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jouter les propriétés qui ne figurent dans aucun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éthode de constru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la table des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360" y="1773000"/>
            <a:ext cx="770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formations disponibles dans la litté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 propriétés définitoires des cla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liser sous la forme de proprié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jouter des propriétés si elles ne figurent dans aucun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formations non dispon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 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=: Nhum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igure dans beaucoup de tables mais pas dans 32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érifier si les entrées ont la proprié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Jugements d'acceptabilité, exploration de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table des tables de verbes distributionnels du frança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4360" y="2637000"/>
            <a:ext cx="799128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trées et propriétés dans le lexique-gramm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struction de la table des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syntaxique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000" y="1600200"/>
            <a:ext cx="80787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struction qui sert à la numérotation des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ême numérotation dans les autres co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uc rassemble les articles en un li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Un livre rassemble les arti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rguments absents de la construction 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eci irrite L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contre 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eci irrite Luc contre Mar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de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auprès de 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uc s'irrite de ceci auprès de J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syntaxique 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70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tuellement nous essayons de formaliser les propriétés sans singulariser la construction de base parmi les au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 N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truction de base dans la tabl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truction réduite dans la tabl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 des proprié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70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liste des propriétés actuelle est-elle suffisante pour formaliser la définition de toutes les tabl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ébastien et Christian ont travaillé sur la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mmage des proprié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4360" y="2276280"/>
            <a:ext cx="770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ventions de nommage des proprié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=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ne va pas très loin dans la normalisation des form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orité à la lisi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mmage des proprié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4360" y="1828440"/>
            <a:ext cx="77040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'est l'occasion de corriger des imperfections dans le nommage des proprié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tape précédente (2002-20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ormalisation ; reformulation des propriétés pour éviter que l'identification nécessite plusieurs niveaux d'intitul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mplément direct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Complétives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que P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-inf 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que P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fr-FR" sz="2200" spc="-1" strike="noStrike">
                <a:solidFill>
                  <a:srgbClr val="000000"/>
                </a:solidFill>
                <a:latin typeface="Arial"/>
              </a:rPr>
              <a:t>-inf 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tuel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 modification est immédiatement mise en pratique dans les tables (travail collec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mmage des proprié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4360" y="1828440"/>
            <a:ext cx="77040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ouble représentation d'une construction syntax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uc pense (qu'il est + être) en bonn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que P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-inf W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=: que P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=: V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-inf W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à infinitive est représentée deux fo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ctuellement nous essayons d'éviter cette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que P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-inf W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=: que P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=: V</a:t>
            </a:r>
            <a:r>
              <a:rPr b="0" lang="fr-FR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-inf W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Nommage des proprié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4360" y="1828440"/>
            <a:ext cx="77040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estions ouve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[passif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ar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velopp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est Vpp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ndre explicite la partie sémantiqu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r>
              <a:rPr b="0" lang="fr-F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lét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xploitabilité des proprié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4360" y="1828440"/>
            <a:ext cx="77040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ristian et Sébastien ont marqué certaines propriétés co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à supprimer, non pertinentes linguistiquement (essais non conclua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il V que P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: une seule table, seulement des "-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inexploitables pour l'analyse syntax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.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de Nhum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sul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4360" y="1828440"/>
            <a:ext cx="770400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petite proportion des cases trait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ses prioritaires : propriétés négatives car non pertin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complé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79912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iorités sur le lexique-grammai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documentation des proprié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construction de la table des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entrées multiples d'une même forme dans une même table (mise en correspondance des phrases d'exemple avec les entr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passage à HOOP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noms prédica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expressions verbales fig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age des tâch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4360" y="1294920"/>
            <a:ext cx="7991280" cy="50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projet Lexsy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jet national, faiblement financé pour l'i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tenaires : linguistes et informatic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erface entre lexiques syntaxiques et grammaires syntax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blèmes de reconnaissance scientif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projet LG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jet inter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upler le lexique-grammaire avec un analyseur ex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se à jour du lexique-gramm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rammaire dans le format T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se en relation du lexique et de la gramm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trées et propriétés dans le lexique-gramm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79912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èle sous-jac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ées lexicales, proprié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trées lexi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mbiguïtés lexicales : plusieurs entrées indépend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uc manque à Marie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uc a manqué de to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construction syntaxique peut être représentée par une ou plusieurs proprié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p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hu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ux propriétés, une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uti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priétés dans le lexique-gramm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4360" y="1916280"/>
            <a:ext cx="79912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s structur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 transformatio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V Loc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oc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= l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s distribution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=: Nhum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Aux =: av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s séman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ôles thématiques des arg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ropriétés sémantiques de la phr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priétés mixt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à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= Ppv =: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eurs des proprié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6920" y="2276640"/>
            <a:ext cx="7561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Généralement "+" ou "-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rfois un élément lex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Prép</a:t>
            </a:r>
            <a:r>
              <a:rPr b="0" lang="en-GB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=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"sur", "de", "pour"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"La" table théorique du lexique-gramm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26920" y="2276640"/>
            <a:ext cx="7561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au à double entrée qui croise toutes les entrées lexicales (verbes ou autres) avec toutes les proprié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cases sont occupées par les valeurs des proprié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es distributionnels : 13 000 entrées, 440 proprié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'a pas été construite effecti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"Les" tables dans le lexique-gramm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6920" y="2276640"/>
            <a:ext cx="756144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ans chaque table, une sélection d'entrées et une sélection de proprié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modèle formel tient debout sans cette n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n peut utiliser le lexique-grammaire dans l'analyse syntaxique sans utiliser par la notion de t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éthode de construction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"la" table consiste à définir et remplir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"des"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Tabl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class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finition d'une c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4360" y="1773000"/>
            <a:ext cx="7704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Définition informelle (rédig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Verbes à complétive sujet et complément essentiel di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quivalent form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=: Qu P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fr-F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 =: Nhum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ous cette forme, on suppose implicitement que ce qui est décrit est la construction syntaxique 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inon, pourrait correspondre à d'autres entrées qui ont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 N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comme sous-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07:24:02Z</dcterms:created>
  <dc:creator>laporte</dc:creator>
  <dc:description/>
  <dc:language>en-US</dc:language>
  <cp:lastModifiedBy>laporte</cp:lastModifiedBy>
  <dcterms:modified xsi:type="dcterms:W3CDTF">2007-11-12T12:05:43Z</dcterms:modified>
  <cp:revision>386</cp:revision>
  <dc:subject/>
  <dc:title>Diapositive 1</dc:title>
</cp:coreProperties>
</file>