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B25D-5632-4496-8FA0-5576ED8FD0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e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2365-EB91-4E5D-9F09-66818A2A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894-8AF9-4259-95AC-5EB05DB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1BE-FAEC-40DB-B832-77266161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C7A-53DE-47EB-B5CE-78DB28A9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F32-564C-435F-9AFB-7E2AC555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2A41-F9F9-4BAF-955A-F2C3928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F71-B7FA-40BA-AF79-EF4FB89A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473-B6B0-42FE-8F22-0680625F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633-B31C-4E39-BA0B-AAFE35EE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B1D1-3F20-44E8-B3CE-0206A0DD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5AE-5EA8-425B-BEA4-B4728752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7994-0EFB-4D16-A531-0761A32D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99132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99132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85C8-4B2C-4167-A14F-9BECA14328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Partager pour régner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14632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158256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American Typewriter Light"/>
              </a:rPr>
              <a:t> </a:t>
            </a:r>
            <a:r>
              <a:rPr b="1" lang="fr-FR" sz="2400" spc="-1" strike="noStrike">
                <a:solidFill>
                  <a:srgbClr val="c03930"/>
                </a:solidFill>
                <a:latin typeface="American Typewriter Light"/>
              </a:rPr>
              <a:t>&lt;&lt;&lt;</a:t>
            </a:r>
            <a:r>
              <a:rPr b="0" lang="fr-FR" sz="2400" spc="-1" strike="noStrike">
                <a:solidFill>
                  <a:srgbClr val="c03930"/>
                </a:solidFill>
                <a:latin typeface="American Typewriter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55627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Dr. Susanne 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C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entre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N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ational des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R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essources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T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extuelles et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L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inguistiques - CNRS, France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B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erlin-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B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randenburgische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A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kademie der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W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issenschaften - BBAW, Allemagne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4572000"/>
            <a:ext cx="8839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  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 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IGM Marne-la-Vall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9e9e9e"/>
                </a:solidFill>
                <a:latin typeface="Arial Narrow"/>
              </a:rPr>
              <a:t>            </a:t>
            </a:r>
            <a:r>
              <a:rPr b="0" lang="fr-FR" sz="1600" spc="-1" strike="noStrike">
                <a:solidFill>
                  <a:srgbClr val="9e9e9e"/>
                </a:solidFill>
                <a:latin typeface="American Typewriter Light"/>
              </a:rPr>
              <a:t>12. 02. 2007 </a:t>
            </a:r>
            <a:r>
              <a:rPr b="0" lang="fr-FR" sz="1600" spc="-1" strike="noStrike">
                <a:solidFill>
                  <a:srgbClr val="c03930"/>
                </a:solidFill>
                <a:latin typeface="American Typewriter Light"/>
              </a:rPr>
              <a:t>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42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096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fr-FR" sz="4400" spc="-1" strike="noStrike">
                <a:solidFill>
                  <a:srgbClr val="9e9e9e"/>
                </a:solidFill>
                <a:latin typeface="Arial Narrow"/>
              </a:rPr>
              <a:t>Le cas des ressources linguistiques       </a:t>
            </a:r>
            <a:r>
              <a:rPr b="0" lang="fr-FR" sz="2400" spc="-1" strike="noStrike">
                <a:solidFill>
                  <a:srgbClr val="9e9e9e"/>
                </a:solidFill>
                <a:latin typeface="American Typewriter Light"/>
              </a:rPr>
              <a:t>&gt;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interopérabi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Compatibilité structurelle et séman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ntre ressources (e.g. « auxquelles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ntre ressources et outils (e.g. « UniteX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Moy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ncodage partagé : 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syntaxe partagée : 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ode d’annotation partagé : « stand-off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’interopérabilité sémantiqu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e « verrou 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22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Stabilisation de bonnes pra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Text Encoding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annotation syntaxique (e.g. Tiger-X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jeux d’étiquetage morphosyntaxiques ( pour le français 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Normalisation à l’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répertoire de catégories de données (ISO 126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llaboration avec linguistes-typologi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exicales : Lexical Markup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6097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’annotation : Morphosyntactic Annota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Des infrastructur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Pour quoi fai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recensement de ressources (corpus, lexiques, out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ocumentation des données et méta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normalisation et interconnexion (structures et étiquet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iffusion et distribution (selon les modalités d’accè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ise à jour et enrich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archivage pér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nseil et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Des infrastructur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08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es bonne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lateformes communes et open source pour les services « bas niveau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épôt, versionnage, métadonnées, distribution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xemples : FEDORA, eSci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es suites poss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bibliothèques numériques : 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stations de travail philologique : Text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475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entres de ressources linguistiqu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Actions concrè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France : CNR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e réseau européen : CLA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3600" y="5331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a lettre de mission du CN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80880" y="1525680"/>
            <a:ext cx="83059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3930"/>
                </a:solidFill>
                <a:latin typeface="Arial Narrow"/>
              </a:rPr>
              <a:t>&gt;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« dynamiser la recherche grâce à une infrastructure pour la production, le validation et la diffusion de ressources (données et outils) numériqu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entraliser les moyens et les connaiss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faciliter l’accè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veille stratégique sur l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ission de formation et de cons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3930"/>
                </a:solidFill>
                <a:latin typeface="Arial Narrow"/>
              </a:rPr>
              <a:t>&gt;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orales, spatiales, visuelles, manuscrites, et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« Centre National de Ressources Textuelles et Lexicales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0393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www.cnrtl.f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idée du portail lex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24480" y="2660760"/>
            <a:ext cx="2667240" cy="313992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514600" y="2438280"/>
            <a:ext cx="4191120" cy="23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8640" y="175248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3930"/>
                </a:solidFill>
                <a:latin typeface="Arial Narrow"/>
              </a:rPr>
              <a:t>Ent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060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ex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Diction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Cor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51936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29076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6240" y="18129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3930"/>
                </a:solidFill>
                <a:latin typeface="Arial Narrow"/>
              </a:rPr>
              <a:t>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2280" y="18288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3930"/>
                </a:solidFill>
                <a:latin typeface="Arial Narrow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3122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Web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36708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510552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tandard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Indexation par méta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Inter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Versionnage et enrichissem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Archiv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5638680" y="2031840"/>
            <a:ext cx="3048120" cy="4369680"/>
            <a:chOff x="5638680" y="2031840"/>
            <a:chExt cx="3048120" cy="4369680"/>
          </a:xfrm>
        </p:grpSpPr>
        <p:sp>
          <p:nvSpPr>
            <p:cNvPr id="129" name=""/>
            <p:cNvSpPr/>
            <p:nvPr/>
          </p:nvSpPr>
          <p:spPr>
            <a:xfrm>
              <a:off x="5638680" y="2031840"/>
              <a:ext cx="3048120" cy="4243320"/>
            </a:xfrm>
            <a:prstGeom prst="can">
              <a:avLst>
                <a:gd name="adj" fmla="val 16708"/>
              </a:avLst>
            </a:prstGeom>
            <a:solidFill>
              <a:srgbClr val="c9c9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03560" y="2259720"/>
              <a:ext cx="105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c03930"/>
                  </a:solidFill>
                  <a:latin typeface="Arial Narrow"/>
                </a:rPr>
                <a:t>Base de corp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00000" y="3022200"/>
              <a:ext cx="1626840" cy="33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Textes « brutes 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Structuration T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Segm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Etiquetage 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Treeban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Annotations sémant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Anaphores et coréfére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Structures rhétor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Corpus Parallè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idée du portail lex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19920" y="2320920"/>
            <a:ext cx="2361960" cy="32241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660760"/>
            <a:ext cx="2667240" cy="313992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48360" y="343224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33520" y="2004840"/>
            <a:ext cx="3047760" cy="4243320"/>
            <a:chOff x="533520" y="2004840"/>
            <a:chExt cx="3047760" cy="4243320"/>
          </a:xfrm>
        </p:grpSpPr>
        <p:grpSp>
          <p:nvGrpSpPr>
            <p:cNvPr id="139" name=""/>
            <p:cNvGrpSpPr/>
            <p:nvPr/>
          </p:nvGrpSpPr>
          <p:grpSpPr>
            <a:xfrm>
              <a:off x="533520" y="2004840"/>
              <a:ext cx="3047760" cy="4243320"/>
              <a:chOff x="533520" y="2004840"/>
              <a:chExt cx="3047760" cy="4243320"/>
            </a:xfrm>
          </p:grpSpPr>
          <p:sp>
            <p:nvSpPr>
              <p:cNvPr id="140" name=""/>
              <p:cNvSpPr/>
              <p:nvPr/>
            </p:nvSpPr>
            <p:spPr>
              <a:xfrm>
                <a:off x="968760" y="2344680"/>
                <a:ext cx="2249640" cy="3224160"/>
              </a:xfrm>
              <a:prstGeom prst="can">
                <a:avLst>
                  <a:gd name="adj" fmla="val 25000"/>
                </a:avLst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53280" y="3455640"/>
                <a:ext cx="174960" cy="76212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63520" y="2274120"/>
                <a:ext cx="1675800" cy="27648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Base de données lexica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3520" y="2004840"/>
                <a:ext cx="3047760" cy="4243320"/>
              </a:xfrm>
              <a:prstGeom prst="can">
                <a:avLst>
                  <a:gd name="adj" fmla="val 16708"/>
                </a:avLst>
              </a:prstGeom>
              <a:solidFill>
                <a:srgbClr val="c9c9c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29080" y="2925720"/>
                <a:ext cx="2487960" cy="319680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Prononci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Morphologie flexionn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Morphologie dérivationnell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Syntaxe et valen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Sémantique (Définitions, Sèmes, Cadres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Relations sémantiqu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Pragmatique et varia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Etymologi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 Narrow"/>
                  </a:rPr>
                  <a:t>Relations multilingu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218600" y="2208960"/>
              <a:ext cx="16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c03930"/>
                  </a:solidFill>
                  <a:latin typeface="Arial Narrow"/>
                </a:rPr>
                <a:t>Base de données lexi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962520" y="2514600"/>
            <a:ext cx="1447560" cy="990720"/>
          </a:xfrm>
          <a:prstGeom prst="rightArrow">
            <a:avLst>
              <a:gd name="adj1" fmla="val 50000"/>
              <a:gd name="adj2" fmla="val 365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83040" y="2787480"/>
            <a:ext cx="119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outils d’a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800600"/>
            <a:ext cx="1447920" cy="990720"/>
          </a:xfrm>
          <a:prstGeom prst="leftArrow">
            <a:avLst>
              <a:gd name="adj1" fmla="val 50000"/>
              <a:gd name="adj2" fmla="val 365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51649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outils d’acqui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657600"/>
            <a:ext cx="1447920" cy="990720"/>
          </a:xfrm>
          <a:prstGeom prst="leftRightArrow">
            <a:avLst>
              <a:gd name="adj1" fmla="val 50000"/>
              <a:gd name="adj2" fmla="val 290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3991680"/>
            <a:ext cx="11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concordanc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état du portail lex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état du portail lex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Ressources intégr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ex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TLFi, Morphalou et TLFEtym, Synonymes (CRIS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Frantext l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édé (descriptions défin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xport standardisé : morphologie, concord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e cherch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088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Fonction requalifiante des anaphores démonst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« Terrier se dressa tout d'un coup et posa </a:t>
            </a:r>
            <a:r>
              <a:rPr b="0" i="1" lang="fr-FR" sz="2800" spc="-1" strike="noStrike">
                <a:solidFill>
                  <a:srgbClr val="223882"/>
                </a:solidFill>
                <a:latin typeface="Arial Narrow"/>
                <a:ea typeface="ＭＳ Ｐゴシック"/>
              </a:rPr>
              <a:t>le panier</a:t>
            </a:r>
            <a:r>
              <a:rPr b="0" i="1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sur la table. Il voulait se débarrasser de </a:t>
            </a:r>
            <a:r>
              <a:rPr b="0" i="1" lang="fr-FR" sz="2800" spc="-1" strike="noStrike">
                <a:solidFill>
                  <a:srgbClr val="223882"/>
                </a:solidFill>
                <a:latin typeface="Arial Narrow"/>
                <a:ea typeface="ＭＳ Ｐゴシック"/>
              </a:rPr>
              <a:t>cette chose</a:t>
            </a:r>
            <a:r>
              <a:rPr b="0" i="1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rpus segmentés, étiquetés, lemmat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dentification des syntagmes nominaux et des an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outil de recherche et d’annotation des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ublication des corpus mise à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Services proposé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92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Accompagnement éditorial et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étadonnées, documentation, macro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normalisation annotations linguistiques et lex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normalisation entrées et sorties pour les out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iffusion (consultation et/ou ex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tégration de mises à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Moy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NRS, CPER, FEDER, ESF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’avenir du portail lexic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492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Support aux projets ex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honalou, Prolex, Proxémie, Base des Voisins, Corpus occit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Projets « internes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rpus parallèles, néologismes, régionalismes, fémi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ortail lexical pour le Moyen Franç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91323"/>
                </a:solidFill>
                <a:latin typeface="Arial Narrow"/>
              </a:rPr>
              <a:t>&gt;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Services... bcp reste à fair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édition et gestion des métadonnées et du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suite TAL de base compatible TEI /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segmentation, étiquetage, désambiguisation, analyse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outils de maintenance de lex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formats export normalisés et export « à la cart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a charte de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6720" y="2527920"/>
            <a:ext cx="37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393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703520"/>
            <a:ext cx="7848360" cy="17398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« Le CNRTL souhaite fournir un service de référence conforme à une charte de qualité permettant à terme </a:t>
            </a:r>
            <a:r>
              <a:rPr b="0" lang="fr-FR" sz="1800" spc="-1" strike="noStrike">
                <a:solidFill>
                  <a:srgbClr val="991323"/>
                </a:solidFill>
                <a:latin typeface="Arial Narrow"/>
              </a:rPr>
              <a:t>d’associer à véritable label aux ressources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ayant bénéficié d’un soutien de la part du centre. Cette charte, qui reposera sur les principes de </a:t>
            </a:r>
            <a:r>
              <a:rPr b="0" lang="fr-FR" sz="1800" spc="-1" strike="noStrike">
                <a:solidFill>
                  <a:srgbClr val="991323"/>
                </a:solidFill>
                <a:latin typeface="Arial Narrow"/>
              </a:rPr>
              <a:t>pérennisation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, de </a:t>
            </a:r>
            <a:r>
              <a:rPr b="0" lang="fr-FR" sz="1800" spc="-1" strike="noStrike">
                <a:solidFill>
                  <a:srgbClr val="991323"/>
                </a:solidFill>
                <a:latin typeface="Arial Narrow"/>
              </a:rPr>
              <a:t>normalisation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et </a:t>
            </a:r>
            <a:r>
              <a:rPr b="0" lang="fr-FR" sz="1800" spc="-1" strike="noStrike">
                <a:solidFill>
                  <a:srgbClr val="991323"/>
                </a:solidFill>
                <a:latin typeface="Arial Narrow"/>
              </a:rPr>
              <a:t>d’accessibilité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, guidera le choix des priorités d’action pour le centre. Elle servira aussi de base pour l’établissement de relations étroites de travail avec les initiatives similaires aux niveaux européen et international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35812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Norm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a ressource est interopérable avec d’autres ressour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Accessi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galité d’accès et gratuité de la ressource pour la recher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08080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Péren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Garantie de disponibilité et de maintenance à long ter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CL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049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« Common Language Resources and Technology Infrastructure », 2007 -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réseaux de centres support pour le développement et la diffusion de ressources et technologies lingu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veille, diffusion, standardisation, archivage, cons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xpériences acqu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AML-LR : bases technologiques pour la fédération d’archives linguis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IRICS : implémentation effective de standards 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Bibliothèques numériques : ECHO, 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ultext/East, TELRI, EAGLES/ISLE, PAROLE/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« partager » ou « diviser »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fr-FR" sz="4400" spc="-1" strike="noStrike">
                <a:solidFill>
                  <a:srgbClr val="c03930"/>
                </a:solidFill>
                <a:latin typeface="Arial Narrow"/>
              </a:rPr>
              <a:t>&lt;div type=“epilogue”/&gt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80880" y="2073240"/>
            <a:ext cx="815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3930"/>
                </a:solidFill>
                <a:latin typeface="Arial Narrow"/>
              </a:rPr>
              <a:t>&gt;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Une infrastructure n’est pas là pour vous imposer son fonctionnement et ses valeu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... bien au contr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a res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Tout ce qui fait qu’elle n’est pas utilis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lle n’est pas visible et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lle n’est pas document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es choix linguistiques ne sont pas traç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lle n’est pas dans le format souha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lle est imparfaite et/ou incomplète (en cours d’élabo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lle n’est plus maint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l est difficile d’y intégrer des mises à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NB : La ressource parfaite n’existe p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es agences matrimon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’EL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coût, absence d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es sites por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as de garantie d’accès, maintenance, critères de sé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e rés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ég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pas si mal (ex: « lexique formes fléchies français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a dé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1676520"/>
            <a:ext cx="8381880" cy="53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... de Ber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</a:rPr>
              <a:t>sur l’ « open access » des donnée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"Establishing open access [...] requires the </a:t>
            </a:r>
            <a:r>
              <a:rPr b="0" lang="fr-FR" sz="2000" spc="-1" strike="noStrike">
                <a:solidFill>
                  <a:srgbClr val="333399"/>
                </a:solidFill>
                <a:latin typeface="Arial Narrow"/>
                <a:ea typeface="ＭＳ Ｐゴシック"/>
              </a:rPr>
              <a:t>active commitment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of each and every individual producer of scientific knowledge [...] . Open access contributions include original </a:t>
            </a:r>
            <a:r>
              <a:rPr b="0" lang="fr-FR" sz="2000" spc="-1" strike="noStrike">
                <a:solidFill>
                  <a:srgbClr val="333399"/>
                </a:solidFill>
                <a:latin typeface="Arial Narrow"/>
                <a:ea typeface="ＭＳ Ｐゴシック"/>
              </a:rPr>
              <a:t>scientific research results, raw data and metadata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[...]. The author(s) and right holder(s) of such contributions grant(s) to all users a </a:t>
            </a:r>
            <a:r>
              <a:rPr b="0" lang="fr-FR" sz="2000" spc="-1" strike="noStrike">
                <a:solidFill>
                  <a:srgbClr val="333399"/>
                </a:solidFill>
                <a:latin typeface="Arial Narrow"/>
                <a:ea typeface="ＭＳ Ｐゴシック"/>
              </a:rPr>
              <a:t>free, irrevocable, worldwide, right of access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to, and </a:t>
            </a:r>
            <a:r>
              <a:rPr b="0" lang="fr-FR" sz="2000" spc="-1" strike="noStrike">
                <a:solidFill>
                  <a:srgbClr val="333399"/>
                </a:solidFill>
                <a:latin typeface="Arial Narrow"/>
                <a:ea typeface="ＭＳ Ｐゴシック"/>
              </a:rPr>
              <a:t>a license to copy, use, distribute, transmit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and display the work publicly, [...] subject to proper attribution of authorship. 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22-10-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</a:rPr>
              <a:t>signée par le CNRS, la MPG, l’INRIA, l’INSERM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393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La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e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« is about global collaboration in key areas of science and about the next generation of infrastructures that will enable it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Concrè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teractions électro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tégration de ressources et 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accumulation de connaissances plutôt que disp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Documentation de langues en voie de dispa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991323"/>
              </a:buClr>
              <a:buFont typeface="Arial Narro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3600" y="6091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De la théorie à la pra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a volonté institutionnelle : la politique d’accè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état des lieux et persp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a vision scientifique : l’interopé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d’Unicode à L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La compétence technique : infrastructures e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mise en réseaux : distribution et spé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3930"/>
                </a:solidFill>
                <a:latin typeface="Arial Narrow"/>
              </a:rPr>
              <a:t>« Open » access ... état des lie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600200"/>
            <a:ext cx="9144000" cy="1219320"/>
          </a:xfrm>
          <a:prstGeom prst="rect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604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99cc00"/>
                </a:solidFill>
                <a:latin typeface="Arial Narrow"/>
              </a:rPr>
              <a:t>	</a:t>
            </a:r>
            <a:r>
              <a:rPr b="0" lang="fr-FR" sz="1400" spc="-1" strike="noStrike">
                <a:solidFill>
                  <a:srgbClr val="99cc00"/>
                </a:solidFill>
                <a:latin typeface="Arial Narrow"/>
              </a:rPr>
              <a:t>free - free via ELRA or by email to [...] - part is free, part negotiable</a:t>
            </a:r>
            <a:r>
              <a:rPr b="0" lang="fr-FR" sz="1400" spc="-1" strike="noStrike">
                <a:solidFill>
                  <a:srgbClr val="808080"/>
                </a:solidFill>
                <a:latin typeface="Arial Narrow"/>
              </a:rPr>
              <a:t> - </a:t>
            </a:r>
            <a:r>
              <a:rPr b="0" lang="fr-FR" sz="1400" spc="-1" strike="noStrike">
                <a:solidFill>
                  <a:srgbClr val="008040"/>
                </a:solidFill>
                <a:latin typeface="Arial Narrow"/>
              </a:rPr>
              <a:t>free, but licensed - limited - restricted - freely accessible for academic use - available only for researchers after personal authentification - free but subject to registration - all at no cost, some freely, some require writing in for permission - by subscription - licence needed</a:t>
            </a:r>
            <a:r>
              <a:rPr b="0" lang="fr-FR" sz="1400" spc="-1" strike="noStrike">
                <a:solidFill>
                  <a:srgbClr val="80ff00"/>
                </a:solidFill>
                <a:latin typeface="Arial Narrow"/>
              </a:rPr>
              <a:t> - </a:t>
            </a:r>
            <a:r>
              <a:rPr b="0" lang="fr-FR" sz="1400" spc="-1" strike="noStrike">
                <a:solidFill>
                  <a:srgbClr val="ff8000"/>
                </a:solidFill>
                <a:latin typeface="Arial Narrow"/>
              </a:rPr>
              <a:t>free for search, limited for sources - free search, up to 25 hits shown at a time - limited to concordance request via e-mail</a:t>
            </a:r>
            <a:r>
              <a:rPr b="0" lang="fr-FR" sz="1400" spc="-1" strike="noStrike">
                <a:solidFill>
                  <a:srgbClr val="808080"/>
                </a:solidFill>
                <a:latin typeface="Arial Narrow"/>
              </a:rPr>
              <a:t> - </a:t>
            </a:r>
            <a:r>
              <a:rPr b="0" lang="fr-FR" sz="1400" spc="-1" strike="noStrike">
                <a:solidFill>
                  <a:srgbClr val="333399"/>
                </a:solidFill>
                <a:latin typeface="Arial Narrow"/>
              </a:rPr>
              <a:t>depends on the files -  according to specifications - copyright issues unclear</a:t>
            </a:r>
            <a:r>
              <a:rPr b="0" lang="fr-FR" sz="1400" spc="-1" strike="noStrike">
                <a:solidFill>
                  <a:srgbClr val="808080"/>
                </a:solidFill>
                <a:latin typeface="Arial Narrow"/>
              </a:rPr>
              <a:t> - </a:t>
            </a:r>
            <a:r>
              <a:rPr b="0" lang="fr-FR" sz="1400" spc="-1" strike="noStrike">
                <a:solidFill>
                  <a:srgbClr val="ff0000"/>
                </a:solidFill>
                <a:latin typeface="Arial Narrow"/>
              </a:rPr>
              <a:t>licence fees - for sale - distributed by ELRA</a:t>
            </a:r>
            <a:r>
              <a:rPr b="0" lang="fr-FR" sz="1400" spc="-1" strike="noStrike">
                <a:solidFill>
                  <a:srgbClr val="808080"/>
                </a:solidFill>
                <a:latin typeface="Arial Narrow"/>
              </a:rPr>
              <a:t> - </a:t>
            </a:r>
            <a:r>
              <a:rPr b="0" lang="fr-FR" sz="1400" spc="-1" strike="noStrike">
                <a:solidFill>
                  <a:srgbClr val="800000"/>
                </a:solidFill>
                <a:latin typeface="Arial Narrow"/>
              </a:rPr>
              <a:t>available only for partners in joint projects - not publicly accessible</a:t>
            </a:r>
            <a:r>
              <a:rPr b="0" lang="fr-FR" sz="1400" spc="-1" strike="noStrike">
                <a:solidFill>
                  <a:srgbClr val="808080"/>
                </a:solidFill>
                <a:latin typeface="Arial Narro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280" y="3124080"/>
          <a:ext cx="8839440" cy="34099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1791000"/>
                <a:gridCol w="1790640"/>
                <a:gridCol w="812520"/>
                <a:gridCol w="1473480"/>
              </a:tblGrid>
              <a:tr h="3373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Is the resource accessible for research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0000"/>
                          </a:solidFill>
                          <a:latin typeface="Arial Narrow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333399"/>
                          </a:solidFill>
                          <a:latin typeface="Arial Narrow"/>
                        </a:rPr>
                        <a:t>uncl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Are the sources available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8000"/>
                          </a:solidFill>
                          <a:latin typeface="Arial Narrow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Do you have to pay for them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Do you need to register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99cc00"/>
                          </a:solidFill>
                          <a:latin typeface="Arial Narrow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808080"/>
                          </a:solidFill>
                          <a:latin typeface="Arial Narrow"/>
                        </a:rPr>
                        <a:t>Immediate access to the resource 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8040"/>
                          </a:solidFill>
                          <a:latin typeface="Arial Narrow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99cc00"/>
                          </a:solidFill>
                          <a:latin typeface="Arial Narrow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6781680" y="4114800"/>
            <a:ext cx="1905120" cy="609480"/>
          </a:xfrm>
          <a:prstGeom prst="wedgeEllipseCallout">
            <a:avLst>
              <a:gd name="adj1" fmla="val -22416"/>
              <a:gd name="adj2" fmla="val 88541"/>
            </a:avLst>
          </a:prstGeom>
          <a:solidFill>
            <a:srgbClr val="e6e6e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Open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5410080"/>
            <a:ext cx="2743200" cy="914400"/>
          </a:xfrm>
          <a:prstGeom prst="wedgeEllipseCallout">
            <a:avLst>
              <a:gd name="adj1" fmla="val 55847"/>
              <a:gd name="adj2" fmla="val 69097"/>
            </a:avLst>
          </a:prstGeom>
          <a:solidFill>
            <a:srgbClr val="e6e6e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Barrier to Open Acces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arbitrarity, delay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frag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3930"/>
                </a:solidFill>
                <a:latin typeface="Arial Narrow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3240" y="1384200"/>
            <a:ext cx="9144000" cy="0"/>
          </a:xfrm>
          <a:prstGeom prst="line">
            <a:avLst/>
          </a:prstGeom>
          <a:ln w="3240">
            <a:solidFill>
              <a:srgbClr val="c9c9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93200" y="0"/>
            <a:ext cx="1447560" cy="422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1323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 </a:t>
            </a:r>
            <a:r>
              <a:rPr b="0" lang="fr-FR" sz="3200" spc="-1" strike="noStrike">
                <a:solidFill>
                  <a:srgbClr val="5d5d5d"/>
                </a:solidFill>
                <a:latin typeface="Arial Narrow"/>
              </a:rPr>
              <a:t>Défragmentation et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état d’esprit du cherch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les ressources « quick’n dirty », « imparfaites » et « joker 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esprit concurrentiel nuit à terme à l’avancement scient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citation institution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éviter duplication des efforts et à la péren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aide à la négociation des copyrights avec les éd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99132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responsabilité collective de la communauté scient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évaluation publique des données et outils + « index d’usag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991323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5d5d5d"/>
                </a:solidFill>
                <a:latin typeface="Arial Narrow"/>
                <a:ea typeface="ＭＳ Ｐゴシック"/>
              </a:rPr>
              <a:t>infrastructures pour partager, maintenir et diffus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5:47:21Z</dcterms:created>
  <dc:creator>Susanne Alt</dc:creator>
  <dc:description/>
  <dc:language>en-US</dc:language>
  <cp:lastModifiedBy>Elsa</cp:lastModifiedBy>
  <cp:lastPrinted>2006-09-29T11:33:23Z</cp:lastPrinted>
  <dcterms:modified xsi:type="dcterms:W3CDTF">2007-02-26T21:36:12Z</dcterms:modified>
  <cp:revision>59</cp:revision>
  <dc:subject/>
  <dc:title>Online-Sprachressourcen für Übersetzer          Französisch</dc:title>
</cp:coreProperties>
</file>